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F34F-6779-4E06-AF59-8000EBC23B0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6D6C-66B7-4D96-82E4-12D7FA2596E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B2AC-4778-44BF-B1BF-DBE1251C8FF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B74D-7288-4F23-8915-194C7564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DFC-C021-4A70-8BEF-A57CEDFC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5BE91-E83F-4966-AE80-CE793AC2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3C483-57AA-4385-B10B-76CF31C3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681FA-2EF5-4CBF-9D32-3E3A2682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3DE93-2E94-44C0-A5AD-7F521E59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0BC2D-9137-4D79-9FFD-B4053AC9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96B30-09C6-4EED-9972-AEB01E20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2190E-0E49-4E64-838A-03F3E956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9FDA8-C820-4CB9-A455-8C1FAA4F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C4286-62FE-4363-8391-CF665512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C8EBB-C5EA-4A70-8567-B61F7B4D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E6D7-1202-4570-A067-FF3CF711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0493F-A05F-4DC5-BB91-57F3BD37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2B091-D0E6-4B6F-9E1C-82E8F4FC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BFC0E-C9D5-453B-84F9-CFDE2B93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7455A-1E29-4541-AD3C-6D2CF7A6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4BD36-B6A5-42E4-8A0B-95AB15DA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E6993-0759-412F-9647-BFA97193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12C57-926C-4E0E-9218-B5B1ACA7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22900-CAE2-49A6-86E2-0EAC2003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C9005-5AF2-4F53-B09A-5FE8B7B9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6B191-E368-4D59-8392-35A96FAE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814-355E-442A-8F3A-6E9785C3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1FB05-B3B3-499C-B767-FFA3BB59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184E7-09DF-4912-958D-2E4C45EA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4D8CC-3A92-4F23-BF30-F78639FB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0FAB6-3442-4EB3-8B35-F5A1ECD8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A5BC5-8768-4260-BA5B-CB1C2461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0FCAA-47E9-4F1A-8C52-DC12164D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76EB2-2A2B-4760-AD4F-107B0F60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5BD77-F574-40AF-A8C5-FE0B08C2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38A1C-7258-4423-94C5-43FA291D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1FF73-FB65-4B8C-B832-A590BC40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185A-4990-451C-9A22-5E518490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5B7AB-E91D-4B25-A237-2B32A5D6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E601D-A6E6-491B-B10C-1747EE2F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E7EAA-501D-42DA-A225-3B66CF35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D5D74-24D6-4283-A9DC-32FA85E0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BCD7B-4AAD-4301-A1F0-7353CD4D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842E2-0A50-4857-B5A6-624971AC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BEF22-ED75-41FA-B4B4-8990E113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0853D-CCA2-4215-9A3E-07713F86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8B604-B959-49E1-A36E-C74D4381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5CCB7-D6E2-4DC9-9AE1-4AEF65ED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FE7F-820A-4384-BC8A-A79A7FCE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7C801-E9DE-4DE2-9B2E-E5AD5DF3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040CD-D131-4957-9A34-B81743E6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DB639-05C9-402E-BA62-86418CC9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CF894-FE56-4A0E-9981-8E01C024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E7330-C905-4516-ADCD-50915502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7439-4A0D-4E4A-9524-98E20A4E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BEA6-E9DD-443A-BF03-BB8EF02C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9F7F-9734-4576-B5E8-A75C8EC7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62D0-163A-4816-BF39-2F8C97D0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CE4D-AEA3-42C0-9244-ECD60367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B69A-2F46-4AF8-918F-4499B096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B0DC-EA5B-443F-97EE-644F29E2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700D-11CA-4318-A773-CD096092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B4E4-5EE9-42C8-B4AD-E5DCB89F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E4CC-FAC4-4CF7-AAFA-7BF25B88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4EAE-34B0-495C-A4C8-BF9EB6F3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84AD4-899F-4913-B45F-F017486A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BBF85-1451-4EC3-9D01-70B8D7D0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CEF3B-5E9C-4176-8657-C29CF983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C4D42-2C43-4B1F-B53E-0C5EFDD8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49E7F-F52F-4FC5-A7AE-F0C596FB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5134-8CEB-42D8-AE7F-91FAEA04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C55DC-1A64-4F94-A7FE-311B07E0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6B04A-D00E-4BC8-98C3-64642D14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D79A6-AF77-4D8F-B0E5-49C98C91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8CDCB-1B1C-4B2B-83BF-098D3D05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91EC7-964E-44F9-9BBA-E97CCB28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6BC87-9B56-4CDB-BED0-66E7F329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FDC1E-559B-492F-B8B2-F18F42D7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B092D-4F74-464B-B2B9-66CD284E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6A596-6A9F-4C91-9C27-4B68DE0D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18714-4D7A-4B14-8E70-3FD22ECB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714-5868-4FAD-8274-5CFE9F6C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870CD-BCC5-44CD-BD15-7A6AF63D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8C3EE-515F-4280-AA9C-4461F732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04ED2-D482-4725-93E6-F5AA8F53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DD4B5-F900-4C25-9B0F-DD858BA3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317EC-BF0A-4B73-91CB-C73AB432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955C6-F347-46FA-9085-26C91566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47052-DC1F-4583-9AFA-E730B6EA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61214-0CB4-4DCA-AEC3-AEFC85F4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9CCA9-A7E5-4C19-9B4F-04156A48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AD5D6-49E4-422E-BFB0-83F4B6C8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EC4D-6AD4-440B-9530-4D7B5365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C2D99-75C3-4343-92FA-9A2AFBB8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BA652-C13A-43AD-BBC3-723B6442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8F13B-4397-4084-9C3F-A56C8211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9D29D-DB93-4205-9C21-1B9C6347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D1138-A39B-4E69-824B-551E90A2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24289-9CCF-4BA9-AFB9-3D1BD53B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7AE6C-D089-4DDC-BB5C-59179C02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C5054-DD1F-4E62-AC3F-F18AE86E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B3B32-3C9E-42FF-A76D-E5A33AC6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4F324-9495-4609-95E0-763BDBA2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72E-DB29-4FC7-8C4B-398D828D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D8D30-346A-4145-8BCE-58CDE0DA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A0BFE-ACCA-4A27-9A50-E239B567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E0CD0-F0C9-4636-981E-01FE0007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2C31F-6404-48D7-9AD5-BD3218E6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A2C75-3D25-468C-84B4-6C39C584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751F5-95AF-4066-B0AA-6F6E1C2A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40D6E-2851-45F7-B712-BACCEFF1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9F002-CC72-4719-B77A-9C9C0362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EBF66-388C-4FDE-A2ED-D6449EC9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F9525-FA38-41BD-8A31-9CA01385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2BB-7756-4766-A272-5E0D9285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8DBBA-DDF8-434C-97C5-435900BB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B1F39-4782-4078-BC72-AF2A01D3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C9F83-E864-4532-BEB9-AB686C9E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20812-DD24-416F-8379-21B21653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C55C2-948E-4674-BE4B-8C046EDA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E39CD-CFDC-4C30-A89C-FE6F7E43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BC3D4-547B-4F3C-82A1-35EF2C90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C912D-1D50-4A59-8C15-50AC9D55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B1D8C-C122-4122-A7FF-E44592E0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48860-35A2-4C4E-AF34-EA6FB441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4B9-B2B7-48D6-8ADA-4320D199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3E73B-E43D-4330-AD56-7275A60D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A4A09-213C-454A-B280-6423AFBD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80047-4CBE-499E-8BBA-58B5FE8A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C2064-516A-4A8E-AEB2-6ACEBA2B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E3F1A-475B-4CE3-8A29-7CEEBD74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76037-C59C-4D99-AAF9-9509819F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E4EA6-979E-4C02-ACA7-570D5BDB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E2C68-8108-442C-A036-278251D7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3B1AC-5810-4C14-BD3F-7775E34B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D5233-DB9B-4F72-9307-B3D31685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802D-45E5-4BC5-B6D8-0661D1F2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11EF4-0A83-4C98-9F24-1D0781C2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A8FE4-168A-4598-A604-9E59C495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557D9-EA04-40C6-A4CA-0281AE1A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5A9CE-9ADC-4B06-BFF0-A7C9984B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2E5F2-3762-4258-88DB-D79C9B7C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DA681-E866-40DB-9B27-E2E03EED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8C9B3-7CE1-485D-849F-A7DF150D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B5731-A1E1-4BAE-9748-46613CF7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2932B-290D-4FDE-9167-BC8BC50A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5C4A5-AA8F-4878-B4D4-02FAB117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4BDD-D556-49E6-A526-5AEF906D9EE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9580-DCEF-4FE0-8A54-929BA6F5968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C3DB-E7E4-407E-B6C4-4773ECDB5E9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6811-D779-4A73-8130-6CC9A131601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82BC-D0D4-472F-8437-627B85A6D45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0F2C-477D-4CDA-8683-7B8C301A1DC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C1F3-3A8B-4F02-A698-38B71BEC3E5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22AB-E0D6-44D6-AA68-BB9E457AC14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AE4F-147D-4B15-8E70-2CAE0C6C5BB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C437-869D-42AB-A191-A609EC706E9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C7D6-9B02-49E1-B4D2-680FFB1ADA3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7BFF-BCD5-4587-AFD3-30DB6EC9B93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8" descr="perrito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9"/>
          <p:cNvSpPr/>
          <p:nvPr/>
        </p:nvSpPr>
        <p:spPr>
          <a:xfrm>
            <a:off x="4427640" y="0"/>
            <a:ext cx="393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ccff"/>
                </a:solidFill>
                <a:latin typeface="Comic Sans MS"/>
              </a:rPr>
              <a:t>Wij zeggen allemaal wel eens tegen onze vrienden . . .</a:t>
            </a:r>
            <a:r>
              <a:rPr b="0" i="1" lang="es-ES" sz="2800" spc="-1" strike="noStrike">
                <a:solidFill>
                  <a:srgbClr val="9900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Text Box 30"/>
          <p:cNvSpPr/>
          <p:nvPr/>
        </p:nvSpPr>
        <p:spPr>
          <a:xfrm>
            <a:off x="0" y="278604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3333cc"/>
                </a:solidFill>
                <a:latin typeface="Comic Sans MS"/>
              </a:rPr>
              <a:t>WIJ ZULLEN VOOR ALTIJD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3333cc"/>
                </a:solidFill>
                <a:latin typeface="Comic Sans MS"/>
              </a:rPr>
              <a:t>VRIENDEN ZIJN .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Tekstvak 4"/>
          <p:cNvSpPr/>
          <p:nvPr/>
        </p:nvSpPr>
        <p:spPr>
          <a:xfrm>
            <a:off x="0" y="6215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Comic Sans MS"/>
              </a:rPr>
              <a:t>Vertaald uit het Spaans – Freddy Storm 12/200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10 kutya-2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5"/>
          <p:cNvSpPr/>
          <p:nvPr/>
        </p:nvSpPr>
        <p:spPr>
          <a:xfrm>
            <a:off x="3348000" y="5373720"/>
            <a:ext cx="57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996633"/>
                </a:solidFill>
                <a:latin typeface="Comic Sans MS"/>
              </a:rPr>
              <a:t>En zeg tegen jouw nieuwe vrienden dat je hen nooit zal verget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split dir="out" orient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4" descr="16 shepherd-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5"/>
          <p:cNvSpPr/>
          <p:nvPr/>
        </p:nvSpPr>
        <p:spPr>
          <a:xfrm>
            <a:off x="900000" y="2602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663300"/>
                </a:solidFill>
                <a:latin typeface="Comic Sans MS"/>
              </a:rPr>
              <a:t>Denk eraan dat wij allemaal een vriend nodig hebb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split dir="out" orient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perro"/>
          <p:cNvPicPr/>
          <p:nvPr/>
        </p:nvPicPr>
        <p:blipFill>
          <a:blip r:embed="rId1"/>
          <a:stretch/>
        </p:blipFill>
        <p:spPr>
          <a:xfrm>
            <a:off x="-7920" y="-7920"/>
            <a:ext cx="9161280" cy="687528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5"/>
          <p:cNvSpPr/>
          <p:nvPr/>
        </p:nvSpPr>
        <p:spPr>
          <a:xfrm>
            <a:off x="250920" y="285840"/>
            <a:ext cx="201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bf9f"/>
                </a:solidFill>
                <a:latin typeface="Comic Sans MS"/>
              </a:rPr>
              <a:t>Misschien zul je op een moment in jouw leven het gevoel krijgen dat je geen enkele vriend heb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6357960" y="285840"/>
            <a:ext cx="250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bf9f"/>
                </a:solidFill>
                <a:latin typeface="Comic Sans MS"/>
              </a:rPr>
              <a:t>Denk dan aan deze mail en wees geru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6072120" y="4071960"/>
            <a:ext cx="291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bf9f"/>
                </a:solidFill>
                <a:latin typeface="Comic Sans MS"/>
              </a:rPr>
              <a:t>in de wetenschap dat iemand je apprecieert en aan je denk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2000">
    <p:split dir="out" orient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5"/>
          <p:cNvSpPr/>
          <p:nvPr/>
        </p:nvSpPr>
        <p:spPr>
          <a:xfrm>
            <a:off x="4419720" y="304920"/>
            <a:ext cx="4724280" cy="1600200"/>
          </a:xfrm>
          <a:prstGeom prst="cloudCallout">
            <a:avLst>
              <a:gd name="adj1" fmla="val -43750"/>
              <a:gd name="adj2" fmla="val 6527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4" name="Picture 7" descr="perritos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8"/>
          <p:cNvSpPr/>
          <p:nvPr/>
        </p:nvSpPr>
        <p:spPr>
          <a:xfrm>
            <a:off x="4786200" y="285840"/>
            <a:ext cx="40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Comic Sans MS"/>
              </a:rPr>
              <a:t>Maar hoe lang duurt vriendschap ech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8000">
    <p:split dir="out" orient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5" descr="perritos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6"/>
          <p:cNvSpPr/>
          <p:nvPr/>
        </p:nvSpPr>
        <p:spPr>
          <a:xfrm>
            <a:off x="0" y="5572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89d8"/>
                </a:solidFill>
                <a:latin typeface="Comic Sans MS"/>
              </a:rPr>
              <a:t>We kunnen een jaar lang                             de beste vrienden zijn . .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8000">
    <p:split dir="out" orient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331920" y="13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31920" y="13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12034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0920" y="22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2" name="Picture 12" descr="perritos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13"/>
          <p:cNvSpPr/>
          <p:nvPr/>
        </p:nvSpPr>
        <p:spPr>
          <a:xfrm>
            <a:off x="4572000" y="357120"/>
            <a:ext cx="43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Comic Sans MS"/>
              </a:rPr>
              <a:t>Nog betere vrienden het jaar daarop 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8000">
    <p:split dir="out" orient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perritos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7"/>
          <p:cNvSpPr/>
          <p:nvPr/>
        </p:nvSpPr>
        <p:spPr>
          <a:xfrm>
            <a:off x="179280" y="333360"/>
            <a:ext cx="36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omic Sans MS"/>
              </a:rPr>
              <a:t>We praten het volgende jaar niet meer zo vaak 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8000">
    <p:split dir="out" orient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6" descr="perritos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8"/>
          <p:cNvSpPr/>
          <p:nvPr/>
        </p:nvSpPr>
        <p:spPr>
          <a:xfrm>
            <a:off x="3714840" y="214200"/>
            <a:ext cx="528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cc66"/>
                </a:solidFill>
                <a:latin typeface="Comic Sans MS"/>
              </a:rPr>
              <a:t>En het jaar daarop praten we helemaal niet meer ...</a:t>
            </a:r>
            <a:r>
              <a:rPr b="1" i="1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split dir="out" orient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19 kutya-0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5"/>
          <p:cNvSpPr/>
          <p:nvPr/>
        </p:nvSpPr>
        <p:spPr>
          <a:xfrm>
            <a:off x="0" y="26028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cc66"/>
                </a:solidFill>
                <a:latin typeface="Comic Sans MS"/>
              </a:rPr>
              <a:t>Nu, wat ik je wilde zeggen is . .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Text Box 6"/>
          <p:cNvSpPr/>
          <p:nvPr/>
        </p:nvSpPr>
        <p:spPr>
          <a:xfrm>
            <a:off x="395280" y="2421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cc66"/>
                </a:solidFill>
                <a:latin typeface="Comic Sans MS"/>
              </a:rPr>
              <a:t>dat je voor mij belangrijk b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0" y="4076640"/>
            <a:ext cx="30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cc66"/>
                </a:solidFill>
                <a:latin typeface="Comic Sans MS"/>
              </a:rPr>
              <a:t>Ofschoon we met praten hebben opgehoud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5715000" y="6429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Comic Sans MS"/>
              </a:rPr>
              <a:t>dat ik je bewon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6948360" y="2492280"/>
            <a:ext cx="21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Comic Sans MS"/>
              </a:rPr>
              <a:t>dat ik je respecte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6372360" y="5516640"/>
            <a:ext cx="27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Comic Sans MS"/>
              </a:rPr>
              <a:t>waardeer ik je echt 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9000">
    <p:split dir="out" orient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8" descr="perritos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4"/>
          <p:cNvSpPr/>
          <p:nvPr/>
        </p:nvSpPr>
        <p:spPr>
          <a:xfrm>
            <a:off x="324000" y="54936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bc003f"/>
                </a:solidFill>
                <a:latin typeface="Comic Sans MS"/>
              </a:rPr>
              <a:t>Stuur dit bericht aan al jouw vriend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Text Box 29"/>
          <p:cNvSpPr/>
          <p:nvPr/>
        </p:nvSpPr>
        <p:spPr>
          <a:xfrm>
            <a:off x="0" y="2205000"/>
            <a:ext cx="39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bc003f"/>
                </a:solidFill>
                <a:latin typeface="Comic Sans MS"/>
              </a:rPr>
              <a:t>Het heeft geen belang of jullie geregeld met elkaar praten 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Text Box 31"/>
          <p:cNvSpPr/>
          <p:nvPr/>
        </p:nvSpPr>
        <p:spPr>
          <a:xfrm>
            <a:off x="539640" y="5084640"/>
            <a:ext cx="25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bc003f"/>
                </a:solidFill>
                <a:latin typeface="Comic Sans MS"/>
              </a:rPr>
              <a:t>jullie zijn dicht bij elka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Text Box 32"/>
          <p:cNvSpPr/>
          <p:nvPr/>
        </p:nvSpPr>
        <p:spPr>
          <a:xfrm>
            <a:off x="4643280" y="494172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663300"/>
                </a:solidFill>
                <a:latin typeface="Comic Sans MS"/>
              </a:rPr>
              <a:t>En stuur het ook terug aan de persoon die het je bezorg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2000">
    <p:split dir="out" orient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" descr="8 kutya-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5"/>
          <p:cNvSpPr/>
          <p:nvPr/>
        </p:nvSpPr>
        <p:spPr>
          <a:xfrm>
            <a:off x="2411280" y="5589720"/>
            <a:ext cx="63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6600"/>
                </a:solidFill>
                <a:latin typeface="Comic Sans MS"/>
              </a:rPr>
              <a:t>Laat jouw oude vrienden weten dat je hen niet vergeten b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8000">
    <p:split dir="out" orient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2:28:04Z</dcterms:created>
  <dc:creator>fredje</dc:creator>
  <dc:description/>
  <dc:language>en-US</dc:language>
  <cp:lastModifiedBy>fredje</cp:lastModifiedBy>
  <dcterms:modified xsi:type="dcterms:W3CDTF">2009-12-08T14:31:11Z</dcterms:modified>
  <cp:revision>26</cp:revision>
  <dc:subject/>
  <dc:title>ES PARA TI</dc:title>
</cp:coreProperties>
</file>