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1D35-4DFD-49FF-AD79-8F91C120E3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C2F-169E-4B68-A8E6-D7910D961A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33F5-6346-4FA2-8228-246B31835E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BE8-3E5C-4E45-AE97-05FB3B2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798-3A14-4890-A593-E8B8ECF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B79C-7B4D-4E2A-BC92-529630A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1BFCA-E34C-436F-8264-F186BA5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0A899-8A24-4126-BF00-5E12E78A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A4BD-0865-4F43-9F95-C8AB86C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DA894-62A7-4387-B0F3-C5B74AE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0C70F-3F30-4186-BF61-CA3885B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01A28-49E6-4A0D-A830-696285A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0CE5D-1CF3-4C8B-913F-683B61CE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F3639-6F9B-4672-A056-F81AECF9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4618-5389-4A23-B23E-A8D80C3D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032-AE24-4DD7-BF39-5CB2C40C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13B57-8550-4784-8C89-507F660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3017C-1558-4F3B-BDDC-697BFA2D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E3303-AA66-4CD2-BC0C-47FB8C6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0D866-9C29-47EC-8DE1-9A9FF77F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D8FEA-A85B-4C9A-AD29-BC36C139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452B3-D0AD-4440-B32D-FB9122B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957D3-DA08-44C1-BEF7-EF30687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868F3-070B-4329-AE44-2092844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A4213-839A-4B2F-95A1-43EE865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D127-BA36-447A-89CD-C7BF1A99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34B-6F8C-4910-AA6D-0EB78D95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A6594-4CD2-493A-8DB0-EC1C277E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83701-0508-4084-9073-FD7937EE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0BFD-4830-4ECB-8FFE-039C461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90B09-D2FC-42B0-9CEA-B5B4966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E9AD-4A75-432A-936A-DB5D81B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9BEF2-EC4E-4C25-9A5C-953350E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BAC3-A268-4ECB-A648-47021E66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ECC85-9DD0-4ABE-B9FB-760D8318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5D47-4E79-420F-A82C-11F7DEE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2C591-6002-4D38-92C5-D415A31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4FB1-E43F-4988-BAA8-FB0F4619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B3C4-AC07-4D5A-AEEE-A570FE74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D5049-F7A0-4304-B1FF-A37F0DE0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D864-7F82-4E0F-B206-E83F1F91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2904B-D1C0-4E74-A54C-C7E01E85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A618A-DBB0-4667-98FF-F54A094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47D7F-C251-4C39-9B8F-713DE5F8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6C3B6-920B-49DE-BE0A-75FE767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6EB92-CCED-4E68-884B-18C2A63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311F3-77AC-417D-90B9-6145A2B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2A867-4A51-4D78-A4D6-59A2C1C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92F3-160C-4449-B6FB-44E24F5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44071-300C-41B0-B2DA-8539CB5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14660-B818-414E-8FDC-B8B6213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7EF1A-F23A-40F3-9C8C-A560287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07C5D-7033-4F0D-BFF9-A043AD43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A42A3-7DC0-46BD-9BDC-A9288E94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5892-CB05-4ECD-983E-15DD07D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8330-DDC2-4D70-84BE-C6618EA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AF33-0151-45ED-8B74-4A7E120A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A7F-C203-4998-8059-FFF60FD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10B-4A17-4001-9ED1-1EC9B77D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EC1-B631-4A58-8E6F-CE827387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8409-288F-431F-9845-65DE7D8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F10-B539-49FC-BEF9-3545D03C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B3E9-4A98-4A7C-B445-03ADDC7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574-15FE-4DE7-9AA6-0DF3CDF1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23A4-6172-42F5-9754-A4978FF5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6B12-C691-45DE-8631-EDD8AA23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28F6-6EF3-4F17-B032-980FB47C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E56D-7F2E-44D3-A548-D89BBB93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0059-1226-4BE4-9257-A4783940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2605-BD8F-4BD2-B582-48D77FB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A99-922F-4A9E-811C-E167281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805D-B7A2-4DF0-9F4F-3DD7E30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5678-F5E0-4E74-95C0-55D04DC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B055-F27C-4B36-B8B6-E2B54F2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59FD-A521-4EC3-ABBA-38391D0C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9C47-53C4-4EED-9017-C0A1A247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DAB5-8869-43C7-AB6F-B0F177A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31EA-26D5-436C-936B-73607052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F78C-D513-4B77-B42A-299E4936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AB0E-D55F-4A69-A9EE-6AD95DB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1506-90BE-4C00-BDF0-776E7257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E8F-745E-4AF6-B2C8-E0AC830E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32F5-2C14-48D8-9C0B-B068674B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D6F8-28F4-4960-A3B9-DFB794F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AD8C-49DF-4BE1-8041-FE159C88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AA8C-AAC7-466D-993F-8D6704F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C885-6AFD-4605-8CD7-17BB3A8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DA60-D12E-4D66-84FA-17D07262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BC74-715E-428F-BBDC-2BB6D2FA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49EA-C90B-43F2-9C3C-1CE5ECB1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9BA2-7F45-4A3D-8966-5E2E5C90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1BE2-5DCC-4E1E-8B06-2100F58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187-5030-4D4D-8F63-8598CE88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131B-A185-4B6B-8F4C-A8C5A22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51C47-A602-4E0F-9D64-723B2C9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E263-3D2D-4C17-B227-B0A2AC2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48B9-2C12-4B81-B89B-88B14374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FECA-AE35-4768-9DDB-62EBD42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A631-84C7-4A97-822B-C0B8A46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45BF-1788-493E-98D0-6ADD466B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965F-B43C-4E18-A559-46A13AB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B322-C150-4AA4-B899-7C80D848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811B-D34E-4CC3-ADEB-E0529EDD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C58-17D5-4C18-A6C5-A10EF1F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5B14-4FBC-4314-A139-2566D801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1543-FA21-40E0-A246-E9AD2356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33C6-0250-42C6-BF72-9701809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FE1F-B9B4-482B-8FBA-F08BA38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1326-D9DD-410A-9C1D-B625B0D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B72CA-FB80-44CC-984C-94C1E3DF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3529-6A4D-4BA9-BCC6-36887E1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DF28-4E61-4AC3-9C6F-B4D0C08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D505-AECF-41CB-9B96-9BC585C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3A83A-14E7-42C1-8FCB-7249BE1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6DA-274B-4B64-9C72-564B843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BE56-F3FC-4C41-9382-E732FCEC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D9969-19A6-4DFF-BD47-E0727868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8B92E-A16D-49A3-82FA-EFBE7137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5717-1F23-46D8-9CBF-38646E82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0C50-16C3-4E9B-9489-CF38C747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AC50-4499-42E2-9F14-0FC3D9AF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8B5D7-60E0-47CD-963E-AF52702D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9EB8A-7156-4FD8-A001-05A2383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6FF5-47FD-43F0-8322-633BB12B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DA54-8468-4D2C-ADB8-C6635F6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18E-9855-47AE-9429-C46C1D6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9B45-88AE-415B-A09E-CABDDB4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28B84-52CD-4037-AB95-6003A98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2E08-EDB5-4988-8F3F-3B78C760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E4C1F-A959-41C2-95DD-3551D9FF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3798-4279-47CD-9A73-BF415649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6410-DF52-4063-BC0C-CEFC500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D5FD7-A54E-42FC-A758-09FCD9A7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E10F-2B01-43E9-A1C1-3EA1341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5E934-75E2-40F3-A115-3653C860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C9091-05CE-40A6-9839-8D607A3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311-3C06-4E6C-A2C0-6E9E6CD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C9D6-937B-4AD4-A263-AF1CBA0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6C2E-2FCE-4E3C-BC40-72C08B1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D57D-749A-44BD-9D6F-32B7DD0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C601-F588-47B3-8300-03D9A60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1E34-1521-47A4-A4EA-69A8D26E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6637-61CB-4BBE-A6E2-2196A479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92F4-A46A-4F90-852F-B5B446DA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6C04-F1B2-46EE-A54B-6810E465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D392A-23BC-4D52-A00C-523DD00D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F73F9-4799-4820-9262-7612244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F7E-8AC7-45DA-8F01-FB4A8F2467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60F6-44AC-42E9-980D-A1758FDAF2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69F8-1B87-4C77-A845-F062461E5B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B47-840D-43A3-9399-42C7DEA869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936-7530-4A45-BAD4-4E63846A8C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64D-D807-4668-84F0-9FE29719DF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35A-BD57-42DB-88F1-DFA6E88656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EB9-D427-433B-A71C-C906F85E4F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CCB-EE27-4DEB-9F2C-2599FFF2EB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7FF6-89D5-490B-BF1A-F95D1568A6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A74-8ACA-4C77-94F7-DF075AA9B5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08F-2ECA-428A-ACD3-8165213B69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perrito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9"/>
          <p:cNvSpPr/>
          <p:nvPr/>
        </p:nvSpPr>
        <p:spPr>
          <a:xfrm>
            <a:off x="4427640" y="0"/>
            <a:ext cx="393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</a:rPr>
              <a:t>Wij zeggen allemaal wel eens tegen onze vrienden . . .</a:t>
            </a:r>
            <a:r>
              <a:rPr b="0" i="1" lang="es-ES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0" y="2786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Comic Sans MS"/>
              </a:rPr>
              <a:t>WIJ ZULLEN VOOR ALTIJD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Comic Sans MS"/>
              </a:rPr>
              <a:t>VRIENDEN ZIJN 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kstvak 4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Comic Sans MS"/>
              </a:rPr>
              <a:t>Vertaald uit het Spaans – Freddy Storm 12/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10 kutya-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3348000" y="5373720"/>
            <a:ext cx="57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6633"/>
                </a:solidFill>
                <a:latin typeface="Comic Sans MS"/>
              </a:rPr>
              <a:t>En zeg tegen jouw nieuwe vrienden dat je hen nooit zal verge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16 shepher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900000" y="2602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Denk eraan dat wij allemaal een vriend nodig hebb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5"/>
          <p:cNvSpPr/>
          <p:nvPr/>
        </p:nvSpPr>
        <p:spPr>
          <a:xfrm>
            <a:off x="250920" y="285840"/>
            <a:ext cx="201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Misschien zul je op een moment in jouw leven het gevoel krijgen dat je geen enkele vriend heb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6357960" y="28584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Denk dan aan deze mail en wees ger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6072120" y="4071960"/>
            <a:ext cx="29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in de wetenschap dat iemand je apprecieert en aan je denk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5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Picture 7" descr="perrito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786200" y="2858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mic Sans MS"/>
              </a:rPr>
              <a:t>Maar hoe lang duurt vriendschap ech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perrito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5572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89d8"/>
                </a:solidFill>
                <a:latin typeface="Comic Sans MS"/>
              </a:rPr>
              <a:t>We kunnen een jaar lang                             de beste vrienden zijn . .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Picture 12" descr="perritos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3"/>
          <p:cNvSpPr/>
          <p:nvPr/>
        </p:nvSpPr>
        <p:spPr>
          <a:xfrm>
            <a:off x="4572000" y="35712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omic Sans MS"/>
              </a:rPr>
              <a:t>Nog betere vrienden het jaar daarop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perrito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7"/>
          <p:cNvSpPr/>
          <p:nvPr/>
        </p:nvSpPr>
        <p:spPr>
          <a:xfrm>
            <a:off x="179280" y="33336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We praten het volgende jaar niet meer zo vaak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perritos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714840" y="214200"/>
            <a:ext cx="52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Comic Sans MS"/>
              </a:rPr>
              <a:t>En het jaar daarop praten we helemaal niet meer ...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19 kutya-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0" y="2602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Nu, wat ik je wilde zeggen is . .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395280" y="24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dat je voor mij belangrijk b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0" y="407664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Ofschoon we met praten hebben opgehou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5715000" y="6429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dat ik je bewo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6948360" y="249228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dat ik je respecte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6372360" y="551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waardeer ik je echt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9000"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8" descr="perrito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4"/>
          <p:cNvSpPr/>
          <p:nvPr/>
        </p:nvSpPr>
        <p:spPr>
          <a:xfrm>
            <a:off x="324000" y="54936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Stuur dit bericht aan al jouw vriend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0" y="2205000"/>
            <a:ext cx="39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Het heeft geen belang of jullie geregeld met elkaar praten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539640" y="508464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jullie zijn dicht bij elka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4643280" y="49417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En stuur het ook terug aan de persoon die het je bezorg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8 kutya-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5"/>
          <p:cNvSpPr/>
          <p:nvPr/>
        </p:nvSpPr>
        <p:spPr>
          <a:xfrm>
            <a:off x="2411280" y="5589720"/>
            <a:ext cx="63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Comic Sans MS"/>
              </a:rPr>
              <a:t>Laat jouw oude vrienden weten dat je hen niet vergeten b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>fredje</dc:creator>
  <dc:description/>
  <dc:language>en-US</dc:language>
  <cp:lastModifiedBy>fredje</cp:lastModifiedBy>
  <dcterms:modified xsi:type="dcterms:W3CDTF">2009-12-08T14:31:11Z</dcterms:modified>
  <cp:revision>26</cp:revision>
  <dc:subject/>
  <dc:title>ES PARA TI</dc:title>
</cp:coreProperties>
</file>