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533-41C1-49DC-8808-668527D2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54F-37A1-40B4-89E1-A0CCA806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8E1-0B00-4658-BA1F-82F8B0CD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D39-B1B9-4364-9964-D4F04D1B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3ED8-B637-495F-B25B-4E6892EB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945B-82B1-468F-BCC7-D7119EB8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33E5-9319-454A-9EBB-550777C4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13EC-5066-4DA9-8DF1-0A8E3E54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60DD-FA30-4B12-B792-4072852E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B68B-58C3-478E-88F4-4897EF8E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697E-9E21-42A7-A826-D0DA1996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4F1-819F-490A-8430-A8D24D7F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8ACA-A831-4781-AA00-6A42230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74FF-9EA4-4C41-A9FF-9AA8BD40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FF14-4ADA-4B6D-B1EE-1F68496B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610C-2E21-4873-8C66-9305CACC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8E9A-4F15-4FB9-9545-08C67565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BB0D-08EB-49DA-8B35-46F9221B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576B-B388-4E4B-9DB7-E427ECF9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8F10-1298-428A-89A2-B0849A82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CDAA-E52B-4AC9-AA31-0E686BFC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856D4-DA0D-47B7-BE52-71257C36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E41-5608-44EE-A113-54F306F4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5281-714C-4210-A2D8-A77EBFB2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7567-32D2-4E6C-95AB-20894DA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0C28-06F3-4297-97F2-CBEC2C4B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F7EF-D37E-4E17-947A-DA9B164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6798-66FB-4D5A-978D-6A7545EB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E1FC-4111-4446-8DE7-291F6977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6793-A849-410A-98D0-88EB29C5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2E15-2347-455E-A4AB-8ECF10B0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ED02-1058-41F8-B902-7ADF68B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1EFB7-6FA6-43C6-987D-A35664E6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85B-95B4-4212-A74E-CD432F52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DF08-8AA8-4286-87D7-5E6A8836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9333-8D38-46EE-8927-ED827F6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21AAC-AAD0-4497-A4B2-23485A7E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BADE-8401-4F50-8968-426716E7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2783-C630-4CD1-AABF-B8D201C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66C2-212D-4288-AAE3-7EA7AB4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37125-1E79-4931-A37F-E0FE041A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A08B-4A6E-412F-A43F-D7FCFD48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536D-050A-4FEA-919D-74FE4658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DDD7E-95D0-4370-A5A6-766D3196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454-CD89-484B-98A5-5FFA183E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46763-0627-4AEA-B277-D68D5208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C5F7-A83F-49CA-8CFF-EA13C86F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4C56-6E66-4FC0-9937-3EE0B058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A399-4518-459D-9FEE-CA102691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9B7B-5F5D-4590-A840-55783CA4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0F8B8-C7E9-4E45-87B5-0F3D336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24233-2D08-45DC-BDCC-3206EAA1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8E6A-CE8B-4AC2-AC52-E8CBA2C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30CB-079D-4BD5-91D3-3FC1755A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9977-D827-4FD5-A325-C426B991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C0E-D047-434D-9596-3BD36C78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F57B4-5616-4E30-A58B-4A31FB4F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142B1-039F-4CCF-838E-5D133D95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48B88-7109-4F6E-80BD-F189F526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C20C2-C83B-4C08-9370-6DDC1E70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37375-8474-41FA-84FB-66A16176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28594-9536-4223-A829-CA0047CB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B521-5938-41C5-BDB3-4FC2400D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A4EEE-62E0-47FD-B802-5324B4F8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94E5-5454-47BF-96AD-9C20A1D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05CF4-69B0-48E0-92AF-C6D203F0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071-8436-45E2-B8BA-D155F1A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21004-0E4C-4EB8-9569-3F803452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56A3-FD61-4215-AF9F-7C715B84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2D96-69EC-45E4-8D91-DCA28E54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8EAD-0B37-459B-AC9E-5C62E39B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182E0-B19A-41B8-9629-3730CE91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C38F4-B082-40AC-A45B-0FACACC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E4315-FD68-4E7D-BF01-3427D0F8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8317A-E3B4-4CFA-AB6F-3345C34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9709-7C49-4806-B4E9-06D8C6B1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70B37-918F-4CEA-B695-CE8333C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6C6-E07A-4C22-8BC9-C0894005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887B-05C6-4B28-8BC8-E2E5532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2451A-3A51-4B2A-AA75-DB3742CE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566EA-D54B-48A7-BF73-22379A65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8DBEC-DFB8-41F9-92CE-FE20C79E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7AC3-99A5-44C2-9DBC-34A2A72D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F7A-0598-48B7-BAE2-FA74DE1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CACF-B031-43FB-90DC-CFCDDADDAA26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DE59-6CA9-4700-AEA7-465A5BDA9DD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Háromszög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6168-D3B2-4D12-93BA-2D478AD9C35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3139-C506-4463-AE1F-B05C09F2D332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DC1D-12F8-4E37-BE28-4292196D0F2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70A6-94F2-453F-85F3-FC3B5CD04F2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Háromszög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Egyenes összekötő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Egyenes összekötő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8C72-718A-4E21-B978-05FC932A63F1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C0BA-144A-48B8-AF55-80A60AF7488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33B3-C07D-4E28-855E-C8D2ED7B1981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3A03-1577-418E-8027-7481BA016AC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CFCC-EC74-486D-8BC7-B2F7AB2F2678}" type="datetime">
              <a:rPr b="0" lang="hu-HU" sz="9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C1FD-7D5E-4C22-98BB-EB0197BD4B9B}" type="slidenum">
              <a:rPr b="0" lang="hu-H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E119-76D0-4CF3-86F4-5899C98AC5BC}" type="datetime">
              <a:rPr b="0" lang="hu-HU" sz="900" spc="-1" strike="noStrike">
                <a:solidFill>
                  <a:srgbClr val="ffffff"/>
                </a:solidFill>
                <a:latin typeface="Arial"/>
              </a:rPr>
              <a:t>26.07.30.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E9EC-F819-4D08-B1C4-524342D9F045}" type="slidenum">
              <a:rPr b="0" lang="hu-H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Kép 3" descr="1207726033qvgsQ5h.jpg"/>
          <p:cNvPicPr/>
          <p:nvPr/>
        </p:nvPicPr>
        <p:blipFill>
          <a:blip r:embed="rId1"/>
          <a:stretch/>
        </p:blipFill>
        <p:spPr>
          <a:xfrm>
            <a:off x="-436680" y="0"/>
            <a:ext cx="9580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Kép 1" descr="1215538818Tzl4cHr.jpg"/>
          <p:cNvPicPr/>
          <p:nvPr/>
        </p:nvPicPr>
        <p:blipFill>
          <a:blip r:embed="rId1"/>
          <a:stretch/>
        </p:blipFill>
        <p:spPr>
          <a:xfrm>
            <a:off x="-227160" y="0"/>
            <a:ext cx="9371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Kép 1" descr="67DcRmn6QfyUjc1EA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Kép 1" descr="1219724470kYbEdul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Kép 1" descr="1222277679farVYJr.jpg"/>
          <p:cNvPicPr/>
          <p:nvPr/>
        </p:nvPicPr>
        <p:blipFill>
          <a:blip r:embed="rId1"/>
          <a:stretch/>
        </p:blipFill>
        <p:spPr>
          <a:xfrm>
            <a:off x="-620640" y="0"/>
            <a:ext cx="9764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Kép 1" descr="GtSvg7tWZIlsACKc2J.jpg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Kép 1" descr="1223023369zrCqgc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Kép 1" descr="1207286497pHV7Wwk.jpg"/>
          <p:cNvPicPr/>
          <p:nvPr/>
        </p:nvPicPr>
        <p:blipFill>
          <a:blip r:embed="rId1"/>
          <a:stretch/>
        </p:blipFill>
        <p:spPr>
          <a:xfrm>
            <a:off x="-235080" y="0"/>
            <a:ext cx="937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Kép 1" descr="1209714667VwLiLwf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Kép 2" descr="1205964530sLs8RcB.jpg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Kép 1" descr="1221784499Rjh8EHc.jpg"/>
          <p:cNvPicPr/>
          <p:nvPr/>
        </p:nvPicPr>
        <p:blipFill>
          <a:blip r:embed="rId1"/>
          <a:stretch/>
        </p:blipFill>
        <p:spPr>
          <a:xfrm>
            <a:off x="-431640" y="-642960"/>
            <a:ext cx="10075680" cy="799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Kép 1" descr="1217574847HWVk9H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Kép 1" descr="1208480611pjRWgK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Kép 1" descr="1233093528TGEZSuS.jpg"/>
          <p:cNvPicPr/>
          <p:nvPr/>
        </p:nvPicPr>
        <p:blipFill>
          <a:blip r:embed="rId1"/>
          <a:stretch/>
        </p:blipFill>
        <p:spPr>
          <a:xfrm>
            <a:off x="-500040" y="0"/>
            <a:ext cx="964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Kép 1" descr="BN7qQ9TSUy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Kép 1" descr="1234439183rkImeS5.jpg"/>
          <p:cNvPicPr/>
          <p:nvPr/>
        </p:nvPicPr>
        <p:blipFill>
          <a:blip r:embed="rId1"/>
          <a:stretch/>
        </p:blipFill>
        <p:spPr>
          <a:xfrm>
            <a:off x="-573120" y="0"/>
            <a:ext cx="9717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Kép 1" descr="1256652016yXhrhS9.jpg"/>
          <p:cNvPicPr/>
          <p:nvPr/>
        </p:nvPicPr>
        <p:blipFill>
          <a:blip r:embed="rId1"/>
          <a:stretch/>
        </p:blipFill>
        <p:spPr>
          <a:xfrm>
            <a:off x="-430200" y="0"/>
            <a:ext cx="9574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Kép 1" descr="12128128162qmtJYQ.jpg"/>
          <p:cNvPicPr/>
          <p:nvPr/>
        </p:nvPicPr>
        <p:blipFill>
          <a:blip r:embed="rId1"/>
          <a:stretch/>
        </p:blipFill>
        <p:spPr>
          <a:xfrm>
            <a:off x="-168120" y="0"/>
            <a:ext cx="9312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Kép 1" descr="xvJceBMIqqYxZhMNAy.jpg"/>
          <p:cNvPicPr/>
          <p:nvPr/>
        </p:nvPicPr>
        <p:blipFill>
          <a:blip r:embed="rId1"/>
          <a:stretch/>
        </p:blipFill>
        <p:spPr>
          <a:xfrm>
            <a:off x="-179280" y="0"/>
            <a:ext cx="932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Kép 1" descr="YL6hdfElG1ksn3Hcaw.jpg"/>
          <p:cNvPicPr/>
          <p:nvPr/>
        </p:nvPicPr>
        <p:blipFill>
          <a:blip r:embed="rId1"/>
          <a:stretch/>
        </p:blipFill>
        <p:spPr>
          <a:xfrm>
            <a:off x="-1147680" y="0"/>
            <a:ext cx="1029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Kép 1" descr="tBrSC587E3v8ITnlg6.jpg"/>
          <p:cNvPicPr/>
          <p:nvPr/>
        </p:nvPicPr>
        <p:blipFill>
          <a:blip r:embed="rId1"/>
          <a:stretch/>
        </p:blipFill>
        <p:spPr>
          <a:xfrm>
            <a:off x="-322200" y="0"/>
            <a:ext cx="946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Kép 1" descr="12268563213QlCHTP.jpg"/>
          <p:cNvPicPr/>
          <p:nvPr/>
        </p:nvPicPr>
        <p:blipFill>
          <a:blip r:embed="rId1"/>
          <a:stretch/>
        </p:blipFill>
        <p:spPr>
          <a:xfrm>
            <a:off x="-277920" y="0"/>
            <a:ext cx="942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Kép 1" descr="GvVA5zbblR8xtxb4P2.jpg"/>
          <p:cNvPicPr/>
          <p:nvPr/>
        </p:nvPicPr>
        <p:blipFill>
          <a:blip r:embed="rId1"/>
          <a:stretch/>
        </p:blipFill>
        <p:spPr>
          <a:xfrm>
            <a:off x="-506520" y="0"/>
            <a:ext cx="9650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Kép 1" descr="1209745210p1GMb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Kép 1" descr="12269430333uxtLcF.jpg"/>
          <p:cNvPicPr/>
          <p:nvPr/>
        </p:nvPicPr>
        <p:blipFill>
          <a:blip r:embed="rId1"/>
          <a:stretch/>
        </p:blipFill>
        <p:spPr>
          <a:xfrm>
            <a:off x="-330120" y="0"/>
            <a:ext cx="9474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Kép 1" descr="jZjQ2FumPAbBeEwQ1a.jpg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Kép 1" descr="1226781967fmvbja3.jpg"/>
          <p:cNvPicPr/>
          <p:nvPr/>
        </p:nvPicPr>
        <p:blipFill>
          <a:blip r:embed="rId1"/>
          <a:stretch/>
        </p:blipFill>
        <p:spPr>
          <a:xfrm>
            <a:off x="0" y="-379440"/>
            <a:ext cx="9144000" cy="809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Kép 1" descr="1210022506kXuJyY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Kép 1" descr="1210763263nAzrd5v.jpg"/>
          <p:cNvPicPr/>
          <p:nvPr/>
        </p:nvPicPr>
        <p:blipFill>
          <a:blip r:embed="rId1"/>
          <a:stretch/>
        </p:blipFill>
        <p:spPr>
          <a:xfrm>
            <a:off x="-385920" y="0"/>
            <a:ext cx="9529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Kép 1" descr="1211281639TM9KIHl.jpg"/>
          <p:cNvPicPr/>
          <p:nvPr/>
        </p:nvPicPr>
        <p:blipFill>
          <a:blip r:embed="rId1"/>
          <a:stretch/>
        </p:blipFill>
        <p:spPr>
          <a:xfrm>
            <a:off x="-811080" y="0"/>
            <a:ext cx="995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Kép 1" descr="1209653442YbyYbeg.jp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Kép 1" descr="1214530743k5f6VLs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Kép 1" descr="1218775359QXXAgvX.jpg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4:50:59Z</dcterms:created>
  <dc:creator>Consul</dc:creator>
  <dc:description/>
  <dc:language>en-US</dc:language>
  <cp:lastModifiedBy>Smets</cp:lastModifiedBy>
  <dcterms:modified xsi:type="dcterms:W3CDTF">2011-02-23T19:41:52Z</dcterms:modified>
  <cp:revision>32</cp:revision>
  <dc:subject/>
  <dc:title>1. dia</dc:title>
</cp:coreProperties>
</file>