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AC3-F80A-4961-83E8-5C4250AB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112-1CD3-45A4-96C4-97A5C0D1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B2B-DDF9-4D95-ADFA-078C1ABA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D58-CB23-46AB-9176-A21966C8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AB4-7995-4B74-AA71-5190D3B4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B538-A186-44C4-BD54-5E2F39B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D77-2476-4495-A9E1-2C4383E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3876-A72B-4F53-892D-1BB30A42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E937-626E-49F5-B4DD-84A7BC99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C6FB-548B-4E69-A41B-DBF4ECB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8806-5CE2-490E-95CC-B92E2010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B99-2432-49C2-86F0-13596DF5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DE4F-D57D-4AA3-BB3A-A22B0D5F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5278-515B-410F-B4D9-DF405172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C978-14A8-4B6C-9FE4-4639818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8EEE-88D2-4FF0-A2EC-09017C7C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3F3A-90A4-4563-ACFE-ADCD8DDC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25B9-D534-4444-9C8F-8A5563A3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4DBC-D70D-45EA-95C7-D210017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7EA4-1D97-4A05-B25D-53A34A7D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9BA5-CE1F-4CEF-8C8C-11F6F385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9CFA-C78A-408D-B2EE-5E7528BB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2A1-AE3B-4817-9714-1907921E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BCC5-4401-492A-92B6-6CC57A3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4A65-A191-4BC3-8D69-42F2181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F2CB3-C6A0-4A0E-8A91-296BAA3A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52AE-26A1-4397-A819-44FAE82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F833-BB3D-4A85-BBCC-208FE523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1E5B-2AB2-465D-B09C-796B48CF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BEB7-9AB5-43B6-A6BB-CCDE7DB6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26BE-61CB-456C-89B3-B9244E04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6697-78CE-46A8-BC49-7ED78347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1700-B1EB-4CD8-955C-7305FF4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411-0CCA-4D34-94A9-C75D44B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DDAF-4DF9-48FA-A770-9E9F5F4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5FC1-749B-4C45-AFA2-36B13209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8C98-1CC5-4D71-9699-571235A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3AB6-82CA-4D7A-B9F9-47AFEBB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5946-46ED-40BE-85C8-C4722C52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15F1-5F74-4752-BE8C-0F0A8EA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9D1A-F320-432A-B76C-0A85449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055E-73D5-4924-913C-821C42AD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D981-B210-40B8-9110-81E4029E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7DB8-3216-427C-BEB1-E202A1D3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33E-8493-440C-A602-CAE4238D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897F-03CF-4F87-B63D-EE69180A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6D39-6332-47F4-95EE-D613EB78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1F92-91FF-4A28-9DFA-C2B3CF2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166B1-5E97-442B-B950-9CECEDE8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B22D-A7DF-4665-9155-C156CA4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4C5E-1603-49A2-8557-71A7E47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DEE6-C6AC-4CA8-8C7E-E17A6937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39C36-FDAD-4C7B-A52B-BF1BF32B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8B99-AAC1-4F3D-A4C6-924C3C0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8F47-B259-4828-9D8B-F65D2890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AAA-4744-4B56-BCEC-FE948A6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98DD-46DF-405E-94D6-3BF91A0E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BAB0-7843-4676-8D7A-FBCB6794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DBB3-44F1-40CA-84EE-B61CDB9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ACB9-C8EC-4F08-A5E9-25E01480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120BE-5193-4428-AEA6-09AE1896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A482-BABF-4781-81E9-1BC6068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F3C8F-CDDB-4C93-B8B3-212A54DC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A7D02-6094-45D1-8E33-5F55269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BC5D-BA17-4C89-A6BB-6A621D1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AEEBB-24F9-4D98-907B-D4AED62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DCB-4373-4338-85E2-1B11CCB3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52A2-E2A4-4A78-98EE-245291B3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A2832-77DF-47CF-893D-85FD4CE0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B84A-8DE4-4113-B972-CE79F91F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65FF7-5DAF-4F97-87A3-4EFB5880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7A84D-59ED-4C50-87C7-47930203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9A1F6-331E-4538-8542-1F3A844E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923E1-2EE6-47E7-B7C6-31D10771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8D65-FAC8-4019-B320-7A4799D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3480-A411-4EB0-8FB5-B8E7722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F0D8-816E-4245-9EEC-A0ADE16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36C-6A66-4CB8-8C9E-0E84494E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E026-10A5-4FDF-84DE-E1B4A7C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0F974-FCE6-42CD-A48E-5D500A1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F33AA-1DC8-4433-A7AE-CF715329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DF2D-D55F-4B01-AB39-F54A58A5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3B547-0D2E-4DE1-9E43-98856E6C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D08-DA7D-4B84-8F7E-1EF5F55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431-B4F5-4005-9320-8A0E6671747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678-1D2D-4C62-A000-6A8C1D0AE17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Háromszög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FDF1-1138-4A12-9337-A313333E2CC0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DDE7-22D8-4DE6-80C9-35998A850FC1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89B-CEE5-4F78-BB85-9FE18BEA4C05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7A4-5989-49CF-ABA6-7F54363636C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Háromszög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Egyenes összekötő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Egyenes összekötő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6217-2B64-433E-B3A3-9CA50EF0BB17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C4A7-EB9A-4163-868E-27F8889D18B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4AA8-9B75-4364-9BE0-EBAC1DBE0A1C}" type="datetime">
              <a:rPr b="0" lang="hu-HU" sz="10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E493-BF9C-4C2F-8290-06D50948C8D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A509-66B3-41BA-BDDA-B3236781353D}" type="datetime">
              <a:rPr b="0" lang="hu-HU" sz="900" spc="-1" strike="noStrike">
                <a:solidFill>
                  <a:srgbClr val="000000"/>
                </a:solidFill>
                <a:latin typeface="Arial"/>
              </a:rPr>
              <a:t>26.07.29.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EA6F-F5BD-438E-A3C1-F32F17B1C33A}" type="slidenum">
              <a:rPr b="0" lang="hu-H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103-64E9-49F0-97FE-1C7C84416C33}" type="datetime">
              <a:rPr b="0" lang="hu-HU" sz="900" spc="-1" strike="noStrike">
                <a:solidFill>
                  <a:srgbClr val="ffffff"/>
                </a:solidFill>
                <a:latin typeface="Arial"/>
              </a:rPr>
              <a:t>26.07.29.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CDF-A6E0-40D9-996D-003C934A4B2E}" type="slidenum">
              <a:rPr b="0" lang="hu-H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Kép 3" descr="1207726033qvgsQ5h.jpg"/>
          <p:cNvPicPr/>
          <p:nvPr/>
        </p:nvPicPr>
        <p:blipFill>
          <a:blip r:embed="rId1"/>
          <a:stretch/>
        </p:blipFill>
        <p:spPr>
          <a:xfrm>
            <a:off x="-436680" y="0"/>
            <a:ext cx="9580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Kép 1" descr="1215538818Tzl4cHr.jpg"/>
          <p:cNvPicPr/>
          <p:nvPr/>
        </p:nvPicPr>
        <p:blipFill>
          <a:blip r:embed="rId1"/>
          <a:stretch/>
        </p:blipFill>
        <p:spPr>
          <a:xfrm>
            <a:off x="-227160" y="0"/>
            <a:ext cx="9371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Kép 1" descr="67DcRmn6QfyUjc1EA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Kép 1" descr="1219724470kYbEdul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Kép 1" descr="1222277679farVYJr.jpg"/>
          <p:cNvPicPr/>
          <p:nvPr/>
        </p:nvPicPr>
        <p:blipFill>
          <a:blip r:embed="rId1"/>
          <a:stretch/>
        </p:blipFill>
        <p:spPr>
          <a:xfrm>
            <a:off x="-620640" y="0"/>
            <a:ext cx="9764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Kép 1" descr="GtSvg7tWZIlsACKc2J.jpg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Kép 1" descr="1223023369zrCqgc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Kép 1" descr="1207286497pHV7Wwk.jpg"/>
          <p:cNvPicPr/>
          <p:nvPr/>
        </p:nvPicPr>
        <p:blipFill>
          <a:blip r:embed="rId1"/>
          <a:stretch/>
        </p:blipFill>
        <p:spPr>
          <a:xfrm>
            <a:off x="-235080" y="0"/>
            <a:ext cx="937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Kép 1" descr="1209714667VwLiLwf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Kép 2" descr="1205964530sLs8RcB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Kép 1" descr="1221784499Rjh8EHc.jpg"/>
          <p:cNvPicPr/>
          <p:nvPr/>
        </p:nvPicPr>
        <p:blipFill>
          <a:blip r:embed="rId1"/>
          <a:stretch/>
        </p:blipFill>
        <p:spPr>
          <a:xfrm>
            <a:off x="-431640" y="-642960"/>
            <a:ext cx="10075680" cy="799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Kép 1" descr="1217574847HWVk9H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Kép 1" descr="1208480611pjRWgK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Kép 1" descr="1233093528TGEZSuS.jpg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Kép 1" descr="BN7qQ9TSUy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Kép 1" descr="1234439183rkImeS5.jpg"/>
          <p:cNvPicPr/>
          <p:nvPr/>
        </p:nvPicPr>
        <p:blipFill>
          <a:blip r:embed="rId1"/>
          <a:stretch/>
        </p:blipFill>
        <p:spPr>
          <a:xfrm>
            <a:off x="-573120" y="0"/>
            <a:ext cx="9717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Kép 1" descr="1256652016yXhrhS9.jpg"/>
          <p:cNvPicPr/>
          <p:nvPr/>
        </p:nvPicPr>
        <p:blipFill>
          <a:blip r:embed="rId1"/>
          <a:stretch/>
        </p:blipFill>
        <p:spPr>
          <a:xfrm>
            <a:off x="-430200" y="0"/>
            <a:ext cx="9574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Kép 1" descr="12128128162qmtJYQ.jpg"/>
          <p:cNvPicPr/>
          <p:nvPr/>
        </p:nvPicPr>
        <p:blipFill>
          <a:blip r:embed="rId1"/>
          <a:stretch/>
        </p:blipFill>
        <p:spPr>
          <a:xfrm>
            <a:off x="-168120" y="0"/>
            <a:ext cx="931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Kép 1" descr="xvJceBMIqqYxZhMNAy.jpg"/>
          <p:cNvPicPr/>
          <p:nvPr/>
        </p:nvPicPr>
        <p:blipFill>
          <a:blip r:embed="rId1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Kép 1" descr="YL6hdfElG1ksn3Hcaw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Kép 1" descr="tBrSC587E3v8ITnlg6.jpg"/>
          <p:cNvPicPr/>
          <p:nvPr/>
        </p:nvPicPr>
        <p:blipFill>
          <a:blip r:embed="rId1"/>
          <a:stretch/>
        </p:blipFill>
        <p:spPr>
          <a:xfrm>
            <a:off x="-322200" y="0"/>
            <a:ext cx="946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Kép 1" descr="12268563213QlCHTP.jpg"/>
          <p:cNvPicPr/>
          <p:nvPr/>
        </p:nvPicPr>
        <p:blipFill>
          <a:blip r:embed="rId1"/>
          <a:stretch/>
        </p:blipFill>
        <p:spPr>
          <a:xfrm>
            <a:off x="-27792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Kép 1" descr="GvVA5zbblR8xtxb4P2.jpg"/>
          <p:cNvPicPr/>
          <p:nvPr/>
        </p:nvPicPr>
        <p:blipFill>
          <a:blip r:embed="rId1"/>
          <a:stretch/>
        </p:blipFill>
        <p:spPr>
          <a:xfrm>
            <a:off x="-506520" y="0"/>
            <a:ext cx="9650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Kép 1" descr="1209745210p1GMb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Kép 1" descr="12269430333uxtLcF.jpg"/>
          <p:cNvPicPr/>
          <p:nvPr/>
        </p:nvPicPr>
        <p:blipFill>
          <a:blip r:embed="rId1"/>
          <a:stretch/>
        </p:blipFill>
        <p:spPr>
          <a:xfrm>
            <a:off x="-330120" y="0"/>
            <a:ext cx="9474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Kép 1" descr="jZjQ2FumPAbBeEwQ1a.jpg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Kép 1" descr="1226781967fmvbja3.jpg"/>
          <p:cNvPicPr/>
          <p:nvPr/>
        </p:nvPicPr>
        <p:blipFill>
          <a:blip r:embed="rId1"/>
          <a:stretch/>
        </p:blipFill>
        <p:spPr>
          <a:xfrm>
            <a:off x="0" y="-379440"/>
            <a:ext cx="9144000" cy="809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Kép 1" descr="1210022506kXuJyY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Kép 1" descr="1210763263nAzrd5v.jpg"/>
          <p:cNvPicPr/>
          <p:nvPr/>
        </p:nvPicPr>
        <p:blipFill>
          <a:blip r:embed="rId1"/>
          <a:stretch/>
        </p:blipFill>
        <p:spPr>
          <a:xfrm>
            <a:off x="-385920" y="0"/>
            <a:ext cx="9529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Kép 1" descr="1211281639TM9KIHl.jpg"/>
          <p:cNvPicPr/>
          <p:nvPr/>
        </p:nvPicPr>
        <p:blipFill>
          <a:blip r:embed="rId1"/>
          <a:stretch/>
        </p:blipFill>
        <p:spPr>
          <a:xfrm>
            <a:off x="-811080" y="0"/>
            <a:ext cx="995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Kép 1" descr="1209653442YbyYbeg.jpg"/>
          <p:cNvPicPr/>
          <p:nvPr/>
        </p:nvPicPr>
        <p:blipFill>
          <a:blip r:embed="rId1"/>
          <a:stretch/>
        </p:blipFill>
        <p:spPr>
          <a:xfrm>
            <a:off x="-393840" y="0"/>
            <a:ext cx="953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Kép 1" descr="1214530743k5f6VLs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Kép 1" descr="1218775359QXXAgvX.jpg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4:50:59Z</dcterms:created>
  <dc:creator>Consul</dc:creator>
  <dc:description/>
  <dc:language>en-US</dc:language>
  <cp:lastModifiedBy>Smets</cp:lastModifiedBy>
  <dcterms:modified xsi:type="dcterms:W3CDTF">2011-02-23T19:41:52Z</dcterms:modified>
  <cp:revision>32</cp:revision>
  <dc:subject/>
  <dc:title>1. dia</dc:title>
</cp:coreProperties>
</file>