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4D4-36C2-4B07-B6DF-F7F841FC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B0C-22C6-4EF1-A9D1-C62908BF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A42-ECA2-4249-BA6D-CAFBDC75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432-C97F-440F-9B5D-4FD860EF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1AB-F744-417A-90D0-18287766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0FF-42A0-44EB-AF66-FC8CC155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698-B281-4B1F-99AD-F73EAC6A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78C-FE4B-4CBB-AEF6-C133D1AE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22E-2798-4AFD-89B7-14B95B34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321-47B0-499B-B5CE-EAAFA508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7AF-A4FF-454F-B874-DBCD501B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68C-35CB-4DE8-86A6-7A1900E6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74B4-A0E0-4DB5-B113-92AACFF21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ve/imgres?imgurl=http://entline.free.fr/ATLAS/ATLAS_web/images/low/4/Page%252017.GIF&amp;imgrefurl=http://entline.free.fr/ATLAS/ATLAS_web/4/3D2-Atlas-4-15.htm&amp;h=320&amp;w=176&amp;sz=13&amp;hl=es&amp;start=5&amp;tbnid=8JgJB1yDKOWO-M:&amp;tbnh=118&amp;tbnw=65&amp;prev=/images%3Fq%3Dsistema%2Bendocrino%26svnum%3D10%26hl%3Des%26lr%3D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32084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533520"/>
            <a:ext cx="5410440" cy="16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 BOLIVARIANA DE VENE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DAD DEL ZU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UELA DE 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AMENTO DE CIENCIAS FISIOLO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DRA DE FIS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590920"/>
            <a:ext cx="723924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IOLOGIA DEL SISTEMA ENDOC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ENER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80060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. Tibisay Rincon Rios, MgSc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324480"/>
            <a:ext cx="830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86800" y="4572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2209680"/>
            <a:ext cx="2014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990720"/>
            <a:ext cx="8153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s Nerviosos: Simpatico             CATECOL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ALIMENTACION O FEED-BA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A: Ej. Estrogenos                    FSH y L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A: Ej. GH                               G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ALIMENTACION EN CASCADA: Eje horm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O AMPLIO O ASA LARGA: Del organo diana a la hipofisis y a hipotalamo. Ej. Testo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IRCUITO CORTO O ASA CORTA: De la hipofisis al hipotalamo. Ej. TSH              T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IRCUITO ULTRACORTO: la hormona inhibe su propia secrecion. Ej. GHR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3341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048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514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295280"/>
            <a:ext cx="8381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RRIT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os/horas: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H y P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s: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rt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as: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strogeno y Progeste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cional: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irox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0666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81080"/>
            <a:ext cx="815328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PRODUCC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ametogenesis, Dimorfismo sexual, conducta sexual. ESTROGENOS, PROGESTERONA, LH, FSH, P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RECIMIENTO Y DESARROLL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H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SULINA, VITAMINA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MATOMEDINA, ESTROGENO, PROGESTER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DUCCION, ALMACENAMIENTO Y UTILIZACION DE ENERGI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ULINA, GLUCAGON, LEPTINA, VITAMINA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RTI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MEOSTASI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los electrolitos, PA, FC, EAB, Temperatura. ALDOSTERONA, ADH, PTH, CALCITONINA, F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SPUESTAS ADAPTATIVAS A SITUACIONES DE ALARM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TISOL, CATECOLAMINAS, ADH, ALDOSTERONA, GLUCAGON, AC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914400"/>
            <a:ext cx="8458200" cy="57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ANISMOS DE A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 H-R  EN LA CELULA 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superficie de la membrana (H. peptidicas y catecola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citoplasma (H. esteroide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nucleo (H. tiro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MECAN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ndo la permeabilidad de la Membrana: Neurotransmisores, Catecolam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ndo enzimas intra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Receptor         cinasa activada (fosforilacion). 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ctivacion de genes: ESTEROIDEAS Y TIROIDEAS. Citoplasma:     H-R           nucleo          Cadena ADN       ARNm          Prote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4479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600" y="3952800"/>
            <a:ext cx="641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2485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40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6400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838080"/>
            <a:ext cx="8458200" cy="57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ANISMOS DE A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ndo enzimas intra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ceptores transmembrana:  usando segundos mensaje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* AMPc: ACTH, LH, FSH, T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eptidica + Receptor         Prot. Gs o Gi         AC         AMPc            Proteincinasa dependiente de AMPc           Prot. Fosforilada o desfoforilada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spuesta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* FOSFOLIPASA C: GnRH, TRH, GHRH, ADH, 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eptidica + Receptor             Prot. G            Fosfolipasa C             D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spuesta cel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Fosforila a una prot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* CALCIO-CALMODULIN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iva o inhibe proteincinas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868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952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4876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410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5410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188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864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8168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4120" y="1066680"/>
            <a:ext cx="3200400" cy="300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4114800" cy="2886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304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UNOS CAMBIOS PRODUCIDOS POR LAS 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4114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952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447920"/>
            <a:ext cx="784836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IA DEL SISTEMA NEUROENDOCRINO EN LA VIDA DE REL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ar una revision general de las glandulas endocrina mas importantes y de sus horm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la estructura quimica de las horm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los mecanismos de accion horm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los efectos fisiologicos de las horm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los mecanismos de regulacion horm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143000"/>
            <a:ext cx="85345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LANDUL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da celula, tejido u organo capaz de producir y excretar un fl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IPOS DE GLANDUL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EXOCRINAS: Produc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                 Produc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AUTOCRINAS (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ctua en la propia celula que la produ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PARACRINAS  (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ctua sobre celulas contigu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ENDOCRINAS  (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on vertidas a la sangre y actuan sobre celulas           dist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MIXTAS: EXO + ENDOCRINAS: Produc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162920" y="2285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172200" y="23619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96080" y="23619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495680"/>
            <a:ext cx="85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ustancia quimica producida y secretada por una celula, tejido u organo que se vierte en la sangre en pequenas cantidades y ejerce sus efectos sobre un organo blanco situado a dist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GANO BLAN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rgano target): Es el organo final donde la hormona ejerce sus efectos fisiolo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landulas Endoc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ofisi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Hormona del Crecimiento (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denohipofi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Hormona Adrenocorticotropa (AC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mona estimulante de la tiroides (T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actina (P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mona Luteinizante (L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mona Foliculo-estimulante (F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ormona Antidiuretica o Vasopresina (A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eurohipofis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Oxitocina (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Tiro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ormonas Tiroideas: Triyodotironina 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trayodotironina 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 Tirox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iton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aratiro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ormona Paratiroidea (P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990720"/>
            <a:ext cx="853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066680"/>
            <a:ext cx="79250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Pancre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atost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peptido pancreatico (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Suprarren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rtez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tisol (Glucocortico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osterona (Mineralocortico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ogenos (Testostero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edul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renalina (Epinefr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adrenalina (Norepinefr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Gonad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vari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strog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e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esticu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sto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990720"/>
            <a:ext cx="762012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LAS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ad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 de crecimiento similar a insulina 1 (IGF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n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25 – Vitamina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tropoye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Coraz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ctor natriuretico  atrial (F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Tejido Adipos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p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elulas inmun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leukina 1 (I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eukina 6 (I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 de necrosis tumoral alfa (TNF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Placen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rog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e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nadotrofina corionica humana (HC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066680"/>
            <a:ext cx="861048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FINICION CLASIC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stancia quimica producida por glandulas que carecen de conductos y son liberadas al torrente circulatorio, por el cual viajan hasta alcanzar sus organos blancos o diana donde ejercen su efecto fisiolog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FINICION AC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STEMA NEUROINMUNOENDOCR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IFICACION DE LAS HORMO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GUN SU NATURALEZA QUIM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PROTEIC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einas y polipeptidos: Constituida por 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s de la Hipofisis, pancreas y paratiro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ESTERO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roides: Sintetizados a partir del c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s de la Corteza Suprarrenal, de las gonadas y de la plac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IC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rivadas de aminoacidos (Tiros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s del Tiro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s de la Medula Suprar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990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TESIS Y SE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3880"/>
            <a:ext cx="83818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EPTIDIC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ADN             ARNm             RER            Sintesis proteica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MONA        Golgi             PRO-HORMONA           PRE-PRO-HORM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zimas proteoliticas)                                (peptido senal – sin activ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aquetamiento en VESICULAS                Secrecion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CITOSIS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EROIDEA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COLESTE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ificad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cion o adicion de cadenas 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roxi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matizaciones del nucl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 almacenan                        Secrecion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U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676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676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1814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6002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733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6248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990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TESIS Y SE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295280"/>
            <a:ext cx="8305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MIN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ROIDE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intetizan y almacenan en Tiroides con TIROGLOBU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ecretan en forma libre al torrente sanguineo por DIFUSION por el lado basal de la cel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ULA SUPRARRE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intetizan a partir de Tirosina (aa)            Dopamina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CITOSIS                                           Vesiculas secre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eptidicas y catecolamin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BRE (hidrosolu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iroideas y esteroide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das a proteinas: GLOBULINAS (liposolu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38280" y="4191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3809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23:13:14Z</dcterms:created>
  <dc:creator>Tibisay</dc:creator>
  <dc:description/>
  <dc:language>en-US</dc:language>
  <cp:lastModifiedBy>Tibisay</cp:lastModifiedBy>
  <dcterms:modified xsi:type="dcterms:W3CDTF">2006-10-26T02:52:27Z</dcterms:modified>
  <cp:revision>30</cp:revision>
  <dc:subject/>
  <dc:title>Slide 1</dc:title>
</cp:coreProperties>
</file>