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A96E0-938F-4CEE-AB6B-01E804CB0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D456-7300-483C-809E-18294ADF4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0A759-6147-4FBB-B745-0AF61A68E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A8B8A-1933-4B8E-8617-7BA8AF707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906BE-4071-4608-80C3-E638E14CD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9FBE3-B5A7-4BEF-907C-DBDF01B03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476C9-35CD-49FC-842C-375AC197C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0165D-3581-41B9-82AC-FD2871FE1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FD691-672F-403E-941B-F5338BBB2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A1AE9-60B3-4995-A00A-7ED6BFDDB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77932-3539-4250-BD47-83FE619FF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601E3-5A44-4F5D-81E6-C9BE58E80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57636-1872-49D9-92DD-3DDD3579B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B3E19-7DBA-490F-A3E1-C6FBF803B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C2A1B-C510-4359-9EB6-C691213DE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6279C-70D1-4904-BFAB-18C5B6BA4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A4CE3-639C-444F-8119-B55D72E2C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B2FD-F470-48E1-8EEE-40D0C47CF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F949-E787-44F6-9DF1-87FD76781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DA14F-D7E9-43D5-9078-8C1BF049D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EB44-5016-4F10-ADAF-6DA5C6056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E3E9-E77B-4BB4-8509-085FE7BBF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F7BF-6E0D-426B-A1FA-86E36ED82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0162-01D6-4BB5-AA72-6D0E709D1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31CF-05DB-4E41-B7CD-A57F2F3D697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F74D-D73D-4D47-A3E5-D121307F475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CHOOL OBSERVATION</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ed by,</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MOHD SIRHAJWAN BIN IDEK </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AHMAD TAUFIK BIN MUHAMMAD TAHIR </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IBRAHIM BIN ISMAI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52280" y="304920"/>
            <a:ext cx="4572000" cy="6095880"/>
          </a:xfrm>
          <a:prstGeom prst="rect">
            <a:avLst/>
          </a:prstGeom>
          <a:ln w="0">
            <a:noFill/>
          </a:ln>
        </p:spPr>
      </p:pic>
      <p:pic>
        <p:nvPicPr>
          <p:cNvPr id="176" name="" descr=""/>
          <p:cNvPicPr/>
          <p:nvPr/>
        </p:nvPicPr>
        <p:blipFill>
          <a:blip r:embed="rId2"/>
          <a:stretch/>
        </p:blipFill>
        <p:spPr>
          <a:xfrm>
            <a:off x="4343400" y="304920"/>
            <a:ext cx="4572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Variety and Types of Techniques</a:t>
            </a:r>
            <a:endParaRPr b="0" lang="en-US" sz="5400" spc="-1" strike="noStrike">
              <a:solidFill>
                <a:srgbClr val="ccecff"/>
              </a:solidFill>
              <a:latin typeface="Arial"/>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ntroduction of the subject-matter</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Verdana"/>
              </a:rPr>
              <a:t>The use of pictures as stimuli:</a:t>
            </a:r>
            <a:r>
              <a:rPr b="0" lang="en-US" sz="1600" spc="-1" strike="noStrike">
                <a:solidFill>
                  <a:srgbClr val="ffffff"/>
                </a:solidFill>
                <a:latin typeface="Verdana"/>
              </a:rPr>
              <a:t> The teacher pasted some pictures on the board that depicted a particular object of home equipment mostly found in living room; sofa, telephone and table.  </a:t>
            </a:r>
            <a:r>
              <a:rPr b="0" i="1" lang="en-US" sz="1600" spc="-1" strike="noStrike">
                <a:solidFill>
                  <a:srgbClr val="ffffff"/>
                </a:solidFill>
                <a:latin typeface="Verdana"/>
              </a:rPr>
              <a:t>It is helpful especially for beginners in English to see a picture of a single object or person as the only focus of attention (Allen, 1983). In teaching beginners, pictures can be used to stimulate questions (Harmer, 2001).</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Verdana"/>
              </a:rPr>
              <a:t>Meaningful learning:</a:t>
            </a:r>
            <a:r>
              <a:rPr b="0" lang="en-US" sz="1600" spc="-1" strike="noStrike">
                <a:solidFill>
                  <a:srgbClr val="ffffff"/>
                </a:solidFill>
                <a:latin typeface="Verdana"/>
              </a:rPr>
              <a:t> The teacher asked the children what home equipment they had at home, the characteristics, the location and colour of the objects they had said. She was actually delving into children’s existing knowledge - in order to associate the lesson with the objects they were accustomed with.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Verdana"/>
              </a:rPr>
              <a:t>Immediate feedback for interference:</a:t>
            </a:r>
            <a:r>
              <a:rPr b="0" lang="en-US" sz="1600" spc="-1" strike="noStrike">
                <a:solidFill>
                  <a:srgbClr val="ffffff"/>
                </a:solidFill>
                <a:latin typeface="Verdana"/>
              </a:rPr>
              <a:t> The teacher provided an immediate feedback when the children mispronounced the name of the object. The teacher clarified that English Language was not the same with Malay Language. </a:t>
            </a:r>
            <a:r>
              <a:rPr b="0" i="1" lang="en-US" sz="1600" spc="-1" strike="noStrike">
                <a:solidFill>
                  <a:srgbClr val="ffffff"/>
                </a:solidFill>
                <a:latin typeface="Verdana"/>
              </a:rPr>
              <a:t>Errors of native language interference may be repaired by acquainting the learner with the native language cause of the error (Brown, 2001).</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pelling session</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The use of board as teaching note pad:</a:t>
            </a:r>
            <a:r>
              <a:rPr b="0" lang="en-GB" sz="1400" spc="-1" strike="noStrike">
                <a:solidFill>
                  <a:srgbClr val="ffffff"/>
                </a:solidFill>
                <a:latin typeface="Verdana"/>
              </a:rPr>
              <a:t> The teacher wrote 'sofa' on the board, spelled the word and stressed the full pronunciation, then the children followed out loud. </a:t>
            </a:r>
            <a:r>
              <a:rPr b="0" i="1" lang="en-GB" sz="1400" spc="-1" strike="noStrike">
                <a:solidFill>
                  <a:srgbClr val="ffffff"/>
                </a:solidFill>
                <a:latin typeface="Verdana"/>
              </a:rPr>
              <a:t>Writing words on the board can help teachers to show and stress a particular word which pupils can see and hear (Harmer, 2001).</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Selective attention:</a:t>
            </a:r>
            <a:r>
              <a:rPr b="0" lang="en-GB" sz="1400" spc="-1" strike="noStrike">
                <a:solidFill>
                  <a:srgbClr val="ffffff"/>
                </a:solidFill>
                <a:latin typeface="Verdana"/>
              </a:rPr>
              <a:t> The teacher called the children one by one using their names to the front and spelled the word written on the board. </a:t>
            </a:r>
            <a:r>
              <a:rPr b="0" i="1" lang="en-GB" sz="1400" spc="-1" strike="noStrike">
                <a:solidFill>
                  <a:srgbClr val="ffffff"/>
                </a:solidFill>
                <a:latin typeface="Verdana"/>
              </a:rPr>
              <a:t>The teacher was applying a metacognitive strategy of learning for the pupils through selective attention i.e. individual spelling. (O’ Malley and Chamot, 1990).</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Positive reinforcement:</a:t>
            </a:r>
            <a:r>
              <a:rPr b="0" lang="en-GB" sz="1400" spc="-1" strike="noStrike">
                <a:solidFill>
                  <a:srgbClr val="ffffff"/>
                </a:solidFill>
                <a:latin typeface="Verdana"/>
              </a:rPr>
              <a:t> The teacher provided them an optimal degree of praise and encouraged the student to reward each other with applause every time any of them finished performing a task given. </a:t>
            </a:r>
            <a:r>
              <a:rPr b="0" i="1" lang="en-GB" sz="1400" spc="-1" strike="noStrike">
                <a:solidFill>
                  <a:srgbClr val="ffffff"/>
                </a:solidFill>
                <a:latin typeface="Verdana"/>
              </a:rPr>
              <a:t>Anticipation of rewards is the most powerful factor in directing one’s behaviour (Brown, 2001).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Summary of the lesson:</a:t>
            </a:r>
            <a:r>
              <a:rPr b="0" lang="en-GB" sz="1400" spc="-1" strike="noStrike">
                <a:solidFill>
                  <a:srgbClr val="ffffff"/>
                </a:solidFill>
                <a:latin typeface="Verdana"/>
              </a:rPr>
              <a:t> At the end of the session, the teacher reasserted the word ‘sofa’ by saying it out loud and the children followed. The teacher asked the children about the characteristics of sofa again in order to ensure their understanding. </a:t>
            </a:r>
            <a:r>
              <a:rPr b="0" i="1" lang="en-GB" sz="1400" spc="-1" strike="noStrike">
                <a:solidFill>
                  <a:srgbClr val="ffffff"/>
                </a:solidFill>
                <a:latin typeface="Verdana"/>
              </a:rPr>
              <a:t>One of the cognitive learning strategies is summarizing which can be defined as an intermittent synthesis of what one has heard to ensure the information has been retained (O ‘Malley and Chamot, 1990).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riting session</a:t>
            </a:r>
            <a:r>
              <a:rPr b="0" lang="en-GB" sz="4400" spc="-1" strike="noStrike">
                <a:solidFill>
                  <a:srgbClr val="ccecff"/>
                </a:solidFill>
                <a:latin typeface="Arial"/>
              </a:rPr>
              <a:t> </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Word-making: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they completed the spelling session, the teacher asked the children to copy repeatedly the name of the object on a worksheet given to them.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As what Schickedanz and Casbergue (2004) point out, children start learning to write by experimenting with word making through writing mock word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first develop writing skills through experimenting with forms that do not convey a message and as they develop through time, they begin to interpret their writ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507960" y="380880"/>
            <a:ext cx="8128080" cy="6096240"/>
          </a:xfrm>
          <a:prstGeom prst="rect">
            <a:avLst/>
          </a:prstGeom>
          <a:ln w="0">
            <a:noFill/>
          </a:ln>
        </p:spPr>
      </p:pic>
      <p:pic>
        <p:nvPicPr>
          <p:cNvPr id="186" name="" descr=""/>
          <p:cNvPicPr/>
          <p:nvPr/>
        </p:nvPicPr>
        <p:blipFill>
          <a:blip r:embed="rId2"/>
          <a:stretch/>
        </p:blipFill>
        <p:spPr>
          <a:xfrm>
            <a:off x="4191120" y="3143160"/>
            <a:ext cx="4444920" cy="333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Discipline or behaviour proble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eacher controlled the class by gathering them in the middle of the class before the lesson started.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eacher verbally provided them immediate prohibition when they started doing other activities such as playing toys and wandered around the class or even went out of the cla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eacher had a stick and used them to hit the floor or table when the children made noise and used it to tap children who were disruptive as a punishment but it was not painful as it was just a tap on the ski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Physical activity and sensory input</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Sing-Along session:</a:t>
            </a:r>
            <a:r>
              <a:rPr b="0" lang="en-GB" sz="1800" spc="-1" strike="noStrike">
                <a:solidFill>
                  <a:srgbClr val="ffffff"/>
                </a:solidFill>
                <a:latin typeface="Verdana"/>
              </a:rPr>
              <a:t> They sang several songs together out loud and perform several body movements accompanying the songs. For example, as they sang about butterfly, they acted as a butterfly in line with the lyric. Songs and rhymes encourage them to speak English without the fear of making a mistake and do not need translation, they guess the meanings. </a:t>
            </a:r>
            <a:r>
              <a:rPr b="0" i="1" lang="en-GB" sz="1800" spc="-1" strike="noStrike">
                <a:solidFill>
                  <a:srgbClr val="ffffff"/>
                </a:solidFill>
                <a:latin typeface="Verdana"/>
              </a:rPr>
              <a:t>Singing enables children to pick up a lot of new words and the rhythm of the verses helps them to put the stress in the right place, creating a natural flow of language and building up fluency (Cebula, 2003).</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Physical exercise:</a:t>
            </a:r>
            <a:r>
              <a:rPr b="0" lang="en-GB" sz="1800" spc="-1" strike="noStrike">
                <a:solidFill>
                  <a:srgbClr val="ffffff"/>
                </a:solidFill>
                <a:latin typeface="Verdana"/>
              </a:rPr>
              <a:t> The teacher also conducted a brief aerobic exercise session when the children completed their works. As usual, the teacher gave direction while doing the movement followed by the children. The teacher was cautious when it came to turning their head to left and right as she carefully told them the right directions of left and right before they turned their head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447920" y="-228600"/>
            <a:ext cx="8127720" cy="6095880"/>
          </a:xfrm>
          <a:prstGeom prst="rect">
            <a:avLst/>
          </a:prstGeom>
          <a:ln w="0">
            <a:noFill/>
          </a:ln>
        </p:spPr>
      </p:pic>
      <p:pic>
        <p:nvPicPr>
          <p:cNvPr id="192" name="" descr=""/>
          <p:cNvPicPr/>
          <p:nvPr/>
        </p:nvPicPr>
        <p:blipFill>
          <a:blip r:embed="rId2"/>
          <a:stretch/>
        </p:blipFill>
        <p:spPr>
          <a:xfrm>
            <a:off x="228600" y="2819520"/>
            <a:ext cx="51307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pparent motivation and interest</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eacher offered rewards in form of praise and applause as intangible rewards for the children in order to give them motivation.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students were really active and enthusiastic as they always answered the teachers’ questions quickly and they always completed the teacher’s purposely uncompleted utterance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y seemed to be really eager to speak as they often raised their hands when they wanted to answer the questions and they did not wait for the teacher to call their names in their turn of answering the questions, they just yelled their answer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y also enjoyed the work given by the teacher as most of them repeated the same work after they completed their first work by taking another worksheet. The teacher did not ask them to repeat their work but they were the ones who wanted to do it agai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Date: 27th February 2008</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ime: 8.A.M - 10.A.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chool: Pre-School of SRK Kepayan, Kota Kinabalu.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lass: English Less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7960" y="380880"/>
            <a:ext cx="8128080" cy="6096240"/>
          </a:xfrm>
          <a:prstGeom prst="rect">
            <a:avLst/>
          </a:prstGeom>
          <a:ln w="0">
            <a:noFill/>
          </a:ln>
        </p:spPr>
      </p:pic>
      <p:pic>
        <p:nvPicPr>
          <p:cNvPr id="196" name="" descr=""/>
          <p:cNvPicPr/>
          <p:nvPr/>
        </p:nvPicPr>
        <p:blipFill>
          <a:blip r:embed="rId2"/>
          <a:stretch/>
        </p:blipFill>
        <p:spPr>
          <a:xfrm>
            <a:off x="2514600" y="3409920"/>
            <a:ext cx="4597560" cy="344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07960" y="380880"/>
            <a:ext cx="8128080" cy="6096240"/>
          </a:xfrm>
          <a:prstGeom prst="rect">
            <a:avLst/>
          </a:prstGeom>
          <a:ln w="0">
            <a:noFill/>
          </a:ln>
        </p:spPr>
      </p:pic>
      <p:sp>
        <p:nvSpPr>
          <p:cNvPr id="198" name=""/>
          <p:cNvSpPr txBox="1"/>
          <p:nvPr/>
        </p:nvSpPr>
        <p:spPr>
          <a:xfrm>
            <a:off x="5638680" y="609480"/>
            <a:ext cx="3276720" cy="64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T'S ALL!!</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9" name=""/>
          <p:cNvSpPr txBox="1"/>
          <p:nvPr/>
        </p:nvSpPr>
        <p:spPr>
          <a:xfrm rot="235200">
            <a:off x="5638320" y="1295280"/>
            <a:ext cx="3276720" cy="64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YOU!</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 entered the class earlier with the permission of the teacher.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classroom was painted colourfully and decorated with numerous attractive and colourful drawings, shapes, numbers, and some other item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t was well- equipped with computers, televisions, and CD player. The tables were arranged that they were close to the wall which left a large empty space in the middle of the clas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were many toys, game sets and simple science equipment. The students’ ages were 5 and 6 year old and they were wearing uniform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 the class started, we sat at the back of the class and started our observatio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495680" y="3733920"/>
            <a:ext cx="4648320" cy="3485880"/>
          </a:xfrm>
          <a:prstGeom prst="rect">
            <a:avLst/>
          </a:prstGeom>
          <a:ln w="0">
            <a:noFill/>
          </a:ln>
        </p:spPr>
      </p:pic>
      <p:pic>
        <p:nvPicPr>
          <p:cNvPr id="163" name="" descr=""/>
          <p:cNvPicPr/>
          <p:nvPr/>
        </p:nvPicPr>
        <p:blipFill>
          <a:blip r:embed="rId2"/>
          <a:stretch/>
        </p:blipFill>
        <p:spPr>
          <a:xfrm>
            <a:off x="6019920" y="0"/>
            <a:ext cx="2743200" cy="3657600"/>
          </a:xfrm>
          <a:prstGeom prst="rect">
            <a:avLst/>
          </a:prstGeom>
          <a:ln w="0">
            <a:noFill/>
          </a:ln>
        </p:spPr>
      </p:pic>
      <p:pic>
        <p:nvPicPr>
          <p:cNvPr id="164" name="" descr=""/>
          <p:cNvPicPr/>
          <p:nvPr/>
        </p:nvPicPr>
        <p:blipFill>
          <a:blip r:embed="rId3"/>
          <a:stretch/>
        </p:blipFill>
        <p:spPr>
          <a:xfrm>
            <a:off x="0" y="0"/>
            <a:ext cx="5664240" cy="42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Subject Matter</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rived from the theme of the week: ‘home equipment in living room’.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purpose of having a particular different theme - the emphasis on the subject-matter the children are going to learn for that week.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students’ point of view, words they are learning in non-native words do not seem really necessary because words in the mother tongue serve all practical purpose, thus, it is important to create in students’ mind a sense of personal need for a foreign word (Allen, 1983).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are only three objects they learned during the lesson; sofa, table and telephone.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hildren are considered to be at the beginning level. Thus, the lesson is centered on focal, controlled mode whereby the students are engaged in lots of repetition of a limited number of words, phrases, and sentenc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eacher Talk &amp; Student Talk</a:t>
            </a:r>
            <a:endParaRPr b="0" lang="en-US" sz="5400" spc="-1" strike="noStrike">
              <a:solidFill>
                <a:srgbClr val="ccec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acher Talk</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Direction:</a:t>
            </a:r>
            <a:r>
              <a:rPr b="0" lang="en-US" sz="2000" spc="-1" strike="noStrike">
                <a:solidFill>
                  <a:srgbClr val="ffffff"/>
                </a:solidFill>
                <a:latin typeface="Verdana"/>
              </a:rPr>
              <a:t> The teacher gave brief, simple and clear direction when she wanted the student to pay attention or carry out certain tasks.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Correction without rejection:</a:t>
            </a:r>
            <a:r>
              <a:rPr b="0" lang="en-US" sz="2000" spc="-1" strike="noStrike">
                <a:solidFill>
                  <a:srgbClr val="ffffff"/>
                </a:solidFill>
                <a:latin typeface="Verdana"/>
              </a:rPr>
              <a:t> One of the students made mistake by answering fish when they were asked to name the home-equipment at their home, the teacher immediately corrected the student’s answer but she did not totally dismiss it. In fact, she associated the fish with aquarium as one of the home-equipment.</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Question:</a:t>
            </a:r>
            <a:r>
              <a:rPr b="0" lang="en-US" sz="2000" spc="-1" strike="noStrike">
                <a:solidFill>
                  <a:srgbClr val="ffffff"/>
                </a:solidFill>
                <a:latin typeface="Verdana"/>
              </a:rPr>
              <a:t> The teacher often asked the children questions in order to increase their participation in the clas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acher Talk (cont.)</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Praise and encourage:</a:t>
            </a:r>
            <a:r>
              <a:rPr b="0" lang="en-US" sz="1800" spc="-1" strike="noStrike">
                <a:solidFill>
                  <a:srgbClr val="ffffff"/>
                </a:solidFill>
                <a:latin typeface="Verdana"/>
              </a:rPr>
              <a:t> For children who appeared to be quiet, the teacher reaffirmed and reassured their ability that they were capable of performing the task. </a:t>
            </a:r>
            <a:r>
              <a:rPr b="0" i="1" lang="en-US" sz="1800" spc="-1" strike="noStrike">
                <a:solidFill>
                  <a:srgbClr val="ffffff"/>
                </a:solidFill>
                <a:latin typeface="Verdana"/>
              </a:rPr>
              <a:t>This, could enhance the children’s self-confidence in their own abilities (Brown, 2001).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Use ideas of students:</a:t>
            </a:r>
            <a:r>
              <a:rPr b="0" lang="en-US" sz="1800" spc="-1" strike="noStrike">
                <a:solidFill>
                  <a:srgbClr val="ffffff"/>
                </a:solidFill>
                <a:latin typeface="Verdana"/>
              </a:rPr>
              <a:t> The teacher used students’ ideas as means to elaborate more about the subject-matter and to enhance students’ understanding.</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Use of native language:</a:t>
            </a:r>
            <a:r>
              <a:rPr b="0" lang="en-US" sz="1800" spc="-1" strike="noStrike">
                <a:solidFill>
                  <a:srgbClr val="ffffff"/>
                </a:solidFill>
                <a:latin typeface="Verdana"/>
              </a:rPr>
              <a:t> The teacher gave directions in English language before she translated them into Malay Language in order for the children to comprehend them. As for beginners the use of native language is allowed for several reasons. In this case, the negotiation of management factors and brief description of direction are the reasons which allow the teacher to use the native language of the childre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udent Talk</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Student response:</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Open-ended answers, when the teacher asks them question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Various answers - most of them managed to give appropriate answers while few of them gave inappropriate answers but they were still free to say their answers since the teacher accepted all their answers and provided some corrections if necessary.</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Work-oriented:</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y were really eager to respond that they said their answers out loud simultaneously.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lthough there were lots of commotion but the class was active.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Most of the time, w</a:t>
            </a:r>
            <a:r>
              <a:rPr b="0" lang="en-US" sz="1800" spc="-1" strike="noStrike">
                <a:solidFill>
                  <a:srgbClr val="ffffff"/>
                </a:solidFill>
                <a:latin typeface="Verdana"/>
              </a:rPr>
              <a:t>hen the teacher uttered a sentence, she did not finish it but put a high intonation on the last word which would be continued and completed by the children.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RAHIM</cp:lastModifiedBy>
  <dcterms:modified xsi:type="dcterms:W3CDTF">2008-03-11T11:25:37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