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Muziek_18.wav" ContentType="audio/x-wav"/>
  <Override PartName="/ppt/media/Afric%20Simone%20-%20Ramaya.wav" ContentType="audio/x-wav"/>
  <Override PartName="/ppt/media/image10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18.wmf" ContentType="image/x-wmf"/>
  <Override PartName="/ppt/media/image4.jpeg" ContentType="image/jpeg"/>
  <Override PartName="/ppt/media/image22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7.png" ContentType="image/png"/>
  <Override PartName="/ppt/media/image16.jpeg" ContentType="image/jpeg"/>
  <Override PartName="/ppt/media/image1.gif" ContentType="image/gif"/>
  <Override PartName="/ppt/media/image24.gif" ContentType="image/gif"/>
  <Override PartName="/ppt/media/image15.jpeg" ContentType="image/jpeg"/>
  <Override PartName="/ppt/media/image3.gif" ContentType="image/gif"/>
  <Override PartName="/ppt/media/image26.gif" ContentType="image/gif"/>
  <Override PartName="/ppt/media/image14.jpeg" ContentType="image/jpeg"/>
  <Override PartName="/ppt/media/image13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071-5D59-4A3B-90EA-CE0F742C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887-9D05-4244-B150-2D8CD55F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E98-9175-407A-8C27-F47A8812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41C-7086-42AB-BB0C-9D3A9F97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2BF-7F9C-411D-8BDB-B2A91519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9CF-DB70-4FE0-9B1A-A2C743B2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FA4-B450-464D-B10F-058B4C21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2CD-4EB6-4FF4-AEF3-2EB43A63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33B-83AD-419B-916F-D5F3B625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675-8F1F-45A6-B76E-DBE0ACD1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F05-049F-4894-A54D-28756E76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0D1-CFEF-445E-AAFD-B8B00016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59A-A003-4510-8137-50061D917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8.xml"/><Relationship Id="rId5" Type="http://schemas.openxmlformats.org/officeDocument/2006/relationships/slide" Target="slide41.xml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audio" Target="../media/Muziek_18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audio" Target="../media/Afric%20Simone%20-%20Ramaya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XYZ grapje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ek vr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 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wakste scha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wanger of ni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w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762120"/>
            <a:ext cx="8382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Vraag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2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ien U de laatste inhaal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p welke plaats staat U dan?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572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Indien U de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voorlaatste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geantwoord hebt, bent U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alweer verkeerd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Denk eens na ...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Hoe kunt U de laatst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nou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inhale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ls U achter hem bent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,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is hij toch de laatste niet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Men zou zeggen dat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nadenken niet </a:t>
            </a:r>
            <a:r>
              <a:rPr b="1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uw specialiteit niet 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 zou een goede zwakke schakel zijn !!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2349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60480"/>
            <a:ext cx="56386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Vraag 3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Neem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Tel er 40 bi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Tel nog eens 1000 erbi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Tel 30 erbi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Nog eens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Plus 2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Plus 10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En plus 1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at is het totaal ?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335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5000 ???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lweer fout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Het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goede antwoord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is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4100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. Doe het met een rekenmachine en kijk!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Blijkbaar hebt U geen goede dag !! De laatste zou toch beter moete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gaan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't Is een makki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De vader van Marise heeft 5 dochter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1. Ch</a:t>
            </a:r>
            <a:r>
              <a:rPr b="0" i="1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</a:t>
            </a: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2. Ch</a:t>
            </a:r>
            <a:r>
              <a:rPr b="0" i="1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e</a:t>
            </a: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3. Ch</a:t>
            </a:r>
            <a:r>
              <a:rPr b="0" i="1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i</a:t>
            </a: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ch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4. Ch</a:t>
            </a:r>
            <a:r>
              <a:rPr b="0" i="1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o</a:t>
            </a:r>
            <a:r>
              <a:rPr b="0" lang="fr-FR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5. 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atste 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raag: Wat is de naam van de vijfde dochter?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3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ntwoord: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Chuchu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??? Mis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Het is natuurlijk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Marise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,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lees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de vraag nog maar eens goed!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bent werkelijk d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wakste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akel........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0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 ZIEN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791160" cy="277812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wangerschaps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Een achttienjarige meid vertelt haar moeder dat ze al twee maanden over  tijd is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228600"/>
            <a:ext cx="829476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en hopeloze man zet een advertentie in de krant :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371600"/>
            <a:ext cx="6894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elp ik zoek een vrouw !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5013360"/>
            <a:ext cx="8534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wee dagen later krijgt hij een postzak vol met brieven waarin sta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6000" y="5661000"/>
            <a:ext cx="716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 krijgt de mij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962360" cy="218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79640" y="2276640"/>
            <a:ext cx="1942920" cy="155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08360" y="2565360"/>
            <a:ext cx="1793880" cy="214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508720" y="2133720"/>
            <a:ext cx="1873080" cy="213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308720" y="3068640"/>
            <a:ext cx="1636920" cy="201780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eel ongerust gaat de moeder naar de apotheek en koopt een zwangerschapstes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et resultaat van de test toont aan dat ze inderdaad zwanger i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Schreeuwend, vloekend, wenend roept de moeder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"wie is dat varken dat jou dit geflikt heeft?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Ik wil het weten !!"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De dochter neemt de telefoon en belt even. Een half uur later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...stopt een Ferrari voor de deur, een volwassen en gedistingeerd man stapt uit, lichtjes grijzend en gekleed in Versace-kostuum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ij wandelt naar de voordeur en belt aan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Ze laten hem binnen in de woonkamer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ij zit neer bij vader, moeder en dochter en hij begint tegen de ouders te praten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"Goedemorgen, uw dochter heeft mij geïnformeerd over het probleem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66680" y="609480"/>
            <a:ext cx="691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LBERTO</a:t>
            </a:r>
            <a:endParaRPr b="1" lang="en-US" sz="7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8920" y="2421000"/>
            <a:ext cx="626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ESENTEERT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10920" y="217440"/>
            <a:ext cx="60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9600" spc="-1" strike="noStrike">
                <a:solidFill>
                  <a:srgbClr val="ff3300"/>
                </a:solidFill>
                <a:latin typeface="Times New Roman"/>
              </a:rPr>
              <a:t>ALBERTO</a:t>
            </a:r>
            <a:r>
              <a:rPr b="1" i="1" lang="nl-NL" sz="8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7640" y="2189160"/>
            <a:ext cx="741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eaeaea"/>
                </a:solidFill>
                <a:latin typeface="Times New Roman"/>
              </a:rPr>
              <a:t>PRESENTEER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600" y="3894120"/>
            <a:ext cx="7844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800" spc="-1" strike="noStrike">
                <a:solidFill>
                  <a:srgbClr val="333399"/>
                </a:solidFill>
                <a:latin typeface="Times New Roman"/>
              </a:rPr>
              <a:t>POWERPOIN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i="1" lang="nl-NL" sz="8800" spc="-1" strike="noStrike">
                <a:solidFill>
                  <a:srgbClr val="333399"/>
                </a:solidFill>
                <a:latin typeface="Times New Roman"/>
              </a:rPr>
              <a:t>SHOW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5661000"/>
            <a:ext cx="115272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883640" y="5661000"/>
            <a:ext cx="1152360" cy="10112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heel spokes="8"/>
    <p:sndAc>
      <p:stSnd>
        <p:snd r:embed="rId4" name="Muziek_18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Helaas kan ik niet met haar trouwen omwille van mijn persoonlijke familiale situati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maar ik  zal ervoor zorgen dat het kindje niks tekort komt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Als het een meisje is, dan laat ik haar 2 supermarkten, een huis in de sta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een villa op het strand en een miljoen euro op een bankrekening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Als een jongen wordt geboren, dan schenk ik hem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twee fabrieken en twee miljoen op een bankrekening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Als het een tweeling wordt, dan krijgt elk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een fabriek en een miljoen euro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Als het daarentegen een miskraam wordt..."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Op dit moment onderbreekt 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vader hem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… </a:t>
            </a: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legt een stevige   hand op zijn 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schouder en zeg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5438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4248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81280" y="84240"/>
            <a:ext cx="55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Times New Roman"/>
              </a:rPr>
              <a:t>Fijn weekend toegewen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76720" y="5445000"/>
            <a:ext cx="2619360" cy="104796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"Als dat gebeurt,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 Black"/>
              </a:rPr>
              <a:t>dan slaap je nog eens met haar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6"/>
          <p:cNvSpPr txBox="1"/>
          <p:nvPr/>
        </p:nvSpPr>
        <p:spPr>
          <a:xfrm>
            <a:off x="571680" y="2762280"/>
            <a:ext cx="80010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emba ni betalen 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geld"/>
          <p:cNvPicPr/>
          <p:nvPr/>
        </p:nvPicPr>
        <p:blipFill>
          <a:blip r:embed="rId1"/>
          <a:stretch/>
        </p:blipFill>
        <p:spPr>
          <a:xfrm>
            <a:off x="3537000" y="444600"/>
            <a:ext cx="2070000" cy="138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met_muziekale_begeleiding"/>
          <p:cNvPicPr/>
          <p:nvPr/>
        </p:nvPicPr>
        <p:blipFill>
          <a:blip r:embed="rId2"/>
          <a:stretch/>
        </p:blipFill>
        <p:spPr>
          <a:xfrm>
            <a:off x="2343240" y="5562720"/>
            <a:ext cx="4457520" cy="676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Afric%20Simone%20-%20Ramaya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eroep_32"/>
          <p:cNvPicPr/>
          <p:nvPr/>
        </p:nvPicPr>
        <p:blipFill>
          <a:blip r:embed="rId1"/>
          <a:stretch/>
        </p:blipFill>
        <p:spPr>
          <a:xfrm>
            <a:off x="6016680" y="333360"/>
            <a:ext cx="2606760" cy="2735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60280" y="1249200"/>
            <a:ext cx="7893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Een buschauff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stopt voor een hal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waar een neger opstap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ie zegt: “Ikke Moemb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ikke ni betalen,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loopt door en gaat z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8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3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3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4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3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3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284040" y="380880"/>
            <a:ext cx="7710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Nu die vent is twee meter gr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en één meter breed en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chauffeur maar de helft van d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alles, dus die besluit v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wijselijk zijn mond te houd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en rijdt ve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D:\Mijn Documenten\Bijlagen\Gif Werkmap\VW busje Animatie.gif"/>
          <p:cNvPicPr/>
          <p:nvPr/>
        </p:nvPicPr>
        <p:blipFill>
          <a:blip r:embed="rId1"/>
          <a:stretch/>
        </p:blipFill>
        <p:spPr>
          <a:xfrm>
            <a:off x="0" y="5286240"/>
            <a:ext cx="9144000" cy="149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3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1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3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9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3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7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3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3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3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235080" y="639720"/>
            <a:ext cx="7540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e volgende morg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Ikke Moemb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ikke ni betale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e morgen daarna h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zelfde scenari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Na twee weken is de chauff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at uiteraard kotsbeu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(Hij moet bovendien elke k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het verschil bijpassen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apart4"/>
          <p:cNvPicPr/>
          <p:nvPr/>
        </p:nvPicPr>
        <p:blipFill>
          <a:blip r:embed="rId1"/>
          <a:stretch/>
        </p:blipFill>
        <p:spPr>
          <a:xfrm>
            <a:off x="6877080" y="549360"/>
            <a:ext cx="14144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3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4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3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6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3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8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7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3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3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7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3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32200" y="304920"/>
            <a:ext cx="816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Hij besluit de hulp van zij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collega’s in te roe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e volgende dag zitten ze m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z’n tienen op de bus als de ne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weer opstapt en zeg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Ikke Moemba, ikke ni betale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bus29"/>
          <p:cNvPicPr/>
          <p:nvPr/>
        </p:nvPicPr>
        <p:blipFill>
          <a:blip r:embed="rId1"/>
          <a:stretch/>
        </p:blipFill>
        <p:spPr>
          <a:xfrm>
            <a:off x="3492360" y="429264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3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3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3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8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6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3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3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31120" y="517680"/>
            <a:ext cx="853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Ze vliegen daar met z’n all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op en Moemba krijgt daar h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pak slaag van z’n leven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Daarna vraagt de buschauffeu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Ha zo, gij Moemba, gij ni betal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0000"/>
                </a:solidFill>
                <a:latin typeface="Arial"/>
              </a:rPr>
              <a:t>En waarom Moemba ni betalen 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politie_04"/>
          <p:cNvPicPr/>
          <p:nvPr/>
        </p:nvPicPr>
        <p:blipFill>
          <a:blip r:embed="rId1"/>
          <a:stretch/>
        </p:blipFill>
        <p:spPr>
          <a:xfrm>
            <a:off x="533520" y="4773600"/>
            <a:ext cx="1382760" cy="1728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olitie_04"/>
          <p:cNvPicPr/>
          <p:nvPr/>
        </p:nvPicPr>
        <p:blipFill>
          <a:blip r:embed="rId2"/>
          <a:stretch/>
        </p:blipFill>
        <p:spPr>
          <a:xfrm>
            <a:off x="2209680" y="4773600"/>
            <a:ext cx="1382760" cy="172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politie_04"/>
          <p:cNvPicPr/>
          <p:nvPr/>
        </p:nvPicPr>
        <p:blipFill>
          <a:blip r:embed="rId3"/>
          <a:stretch/>
        </p:blipFill>
        <p:spPr>
          <a:xfrm>
            <a:off x="3886200" y="4773600"/>
            <a:ext cx="1382760" cy="1728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politie_04"/>
          <p:cNvPicPr/>
          <p:nvPr/>
        </p:nvPicPr>
        <p:blipFill>
          <a:blip r:embed="rId4"/>
          <a:stretch/>
        </p:blipFill>
        <p:spPr>
          <a:xfrm>
            <a:off x="5638680" y="4773600"/>
            <a:ext cx="1382760" cy="172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politie_04"/>
          <p:cNvPicPr/>
          <p:nvPr/>
        </p:nvPicPr>
        <p:blipFill>
          <a:blip r:embed="rId5"/>
          <a:stretch/>
        </p:blipFill>
        <p:spPr>
          <a:xfrm>
            <a:off x="7391520" y="4773600"/>
            <a:ext cx="13827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3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3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3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1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3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9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3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4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3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27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3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man11"/>
          <p:cNvPicPr/>
          <p:nvPr/>
        </p:nvPicPr>
        <p:blipFill>
          <a:blip r:embed="rId1"/>
          <a:stretch/>
        </p:blipFill>
        <p:spPr>
          <a:xfrm>
            <a:off x="3851280" y="907920"/>
            <a:ext cx="2220840" cy="27241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228600" y="3049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Zegt de neg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81080" y="4869000"/>
            <a:ext cx="863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000000"/>
                </a:solidFill>
                <a:latin typeface="Arial"/>
              </a:rPr>
              <a:t>Moemba, abonnement…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380360" y="3860640"/>
            <a:ext cx="799920" cy="10764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3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2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7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ij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 de zwakste schak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3244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Courier New"/>
              </a:rPr>
              <a:t>Laten wij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eens kijken </a:t>
            </a: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Courier New"/>
              </a:rPr>
              <a:t>wat Uw intellectueel niveau is door middel va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en heel eenvoudige te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opgebouwd uit een 4-tal vragen.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1722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2120"/>
            <a:ext cx="8382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Vraag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U neemt deel aan een loopwedstrijd, U loopt de tweede voorbi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Als 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hoeveelste zult U dan eindige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85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ien U geantwoord hebt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eerste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te zijn dan bent U totaal verkeerd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00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U hebt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e tweede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Courier New"/>
              </a:rPr>
              <a:t> ingehaald en hebt zijn plaats ingenomen, dus bent U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d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</a:t>
            </a:r>
            <a:r>
              <a:rPr b="1" lang="nl-NL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eede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2670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en 2e poging nu en probeer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tweede vraag wat sneller te beantwoorden!!</a:t>
            </a:r>
            <a:r>
              <a:rPr b="0" lang="nl-NL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36846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12-18T19:58:42Z</dcterms:modified>
  <cp:revision>13</cp:revision>
  <dc:subject/>
  <dc:title>Dia 1</dc:title>
</cp:coreProperties>
</file>