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Muziek_18.wav" ContentType="audio/x-wav"/>
  <Override PartName="/ppt/media/Afric%20Simone%20-%20Ramaya.wav" ContentType="audio/x-wav"/>
  <Override PartName="/ppt/media/image10.gif" ContentType="image/gif"/>
  <Override PartName="/ppt/media/image9.gif" ContentType="image/gif"/>
  <Override PartName="/ppt/media/image8.jpeg" ContentType="image/jpeg"/>
  <Override PartName="/ppt/media/image2.gif" ContentType="image/gif"/>
  <Override PartName="/ppt/media/image25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18.wmf" ContentType="image/x-wmf"/>
  <Override PartName="/ppt/media/image4.jpeg" ContentType="image/jpeg"/>
  <Override PartName="/ppt/media/image22.gif" ContentType="image/gif"/>
  <Override PartName="/ppt/media/image23.gif" ContentType="image/gif"/>
  <Override PartName="/ppt/media/image21.gif" ContentType="image/gif"/>
  <Override PartName="/ppt/media/image19.gif" ContentType="image/gif"/>
  <Override PartName="/ppt/media/image17.png" ContentType="image/png"/>
  <Override PartName="/ppt/media/image16.jpeg" ContentType="image/jpeg"/>
  <Override PartName="/ppt/media/image1.gif" ContentType="image/gif"/>
  <Override PartName="/ppt/media/image24.gif" ContentType="image/gif"/>
  <Override PartName="/ppt/media/image15.jpeg" ContentType="image/jpeg"/>
  <Override PartName="/ppt/media/image3.gif" ContentType="image/gif"/>
  <Override PartName="/ppt/media/image26.gif" ContentType="image/gif"/>
  <Override PartName="/ppt/media/image14.jpeg" ContentType="image/jpeg"/>
  <Override PartName="/ppt/media/image13.jpeg" ContentType="image/jpe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88C6-BE6C-48F7-AD81-6B514DC5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7B25-A86D-4217-8094-C9D1B533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F46A-C459-4A5B-8326-402EEA6A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619-D6CA-4D28-AA3E-D7CA88E5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C8D-D64E-4E8F-9BD5-6388F2EC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0E88-70E5-4025-A0FF-6DDE8C12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2AD7-67C6-46F5-8BE6-30967BA2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CB9-9DBA-49DC-A13D-68E02404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3934-35A3-441D-8552-1FF92233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015E-7D75-4D16-AA99-EDF6ECE8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89D-F534-4B93-BF19-6FE13FF5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6ED6-D6C7-4D72-9115-EE63411A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63CD-73BB-4346-B2BF-01B638BD4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18.xml"/><Relationship Id="rId5" Type="http://schemas.openxmlformats.org/officeDocument/2006/relationships/slide" Target="slide41.xml"/><Relationship Id="rId6" Type="http://schemas.openxmlformats.org/officeDocument/2006/relationships/image" Target="../media/image1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audio" Target="../media/Muziek_18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gif"/><Relationship Id="rId3" Type="http://schemas.openxmlformats.org/officeDocument/2006/relationships/audio" Target="../media/Afric%20Simone%20-%20Ramaya.wav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BE" sz="4000" spc="-1" strike="noStrike">
                <a:solidFill>
                  <a:srgbClr val="ffffff"/>
                </a:solidFill>
                <a:latin typeface="Arial"/>
              </a:rPr>
              <a:t>XYZ grapjes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17928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ek vrou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1042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 ma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wakste scha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wanger of nie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324000" y="5157720"/>
            <a:ext cx="395892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wa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6516720" y="981000"/>
            <a:ext cx="1368360" cy="84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762120"/>
            <a:ext cx="8382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Vraag 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2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ien U de laatste inhaalt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p welke plaats staat U dan?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45720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Indien U de </a:t>
            </a:r>
            <a:r>
              <a:rPr b="1" lang="nl-NL" sz="4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voorlaatste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 geantwoord hebt, bent U </a:t>
            </a:r>
            <a:r>
              <a:rPr b="1" lang="nl-NL" sz="4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alweer verkeerd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Denk eens na ...</a:t>
            </a:r>
            <a:r>
              <a:rPr b="1" lang="nl-NL" sz="4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Hoe kunt U de laatst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nou </a:t>
            </a:r>
            <a:r>
              <a:rPr b="1" lang="nl-NL" sz="4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inhale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Als U achter hem bent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,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 is hij toch de laatste niet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2286000"/>
            <a:ext cx="899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Men zou zeggen dat 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nadenken niet </a:t>
            </a:r>
            <a:r>
              <a:rPr b="1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uw specialiteit niet 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nl-NL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 zou een goede zwakke schakel zijn !!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352680" y="380880"/>
            <a:ext cx="23497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60480"/>
            <a:ext cx="563868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Vraag 3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Neem 100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Tel er 40 bij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Tel nog eens 1000 erbij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Tel 30 erbij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Nog eens 100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Plus 2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Plus 100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En plus 1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Wat is het totaal ?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53352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5000 ???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Alweer fout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Het </a:t>
            </a:r>
            <a:r>
              <a:rPr b="1" lang="nl-NL" sz="4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goede antwoord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 is </a:t>
            </a:r>
            <a:r>
              <a:rPr b="1" lang="nl-NL" sz="4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4100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. Doe het met een rekenmachine en kijk!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Blijkbaar hebt U geen goede dag !! De laatste zou toch beter moeten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 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gaan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't Is een makki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860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De vader van Marise heeft 5 dochters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1. Ch</a:t>
            </a:r>
            <a:r>
              <a:rPr b="0" i="1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a</a:t>
            </a:r>
            <a:r>
              <a:rPr b="0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c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2. Ch</a:t>
            </a:r>
            <a:r>
              <a:rPr b="0" i="1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e</a:t>
            </a:r>
            <a:r>
              <a:rPr b="0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3. Ch</a:t>
            </a:r>
            <a:r>
              <a:rPr b="0" i="1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i</a:t>
            </a:r>
            <a:r>
              <a:rPr b="0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ch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4. Ch</a:t>
            </a:r>
            <a:r>
              <a:rPr b="0" i="1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o</a:t>
            </a:r>
            <a:r>
              <a:rPr b="0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c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5. ?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atste 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raag: Wat is de naam van de vijfde dochter?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15238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Antwoord: </a:t>
            </a:r>
            <a:r>
              <a:rPr b="1" lang="nl-NL" sz="4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Chuchu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 ??? Mis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Het is natuurlijk </a:t>
            </a:r>
            <a:r>
              <a:rPr b="1" lang="nl-NL" sz="4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Marise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, 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lees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 de vraag nog maar eens goed!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3049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bent werkelijk d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wakste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chakel........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1055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 ZIEN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3791160" cy="277812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wangerschaps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Een achttienjarige meid vertelt haar moeder dat ze al twee maanden over  tijd is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80880" y="228600"/>
            <a:ext cx="829476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en hopeloze man zet een advertentie in de krant :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371600"/>
            <a:ext cx="6894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elp ik zoek een vrouw !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5013360"/>
            <a:ext cx="8534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wee dagen later krijgt hij een postzak vol met brieven waarin sta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16000" y="5661000"/>
            <a:ext cx="716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e krijgt de mij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1962360" cy="2184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79640" y="2276640"/>
            <a:ext cx="1942920" cy="155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708360" y="2565360"/>
            <a:ext cx="1793880" cy="2149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508720" y="2133720"/>
            <a:ext cx="1873080" cy="2133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7308720" y="3068640"/>
            <a:ext cx="1636920" cy="201780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Heel ongerust gaat de moeder naar de apotheek en koopt een zwangerschapstes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Het resultaat van de test toont aan dat ze inderdaad zwanger i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Schreeuwend, vloekend, wenend roept de moeder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"wie is dat varken dat jou dit geflikt heeft?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Ik wil het weten !!"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De dochter neemt de telefoon en belt even. Een half uur later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...stopt een Ferrari voor de deur, een volwassen en gedistingeerd man stapt uit, lichtjes grijzend en gekleed in Versace-kostuum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Hij wandelt naar de voordeur en belt aan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Ze laten hem binnen in de woonkamer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hij zit neer bij vader, moeder en dochter en hij begint tegen de ouders te praten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"Goedemorgen, uw dochter heeft mij geïnformeerd over het probleem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066680" y="609480"/>
            <a:ext cx="6912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LBERTO</a:t>
            </a:r>
            <a:endParaRPr b="1" lang="en-US" sz="7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58920" y="2421000"/>
            <a:ext cx="626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RESENTEERT</a:t>
            </a:r>
            <a:endParaRPr b="1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10920" y="217440"/>
            <a:ext cx="608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9600" spc="-1" strike="noStrike">
                <a:solidFill>
                  <a:srgbClr val="ff3300"/>
                </a:solidFill>
                <a:latin typeface="Times New Roman"/>
              </a:rPr>
              <a:t>ALBERTO</a:t>
            </a:r>
            <a:r>
              <a:rPr b="1" i="1" lang="nl-NL" sz="8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7640" y="2189160"/>
            <a:ext cx="741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eaeaea"/>
                </a:solidFill>
                <a:latin typeface="Times New Roman"/>
              </a:rPr>
              <a:t>PRESENTEER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600" y="3894120"/>
            <a:ext cx="7844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800" spc="-1" strike="noStrike">
                <a:solidFill>
                  <a:srgbClr val="333399"/>
                </a:solidFill>
                <a:latin typeface="Times New Roman"/>
              </a:rPr>
              <a:t>POWERPOINT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8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i="1" lang="nl-NL" sz="8800" spc="-1" strike="noStrike">
                <a:solidFill>
                  <a:srgbClr val="333399"/>
                </a:solidFill>
                <a:latin typeface="Times New Roman"/>
              </a:rPr>
              <a:t>SHOW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9280" y="5661000"/>
            <a:ext cx="1152720" cy="101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883640" y="5661000"/>
            <a:ext cx="1152360" cy="10112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heel spokes="8"/>
    <p:sndAc>
      <p:stSnd>
        <p:snd r:embed="rId4" name="Muziek_18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Helaas kan ik niet met haar trouwen omwille van mijn persoonlijke familiale situati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maar ik  zal ervoor zorgen dat het kindje niks tekort komt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Als het een meisje is, dan laat ik haar 2 supermarkten, een huis in de stad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een villa op het strand en een miljoen euro op een bankrekening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Als een jongen wordt geboren, dan schenk ik hem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twee fabrieken en twee miljoen op een bankrekening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Als het een tweeling wordt, dan krijgt elk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een fabriek en een miljoen euro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Als het daarentegen een miskraam wordt..."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Op dit moment onderbreekt de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vader hem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… </a:t>
            </a: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legt een stevige   hand op zijn 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schouder en zeg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616720" cy="4248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781280" y="84240"/>
            <a:ext cx="559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66"/>
                </a:solidFill>
                <a:latin typeface="Times New Roman"/>
              </a:rPr>
              <a:t>Fijn weekend toegewen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276720" y="5445000"/>
            <a:ext cx="2619360" cy="104796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3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"Als dat gebeurt,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dan slaap je nog eens met haar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6"/>
          <p:cNvSpPr txBox="1"/>
          <p:nvPr/>
        </p:nvSpPr>
        <p:spPr>
          <a:xfrm>
            <a:off x="571680" y="2762280"/>
            <a:ext cx="800100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emba ni betalen !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Picture 7" descr="geld"/>
          <p:cNvPicPr/>
          <p:nvPr/>
        </p:nvPicPr>
        <p:blipFill>
          <a:blip r:embed="rId1"/>
          <a:stretch/>
        </p:blipFill>
        <p:spPr>
          <a:xfrm>
            <a:off x="3537000" y="444600"/>
            <a:ext cx="2070000" cy="1384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met_muziekale_begeleiding"/>
          <p:cNvPicPr/>
          <p:nvPr/>
        </p:nvPicPr>
        <p:blipFill>
          <a:blip r:embed="rId2"/>
          <a:stretch/>
        </p:blipFill>
        <p:spPr>
          <a:xfrm>
            <a:off x="2343240" y="5562720"/>
            <a:ext cx="4457520" cy="676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Afric%20Simone%20-%20Ramaya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eroep_32"/>
          <p:cNvPicPr/>
          <p:nvPr/>
        </p:nvPicPr>
        <p:blipFill>
          <a:blip r:embed="rId1"/>
          <a:stretch/>
        </p:blipFill>
        <p:spPr>
          <a:xfrm>
            <a:off x="6016680" y="333360"/>
            <a:ext cx="2606760" cy="2735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260280" y="1249200"/>
            <a:ext cx="7893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Een buschauffe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stopt voor een hal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waar een neger opstap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Die zegt: “Ikke Moemb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ikke ni betalen,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loopt door en gaat zitt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3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3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8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3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3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3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3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3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4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3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6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3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284040" y="380880"/>
            <a:ext cx="7710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Nu die vent is twee meter gro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en één meter breed en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chauffeur maar de helft van d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alles, dus die besluit v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wijselijk zijn mond te houd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en rijdt ver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D:\Mijn Documenten\Bijlagen\Gif Werkmap\VW busje Animatie.gif"/>
          <p:cNvPicPr/>
          <p:nvPr/>
        </p:nvPicPr>
        <p:blipFill>
          <a:blip r:embed="rId1"/>
          <a:stretch/>
        </p:blipFill>
        <p:spPr>
          <a:xfrm>
            <a:off x="0" y="5286240"/>
            <a:ext cx="9144000" cy="149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3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1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3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9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3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7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3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3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3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235080" y="639720"/>
            <a:ext cx="7540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De volgende morg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Ikke Moemb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ikke ni betalen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De morgen daarna he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zelfde scenario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Na twee weken is de chauffe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dat uiteraard kotsbeu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(Hij moet bovendien elke k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het verschil bijpassen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apart4"/>
          <p:cNvPicPr/>
          <p:nvPr/>
        </p:nvPicPr>
        <p:blipFill>
          <a:blip r:embed="rId1"/>
          <a:stretch/>
        </p:blipFill>
        <p:spPr>
          <a:xfrm>
            <a:off x="6877080" y="549360"/>
            <a:ext cx="141444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3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2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3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4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3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6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3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8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3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7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3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3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7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3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3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232200" y="304920"/>
            <a:ext cx="8160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Hij besluit de hulp van zij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collega’s in te roep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De volgende dag zitten ze me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z’n tienen op de bus als de ne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weer opstapt en zeg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Ikke Moemba, ikke ni betalen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bus29"/>
          <p:cNvPicPr/>
          <p:nvPr/>
        </p:nvPicPr>
        <p:blipFill>
          <a:blip r:embed="rId1"/>
          <a:stretch/>
        </p:blipFill>
        <p:spPr>
          <a:xfrm>
            <a:off x="3492360" y="4292640"/>
            <a:ext cx="237672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3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3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3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8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3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6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3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3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9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3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231120" y="517680"/>
            <a:ext cx="8532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Ze vliegen daar met z’n all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op en Moemba krijgt daar he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pak slaag van z’n leven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Daarna vraagt de buschauffeu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Ha zo, gij Moemba, gij ni betal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En waarom Moemba ni betalen 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politie_04"/>
          <p:cNvPicPr/>
          <p:nvPr/>
        </p:nvPicPr>
        <p:blipFill>
          <a:blip r:embed="rId1"/>
          <a:stretch/>
        </p:blipFill>
        <p:spPr>
          <a:xfrm>
            <a:off x="533520" y="4773600"/>
            <a:ext cx="1382760" cy="1728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olitie_04"/>
          <p:cNvPicPr/>
          <p:nvPr/>
        </p:nvPicPr>
        <p:blipFill>
          <a:blip r:embed="rId2"/>
          <a:stretch/>
        </p:blipFill>
        <p:spPr>
          <a:xfrm>
            <a:off x="2209680" y="4773600"/>
            <a:ext cx="1382760" cy="1728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politie_04"/>
          <p:cNvPicPr/>
          <p:nvPr/>
        </p:nvPicPr>
        <p:blipFill>
          <a:blip r:embed="rId3"/>
          <a:stretch/>
        </p:blipFill>
        <p:spPr>
          <a:xfrm>
            <a:off x="3886200" y="4773600"/>
            <a:ext cx="1382760" cy="1728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politie_04"/>
          <p:cNvPicPr/>
          <p:nvPr/>
        </p:nvPicPr>
        <p:blipFill>
          <a:blip r:embed="rId4"/>
          <a:stretch/>
        </p:blipFill>
        <p:spPr>
          <a:xfrm>
            <a:off x="5638680" y="4773600"/>
            <a:ext cx="1382760" cy="172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politie_04"/>
          <p:cNvPicPr/>
          <p:nvPr/>
        </p:nvPicPr>
        <p:blipFill>
          <a:blip r:embed="rId5"/>
          <a:stretch/>
        </p:blipFill>
        <p:spPr>
          <a:xfrm>
            <a:off x="7391520" y="4773600"/>
            <a:ext cx="138276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3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3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3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1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3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9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3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94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3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27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3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man11"/>
          <p:cNvPicPr/>
          <p:nvPr/>
        </p:nvPicPr>
        <p:blipFill>
          <a:blip r:embed="rId1"/>
          <a:stretch/>
        </p:blipFill>
        <p:spPr>
          <a:xfrm>
            <a:off x="3851280" y="907920"/>
            <a:ext cx="2220840" cy="27241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228600" y="30492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Zegt de neg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181080" y="4869000"/>
            <a:ext cx="863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5400" spc="-1" strike="noStrike">
                <a:solidFill>
                  <a:srgbClr val="000000"/>
                </a:solidFill>
                <a:latin typeface="Arial"/>
              </a:rPr>
              <a:t>Moemba, abonnement…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380360" y="3860640"/>
            <a:ext cx="799920" cy="107640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3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3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2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7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75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75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n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ij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 de zwakste schak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63244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  <a:ea typeface="Courier New"/>
              </a:rPr>
              <a:t>Laten wij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ourier New"/>
              </a:rPr>
              <a:t>eens kijken </a:t>
            </a:r>
            <a:r>
              <a:rPr b="1" lang="nl-NL" sz="4000" spc="-1" strike="noStrike">
                <a:solidFill>
                  <a:srgbClr val="000000"/>
                </a:solidFill>
                <a:latin typeface="Arial"/>
                <a:ea typeface="Courier New"/>
              </a:rPr>
              <a:t>wat Uw intellectueel niveau is door middel va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nl-N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en heel eenvoudige tes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nl-N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opgebouwd uit een 4-tal vragen.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61722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762120"/>
            <a:ext cx="8382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Vraag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U neemt deel aan een loopwedstrijd, U loopt de tweede voorbij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Als 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hoeveelste zult U dan eindige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685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ien U geantwoord hebt </a:t>
            </a:r>
            <a:r>
              <a:rPr b="1" lang="nl-NL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 eerste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te zijn dan bent U totaal verkeerd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2004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U hebt </a:t>
            </a:r>
            <a:r>
              <a:rPr b="1" lang="nl-NL" sz="4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de tweede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 ingehaald en hebt zijn plaats ingenomen, dus bent U </a:t>
            </a:r>
            <a:r>
              <a:rPr b="1" lang="nl-NL" sz="4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d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r>
              <a:rPr b="1" lang="nl-NL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weede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42670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en 2e poging nu en probeer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tweede vraag wat sneller te beantwoorden!!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368460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09-12-18T19:58:42Z</dcterms:modified>
  <cp:revision>13</cp:revision>
  <dc:subject/>
  <dc:title>Dia 1</dc:title>
</cp:coreProperties>
</file>