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5.wmf" ContentType="image/x-wmf"/>
  <Override PartName="/ppt/media/image10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9807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988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9000" y="3682080"/>
            <a:ext cx="988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12760" y="160452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49000" y="368208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612760" y="368208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3181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0160" y="1604520"/>
            <a:ext cx="3181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31320" y="1604520"/>
            <a:ext cx="3181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49000" y="3682080"/>
            <a:ext cx="3181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90160" y="3682080"/>
            <a:ext cx="3181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231320" y="3682080"/>
            <a:ext cx="3181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49000" y="1604520"/>
            <a:ext cx="988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988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482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12760" y="1604520"/>
            <a:ext cx="482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49000" y="273600"/>
            <a:ext cx="9881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12760" y="1604520"/>
            <a:ext cx="482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9000" y="368208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482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12760" y="160452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12760" y="368208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9000" y="160452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612760" y="1604520"/>
            <a:ext cx="4822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9000" y="3682080"/>
            <a:ext cx="988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rId2" action="ppaction://hlinksldjump"/>
          </p:cNvPr>
          <p:cNvSpPr/>
          <p:nvPr/>
        </p:nvSpPr>
        <p:spPr>
          <a:xfrm>
            <a:off x="8731080" y="457200"/>
            <a:ext cx="209736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31080" y="304920"/>
            <a:ext cx="22496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31080" y="0"/>
            <a:ext cx="22496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26400" y="2612880"/>
            <a:ext cx="2308320" cy="600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800" spc="-1" strike="noStrike">
                <a:solidFill>
                  <a:srgbClr val="99cc00"/>
                </a:solidFill>
                <a:latin typeface="Times New Roman"/>
              </a:rPr>
              <a:t>رسم الأشكال الفضائية في المستو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31080" y="4051440"/>
            <a:ext cx="2308320" cy="6728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800" spc="-1" strike="noStrike">
                <a:solidFill>
                  <a:srgbClr val="99cc00"/>
                </a:solidFill>
                <a:latin typeface="Times New Roman"/>
              </a:rPr>
              <a:t>الأوضاع النسبية وتوازي المستقيمات والمستو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731080" y="4799160"/>
            <a:ext cx="2308320" cy="4302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800" spc="-1" strike="noStrike">
                <a:solidFill>
                  <a:srgbClr val="99cc00"/>
                </a:solidFill>
                <a:latin typeface="Arial"/>
              </a:rPr>
              <a:t>التعامد في الف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726400" y="3284640"/>
            <a:ext cx="2308320" cy="649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800" spc="-1" strike="noStrike">
                <a:solidFill>
                  <a:srgbClr val="99cc00"/>
                </a:solidFill>
                <a:latin typeface="Times New Roman"/>
              </a:rPr>
              <a:t>موضوعات الهندسة الفض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731080" y="1447920"/>
            <a:ext cx="224964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99cc00"/>
                </a:solidFill>
                <a:latin typeface="Times New Roman"/>
              </a:rPr>
              <a:t>الصفحة</a:t>
            </a:r>
            <a:r>
              <a:rPr b="0" i="1" lang="ar-MA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ar-MA" sz="3200" spc="-1" strike="noStrike">
                <a:solidFill>
                  <a:srgbClr val="99cc00"/>
                </a:solidFill>
                <a:latin typeface="Times New Roman"/>
              </a:rPr>
              <a:t>الاو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5300640"/>
            <a:ext cx="23083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>
                <a:solidFill>
                  <a:srgbClr val="99cc00"/>
                </a:solidFill>
                <a:latin typeface="Times New Roman"/>
              </a:rPr>
              <a:t>تمارين</a:t>
            </a:r>
            <a:r>
              <a:rPr b="0" lang="ar-MA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9882360" y="476280"/>
            <a:ext cx="923760" cy="83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" name=""/>
          <p:cNvSpPr/>
          <p:nvPr/>
        </p:nvSpPr>
        <p:spPr>
          <a:xfrm>
            <a:off x="8874000" y="476280"/>
            <a:ext cx="865440" cy="785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31080" y="6381720"/>
            <a:ext cx="224964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9379080" y="6381720"/>
            <a:ext cx="1081080" cy="642600"/>
            <a:chOff x="9379080" y="6381720"/>
            <a:chExt cx="1081080" cy="642600"/>
          </a:xfrm>
        </p:grpSpPr>
        <p:sp>
          <p:nvSpPr>
            <p:cNvPr id="13" name=""/>
            <p:cNvSpPr/>
            <p:nvPr/>
          </p:nvSpPr>
          <p:spPr>
            <a:xfrm>
              <a:off x="9594720" y="6381720"/>
              <a:ext cx="6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MA" sz="1800" spc="-1" strike="noStrike">
                  <a:solidFill>
                    <a:srgbClr val="000000"/>
                  </a:solidFill>
                  <a:latin typeface="Times New Roman"/>
                </a:rPr>
                <a:t>خرو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>
              <a:hlinkClick r:id="" action="ppaction://hlinkshowjump?jump=endshow"/>
            </p:cNvPr>
            <p:cNvSpPr/>
            <p:nvPr/>
          </p:nvSpPr>
          <p:spPr>
            <a:xfrm>
              <a:off x="9379080" y="6381720"/>
              <a:ext cx="1081080" cy="432000"/>
            </a:xfrm>
            <a:custGeom>
              <a:avLst/>
              <a:gdLst>
                <a:gd name="textAreaLeft" fmla="*/ 27720 w 1081080"/>
                <a:gd name="textAreaRight" fmla="*/ 1053360 w 108108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54027" h="21600">
                  <a:moveTo>
                    <a:pt x="0" y="0"/>
                  </a:moveTo>
                  <a:lnTo>
                    <a:pt x="54027" y="0"/>
                  </a:lnTo>
                  <a:lnTo>
                    <a:pt x="54027" y="21600"/>
                  </a:lnTo>
                  <a:lnTo>
                    <a:pt x="0" y="21600"/>
                  </a:lnTo>
                  <a:close/>
                </a:path>
                <a:path fill="lightenLess" w="54027" h="21600">
                  <a:moveTo>
                    <a:pt x="0" y="0"/>
                  </a:moveTo>
                  <a:lnTo>
                    <a:pt x="54027" y="0"/>
                  </a:lnTo>
                  <a:lnTo>
                    <a:pt x="52627" y="1400"/>
                  </a:lnTo>
                  <a:lnTo>
                    <a:pt x="1400" y="1400"/>
                  </a:lnTo>
                  <a:close/>
                </a:path>
                <a:path fill="darken" w="54027" h="21600">
                  <a:moveTo>
                    <a:pt x="54027" y="0"/>
                  </a:moveTo>
                  <a:lnTo>
                    <a:pt x="54027" y="21600"/>
                  </a:lnTo>
                  <a:lnTo>
                    <a:pt x="52627" y="20200"/>
                  </a:lnTo>
                  <a:lnTo>
                    <a:pt x="52627" y="1400"/>
                  </a:lnTo>
                  <a:close/>
                </a:path>
                <a:path fill="darkenLess" w="54027" h="21600">
                  <a:moveTo>
                    <a:pt x="5402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627" y="20200"/>
                  </a:lnTo>
                  <a:close/>
                </a:path>
                <a:path fill="lighten" w="5402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8713800" y="5734080"/>
            <a:ext cx="2320920" cy="5335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9666360" y="5877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098000" y="5877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>
            <a:hlinkClick r:id="" action="ppaction://hlinkshowjump?jump=firstslide"/>
          </p:cNvPr>
          <p:cNvSpPr/>
          <p:nvPr/>
        </p:nvSpPr>
        <p:spPr>
          <a:xfrm>
            <a:off x="923436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9978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8132" y="3794"/>
                </a:lnTo>
                <a:lnTo>
                  <a:pt x="8132" y="17806"/>
                </a:lnTo>
                <a:lnTo>
                  <a:pt x="647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>
            <a:hlinkClick r:id="" action="ppaction://hlinkshowjump?jump=lastslide"/>
          </p:cNvPr>
          <p:cNvSpPr/>
          <p:nvPr/>
        </p:nvSpPr>
        <p:spPr>
          <a:xfrm>
            <a:off x="1053000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6975" y="10800"/>
                </a:moveTo>
                <a:lnTo>
                  <a:pt x="6470" y="17806"/>
                </a:lnTo>
                <a:lnTo>
                  <a:pt x="6470" y="3794"/>
                </a:lnTo>
                <a:close/>
              </a:path>
              <a:path fill="darken" w="26953" h="21600">
                <a:moveTo>
                  <a:pt x="18821" y="3794"/>
                </a:moveTo>
                <a:lnTo>
                  <a:pt x="18821" y="17806"/>
                </a:lnTo>
                <a:lnTo>
                  <a:pt x="20483" y="17806"/>
                </a:lnTo>
                <a:lnTo>
                  <a:pt x="20483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>
            <a:hlinkClick r:id="" action="ppaction://hlinkshowjump?jump=previousslide"/>
          </p:cNvPr>
          <p:cNvSpPr/>
          <p:nvPr/>
        </p:nvSpPr>
        <p:spPr>
          <a:xfrm>
            <a:off x="8802720" y="5877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1" y="7493"/>
                </a:lnTo>
                <a:lnTo>
                  <a:pt x="18821" y="12828"/>
                </a:lnTo>
                <a:cubicBezTo>
                  <a:pt x="18821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8726400" y="2062080"/>
            <a:ext cx="2308320" cy="4302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Perspective caval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273600"/>
            <a:ext cx="988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49000" y="1604520"/>
            <a:ext cx="988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360" y="1915920"/>
            <a:ext cx="71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مستوى: جذع مشترك علمي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66400" y="4772160"/>
            <a:ext cx="617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Times New Roman"/>
              </a:rPr>
              <a:t>إعداد</a:t>
            </a:r>
            <a:r>
              <a:rPr b="1" lang="ar-M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M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Times New Roman"/>
              </a:rPr>
              <a:t>الأستاذ ابراهيم بح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Times New Roman"/>
              </a:rPr>
              <a:t>ثانوية ابن سينا الصهري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Times New Roman"/>
              </a:rPr>
              <a:t>نيابة قلعة السراغ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3320" y="549360"/>
            <a:ext cx="70614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الهندسة الفضائ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726400" y="1413000"/>
            <a:ext cx="2308320" cy="576000"/>
          </a:xfrm>
          <a:prstGeom prst="roundRect">
            <a:avLst>
              <a:gd name="adj" fmla="val 50000"/>
            </a:avLst>
          </a:prstGeom>
          <a:solidFill>
            <a:srgbClr val="999933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8240" y="2373480"/>
            <a:ext cx="852012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3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7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GE0Ctl"/>
          <p:cNvGraphicFramePr/>
          <p:nvPr/>
        </p:nvGraphicFramePr>
        <p:xfrm>
          <a:off x="162000" y="1413000"/>
          <a:ext cx="247644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41300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7" name="GE0Ctl1"/>
          <p:cNvGraphicFramePr/>
          <p:nvPr/>
        </p:nvGraphicFramePr>
        <p:xfrm>
          <a:off x="3022560" y="1413000"/>
          <a:ext cx="2467080" cy="17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2560" y="1413000"/>
                    <a:ext cx="2467080" cy="1761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GE0Ctl2"/>
          <p:cNvGraphicFramePr/>
          <p:nvPr/>
        </p:nvGraphicFramePr>
        <p:xfrm>
          <a:off x="5850000" y="1413000"/>
          <a:ext cx="2609640" cy="17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GE0Ctl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0000" y="1413000"/>
                    <a:ext cx="2609640" cy="172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8920" y="1125360"/>
          <a:ext cx="8497800" cy="3311640"/>
        </p:xfrm>
        <a:graphic>
          <a:graphicData uri="http://schemas.openxmlformats.org/drawingml/2006/table">
            <a:tbl>
              <a:tblPr/>
              <a:tblGrid>
                <a:gridCol w="2736720"/>
                <a:gridCol w="2880000"/>
                <a:gridCol w="2881080"/>
              </a:tblGrid>
              <a:tr h="257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’)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غير مستوائيين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مستوى يحتوي على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مستوى يحتوي على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’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متوازيان قطع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مستوى يحتوي على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’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متقاطعان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792320" y="333360"/>
            <a:ext cx="43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أوضاع النسبية لمستقيمين مختلفين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000" y="5013360"/>
            <a:ext cx="827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لاحظة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ستقيمان منفصلان ( أي تقاطعهما مجموعة فارغة ) ليسا بالضرورة متوازيين، ومستقيمان غير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وازيين ليسا بالضرورة متقاطعين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33280" y="199440"/>
            <a:ext cx="8380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ب- الأوضاع النسبية لمستقيم ومستوى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اطع مستوى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)  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ستقيم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                ♦   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ما المجموعة الفارغة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                ♦   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 نقطة وحيدة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                ♦   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 المستقيم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التقاطع نقطة وحيدة نقول إن المستوى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) 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المستقيم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قاطعان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46360" y="188640"/>
            <a:ext cx="6715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تعريف</a:t>
            </a:r>
            <a:r>
              <a:rPr b="1" lang="ar-MA" sz="18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 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مستقيم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 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ستوى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ين في الحالتين التاليتين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 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 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◄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            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وجد ضمن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</a:rPr>
              <a:t>◄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و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ا يشتركان في أية نقطة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               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نكتب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: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//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5383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GE0Ctl"/>
          <p:cNvGraphicFramePr/>
          <p:nvPr/>
        </p:nvGraphicFramePr>
        <p:xfrm>
          <a:off x="449280" y="3429000"/>
          <a:ext cx="2476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42900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GE0Ctl1"/>
          <p:cNvGraphicFramePr/>
          <p:nvPr/>
        </p:nvGraphicFramePr>
        <p:xfrm>
          <a:off x="3230640" y="3448080"/>
          <a:ext cx="247644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0640" y="344808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GE0Ctl2"/>
          <p:cNvGraphicFramePr/>
          <p:nvPr/>
        </p:nvGraphicFramePr>
        <p:xfrm>
          <a:off x="5923080" y="3429000"/>
          <a:ext cx="2476440" cy="17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GE0Ctl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3080" y="342900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33280" y="3141720"/>
          <a:ext cx="8282160" cy="3288960"/>
        </p:xfrm>
        <a:graphic>
          <a:graphicData uri="http://schemas.openxmlformats.org/drawingml/2006/table">
            <a:tbl>
              <a:tblPr/>
              <a:tblGrid>
                <a:gridCol w="2844720"/>
                <a:gridCol w="2740320"/>
                <a:gridCol w="2697120"/>
              </a:tblGrid>
              <a:tr h="23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متقاطعا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يوازي قطعا</a:t>
                      </a:r>
                      <a:r>
                        <a:rPr b="1" lang="ar-M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ضمن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: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يوازي</a:t>
                      </a:r>
                      <a:r>
                        <a:rPr b="1" lang="ar-M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86000" y="332280"/>
            <a:ext cx="535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Arial"/>
                <a:cs typeface="Arabic Transparent"/>
              </a:rPr>
              <a:t>ج- الأوضاع النسبية لمستويين مختلفين</a:t>
            </a:r>
            <a:r>
              <a:rPr b="1" lang="fr-FR" sz="2000" spc="-1" strike="noStrike" u="sng">
                <a:solidFill>
                  <a:srgbClr val="003300"/>
                </a:solidFill>
                <a:uFillTx/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  <a:cs typeface="Arabic Transparent"/>
              </a:rPr>
              <a:t>تقاطع مستويين مختلفين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 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  <a:cs typeface="Arabic Transparent"/>
              </a:rPr>
              <a:t>و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Q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  <a:cs typeface="Arabic Transparent"/>
              </a:rPr>
              <a:t>هو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                ♦   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  <a:cs typeface="Arabic Transparent"/>
              </a:rPr>
              <a:t>إما المجموعة الفارغة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              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  ♦   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  <a:cs typeface="Arabic Transparent"/>
              </a:rPr>
              <a:t>أو مستقيم</a:t>
            </a:r>
            <a:r>
              <a:rPr b="1" lang="fr-FR" sz="2000" spc="-1" strike="noStrike">
                <a:solidFill>
                  <a:srgbClr val="003300"/>
                </a:solidFill>
                <a:latin typeface="Arial"/>
                <a:ea typeface="Arabic Transparent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27280" y="1989000"/>
          <a:ext cx="5724720" cy="1002960"/>
        </p:xfrm>
        <a:graphic>
          <a:graphicData uri="http://schemas.openxmlformats.org/drawingml/2006/table">
            <a:tbl>
              <a:tblPr/>
              <a:tblGrid>
                <a:gridCol w="5724720"/>
              </a:tblGrid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ar-SA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cs typeface="Times New Roman"/>
                        </a:rPr>
                        <a:t>تعريف</a:t>
                      </a:r>
                      <a:r>
                        <a:rPr b="1" lang="fr-FR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كون مست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Arial"/>
                          <a:cs typeface="Arabic Transparent"/>
                        </a:rPr>
                        <a:t>ويان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 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توازيين في الحالتين التاليتي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 «               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Arial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Arial"/>
                          <a:cs typeface="Arabic Transparent"/>
                        </a:rPr>
                        <a:t>منطبقا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  «               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لا يشتركان في أية نقط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               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نكتب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: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399280" y="43574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383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GE0Ctl"/>
          <p:cNvGraphicFramePr/>
          <p:nvPr/>
        </p:nvGraphicFramePr>
        <p:xfrm>
          <a:off x="1673280" y="3645000"/>
          <a:ext cx="247644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3280" y="364500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0" name="GE0Ctl1"/>
          <p:cNvGraphicFramePr/>
          <p:nvPr/>
        </p:nvGraphicFramePr>
        <p:xfrm>
          <a:off x="5489640" y="3645000"/>
          <a:ext cx="2476440" cy="17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9640" y="364500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86000" y="3429000"/>
          <a:ext cx="6913440" cy="2879640"/>
        </p:xfrm>
        <a:graphic>
          <a:graphicData uri="http://schemas.openxmlformats.org/drawingml/2006/table">
            <a:tbl>
              <a:tblPr/>
              <a:tblGrid>
                <a:gridCol w="3382920"/>
                <a:gridCol w="3530520"/>
              </a:tblGrid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Arial"/>
                          <a:cs typeface="Arabic Transparent"/>
                        </a:rPr>
                        <a:t>متقاطعان وفق مستقيم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Arial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3300"/>
                          </a:solidFill>
                          <a:latin typeface="Arial"/>
                          <a:cs typeface="Arabic Transparent"/>
                        </a:rPr>
                        <a:t>متوازيان قطعا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Arial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5399280" y="34207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2000" y="189000"/>
            <a:ext cx="800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خاصية 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</a:rPr>
              <a:t>:  يكو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مستويان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Q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وازيين ، 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</a:rPr>
              <a:t>إذا احتوى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</a:rPr>
              <a:t>أحدهما علىكسسسي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قطع أحدهما</a:t>
            </a:r>
            <a:r>
              <a:rPr b="1" lang="ar-MA" sz="1800" spc="-1" strike="noStrike">
                <a:solidFill>
                  <a:srgbClr val="000000"/>
                </a:solidFill>
                <a:latin typeface="Arial"/>
              </a:rPr>
              <a:t>  ع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07080" y="28260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3300"/>
                </a:solidFill>
                <a:uFillTx/>
                <a:latin typeface="Arial"/>
              </a:rPr>
              <a:t>د- خاصيات التوازي في الفضاء</a:t>
            </a:r>
            <a:r>
              <a:rPr b="1" lang="fr-FR" sz="1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78000" y="1268280"/>
          <a:ext cx="7956360" cy="3673080"/>
        </p:xfrm>
        <a:graphic>
          <a:graphicData uri="http://schemas.openxmlformats.org/drawingml/2006/table">
            <a:tbl>
              <a:tblPr/>
              <a:tblGrid>
                <a:gridCol w="7956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:  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ن نقطة يمر مستوى وحيد يوازي مستوى معلوما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36760" indent="-143676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: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ويان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ين ، فإن كل مستوى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H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قطع أحدهما 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قطع الآخر؛ كما أن مستقيمي تقاطع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H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ع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ان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46040" indent="-134604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3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قيم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وازيا لمستوى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،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فإن كل مستوى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قاطع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Times New Roman"/>
                          <a:cs typeface="Arabic Transparent"/>
                        </a:rPr>
                        <a:t>ل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لمستوى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يحتوي على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فهو يقطع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فق مستقيم مواز للمستقيم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GE0Ctl"/>
          <p:cNvGraphicFramePr/>
          <p:nvPr/>
        </p:nvGraphicFramePr>
        <p:xfrm>
          <a:off x="4626000" y="1413000"/>
          <a:ext cx="247644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6000" y="141300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530360" y="1125360"/>
          <a:ext cx="5832360" cy="2303280"/>
        </p:xfrm>
        <a:graphic>
          <a:graphicData uri="http://schemas.openxmlformats.org/drawingml/2006/table">
            <a:tbl>
              <a:tblPr/>
              <a:tblGrid>
                <a:gridCol w="3022560"/>
                <a:gridCol w="280980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وازي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قطع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ضم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هو تقاطع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       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890720" y="260280"/>
          <a:ext cx="6011640" cy="335160"/>
        </p:xfrm>
        <a:graphic>
          <a:graphicData uri="http://schemas.openxmlformats.org/drawingml/2006/table">
            <a:tbl>
              <a:tblPr/>
              <a:tblGrid>
                <a:gridCol w="60116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Times New Roman"/>
                        </a:rPr>
                        <a:t>خاصية(</a:t>
                      </a:r>
                      <a:r>
                        <a:rPr b="1" lang="ar-SA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 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  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ذا كان مستقيم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زيا لمستقيم ضمن مستو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،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إنه يوازي المستو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800" y="141588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GE0Ctl"/>
          <p:cNvGraphicFramePr/>
          <p:nvPr/>
        </p:nvGraphicFramePr>
        <p:xfrm>
          <a:off x="5202360" y="1052640"/>
          <a:ext cx="247644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2360" y="105264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681280" y="907920"/>
          <a:ext cx="5329080" cy="2089440"/>
        </p:xfrm>
        <a:graphic>
          <a:graphicData uri="http://schemas.openxmlformats.org/drawingml/2006/table">
            <a:tbl>
              <a:tblPr/>
              <a:tblGrid>
                <a:gridCol w="2087640"/>
                <a:gridCol w="3241440"/>
              </a:tblGrid>
              <a:tr h="208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وازي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،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ضمن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367240" y="2666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30360" y="3429000"/>
          <a:ext cx="6338880" cy="366840"/>
        </p:xfrm>
        <a:graphic>
          <a:graphicData uri="http://schemas.openxmlformats.org/drawingml/2006/table">
            <a:tbl>
              <a:tblPr/>
              <a:tblGrid>
                <a:gridCol w="6338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1" lang="fr-FR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Times New Roman"/>
                        </a:rPr>
                        <a:t>خاصية</a:t>
                      </a:r>
                      <a:r>
                        <a:rPr b="1" lang="fr-FR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fr-FR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ذا كان مستويان متقاطعان يوازيان مستقيما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،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إن تقاطعهما مستقيم مار للمستقيم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800" y="37965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GE0Ctl1"/>
          <p:cNvGraphicFramePr/>
          <p:nvPr/>
        </p:nvGraphicFramePr>
        <p:xfrm>
          <a:off x="5057640" y="4437000"/>
          <a:ext cx="247680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7640" y="4437000"/>
                    <a:ext cx="247680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62000" y="4149720"/>
          <a:ext cx="6048360" cy="2374920"/>
        </p:xfrm>
        <a:graphic>
          <a:graphicData uri="http://schemas.openxmlformats.org/drawingml/2006/table">
            <a:tbl>
              <a:tblPr/>
              <a:tblGrid>
                <a:gridCol w="2899080"/>
                <a:gridCol w="3149280"/>
              </a:tblGrid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وازي المستويي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تقاطع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5367240" y="519840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49280" y="333360"/>
          <a:ext cx="7921440" cy="70020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79560" indent="-97956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:(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6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ويان متوازيين ، فإن كل مستوى قاطع لأحدهما يقطع الآخر ، ومستقيما التقاطع متوازيان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800" y="3783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GE0Ctl"/>
          <p:cNvGraphicFramePr/>
          <p:nvPr/>
        </p:nvGraphicFramePr>
        <p:xfrm>
          <a:off x="4915080" y="1197000"/>
          <a:ext cx="2476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5080" y="119700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817640" y="1125360"/>
          <a:ext cx="5832360" cy="2087640"/>
        </p:xfrm>
        <a:graphic>
          <a:graphicData uri="http://schemas.openxmlformats.org/drawingml/2006/table">
            <a:tbl>
              <a:tblPr/>
              <a:tblGrid>
                <a:gridCol w="2909880"/>
                <a:gridCol w="292248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ي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قطع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هو تقاطع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هو تقاطع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    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  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5367240" y="2542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33280" y="3429000"/>
          <a:ext cx="8353440" cy="97488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1800" indent="-90180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7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  <a:cs typeface="Arabic Transparent"/>
                        </a:rPr>
                        <a:t>مبرهنة السقف</a:t>
                      </a:r>
                      <a:r>
                        <a:rPr b="1" lang="ar-MA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1800" indent="-90180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  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اشتمل مستويان متقاطعان على مستقيمين متوازيين قطعا، فإن تقاطعهما هو مستقيم مواز لهذين المستقيمين المتوازيي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399280" y="3825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GE0Ctl1"/>
          <p:cNvGraphicFramePr/>
          <p:nvPr/>
        </p:nvGraphicFramePr>
        <p:xfrm>
          <a:off x="5273640" y="4724280"/>
          <a:ext cx="247644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3640" y="472428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314360" y="4653000"/>
          <a:ext cx="6840360" cy="2015280"/>
        </p:xfrm>
        <a:graphic>
          <a:graphicData uri="http://schemas.openxmlformats.org/drawingml/2006/table">
            <a:tbl>
              <a:tblPr/>
              <a:tblGrid>
                <a:gridCol w="3242520"/>
                <a:gridCol w="3597840"/>
              </a:tblGrid>
              <a:tr h="201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ضم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ضمن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هو تقاطع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  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//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: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 //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M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GE0Ctl1"/>
          <p:cNvGraphicFramePr/>
          <p:nvPr/>
        </p:nvGraphicFramePr>
        <p:xfrm>
          <a:off x="1098720" y="1231920"/>
          <a:ext cx="6480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231920"/>
                    <a:ext cx="6480000" cy="439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823720" y="11268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برهنة السق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86000" y="4508640"/>
            <a:ext cx="1655640" cy="1657080"/>
          </a:xfrm>
          <a:prstGeom prst="ellipse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99080" y="3860640"/>
            <a:ext cx="2592360" cy="1008360"/>
          </a:xfrm>
          <a:custGeom>
            <a:avLst/>
            <a:gdLst/>
            <a:ahLst/>
            <a:rect l="l" t="t" r="r" b="b"/>
            <a:pathLst>
              <a:path w="1633" h="635">
                <a:moveTo>
                  <a:pt x="952" y="635"/>
                </a:moveTo>
                <a:lnTo>
                  <a:pt x="1633" y="0"/>
                </a:lnTo>
                <a:lnTo>
                  <a:pt x="0" y="182"/>
                </a:lnTo>
                <a:lnTo>
                  <a:pt x="952" y="635"/>
                </a:lnTo>
                <a:close/>
              </a:path>
            </a:pathLst>
          </a:custGeom>
          <a:solidFill>
            <a:srgbClr val="ffcc00">
              <a:alpha val="49000"/>
            </a:srgbClr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99080" y="1916280"/>
            <a:ext cx="2592360" cy="2233440"/>
          </a:xfrm>
          <a:custGeom>
            <a:avLst/>
            <a:gdLst/>
            <a:ahLst/>
            <a:rect l="l" t="t" r="r" b="b"/>
            <a:pathLst>
              <a:path w="1633" h="1407">
                <a:moveTo>
                  <a:pt x="862" y="0"/>
                </a:moveTo>
                <a:lnTo>
                  <a:pt x="0" y="1407"/>
                </a:lnTo>
                <a:lnTo>
                  <a:pt x="1633" y="1225"/>
                </a:lnTo>
                <a:lnTo>
                  <a:pt x="862" y="0"/>
                </a:lnTo>
                <a:close/>
              </a:path>
            </a:pathLst>
          </a:custGeom>
          <a:solidFill>
            <a:srgbClr val="ff0000">
              <a:alpha val="39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9640" y="1197000"/>
            <a:ext cx="2158920" cy="2160720"/>
          </a:xfrm>
          <a:custGeom>
            <a:avLst/>
            <a:gdLst/>
            <a:ahLst/>
            <a:rect l="l" t="t" r="r" b="b"/>
            <a:pathLst>
              <a:path w="1360" h="1361">
                <a:moveTo>
                  <a:pt x="0" y="1361"/>
                </a:moveTo>
                <a:lnTo>
                  <a:pt x="1360" y="1361"/>
                </a:lnTo>
                <a:lnTo>
                  <a:pt x="1360" y="0"/>
                </a:lnTo>
                <a:lnTo>
                  <a:pt x="0" y="0"/>
                </a:lnTo>
                <a:lnTo>
                  <a:pt x="0" y="1361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9640" y="476280"/>
            <a:ext cx="2879640" cy="720720"/>
          </a:xfrm>
          <a:custGeom>
            <a:avLst/>
            <a:gdLst/>
            <a:ahLst/>
            <a:rect l="l" t="t" r="r" b="b"/>
            <a:pathLst>
              <a:path w="1814" h="454">
                <a:moveTo>
                  <a:pt x="0" y="454"/>
                </a:moveTo>
                <a:lnTo>
                  <a:pt x="453" y="0"/>
                </a:lnTo>
                <a:lnTo>
                  <a:pt x="1814" y="0"/>
                </a:lnTo>
                <a:lnTo>
                  <a:pt x="1360" y="454"/>
                </a:lnTo>
                <a:lnTo>
                  <a:pt x="0" y="45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68560" y="476280"/>
            <a:ext cx="720720" cy="2881440"/>
          </a:xfrm>
          <a:custGeom>
            <a:avLst/>
            <a:gdLst/>
            <a:ahLst/>
            <a:rect l="l" t="t" r="r" b="b"/>
            <a:pathLst>
              <a:path w="454" h="1815">
                <a:moveTo>
                  <a:pt x="0" y="1815"/>
                </a:moveTo>
                <a:lnTo>
                  <a:pt x="454" y="1361"/>
                </a:lnTo>
                <a:lnTo>
                  <a:pt x="454" y="0"/>
                </a:lnTo>
                <a:lnTo>
                  <a:pt x="0" y="454"/>
                </a:lnTo>
                <a:lnTo>
                  <a:pt x="0" y="18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9640" y="3357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640" y="11970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0964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09640" y="47628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6856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8920" y="476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968560" y="476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68560" y="2637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689280" y="476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97036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0360" y="47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970360" y="476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970360" y="2637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691080" y="476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66000" y="1916280"/>
            <a:ext cx="1223640" cy="2952720"/>
          </a:xfrm>
          <a:custGeom>
            <a:avLst/>
            <a:gdLst/>
            <a:ahLst/>
            <a:rect l="l" t="t" r="r" b="b"/>
            <a:pathLst>
              <a:path w="771" h="1860">
                <a:moveTo>
                  <a:pt x="90" y="1860"/>
                </a:moveTo>
                <a:lnTo>
                  <a:pt x="771" y="1225"/>
                </a:lnTo>
                <a:lnTo>
                  <a:pt x="0" y="0"/>
                </a:lnTo>
                <a:lnTo>
                  <a:pt x="90" y="1860"/>
                </a:ln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6000" y="4508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99080" y="1916280"/>
            <a:ext cx="1511280" cy="2952720"/>
          </a:xfrm>
          <a:custGeom>
            <a:avLst/>
            <a:gdLst/>
            <a:ahLst/>
            <a:rect l="l" t="t" r="r" b="b"/>
            <a:pathLst>
              <a:path w="952" h="1860">
                <a:moveTo>
                  <a:pt x="862" y="0"/>
                </a:moveTo>
                <a:lnTo>
                  <a:pt x="0" y="1407"/>
                </a:lnTo>
                <a:lnTo>
                  <a:pt x="952" y="1860"/>
                </a:lnTo>
                <a:lnTo>
                  <a:pt x="862" y="0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3640" y="189000"/>
            <a:ext cx="8037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Verdana"/>
                <a:ea typeface="Arabic Transparent"/>
              </a:rPr>
              <a:t>-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Verdana"/>
                <a:ea typeface="Arabic Transparent"/>
              </a:rPr>
              <a:t>4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Verdana"/>
                <a:ea typeface="Arabic Transparent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Verdana"/>
                <a:cs typeface="Arabic Transparent"/>
              </a:rPr>
              <a:t>التعامد في الفضاء</a:t>
            </a:r>
            <a:r>
              <a:rPr b="0" i="1" lang="ar-SA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6360" y="1413000"/>
          <a:ext cx="7885080" cy="639720"/>
        </p:xfrm>
        <a:graphic>
          <a:graphicData uri="http://schemas.openxmlformats.org/drawingml/2006/table">
            <a:tbl>
              <a:tblPr/>
              <a:tblGrid>
                <a:gridCol w="788508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تعريف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   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كون مستقيم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عامدين في الفضاء إذا كان الموازيان لهما من نقطة ما في الفضاء متعامدين في المستوى الذي يحددانه ونكتب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'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)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┴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GE0Ctl5"/>
          <p:cNvGraphicFramePr/>
          <p:nvPr/>
        </p:nvGraphicFramePr>
        <p:xfrm>
          <a:off x="4626000" y="2727360"/>
          <a:ext cx="2476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GE0Ctl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6000" y="272736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746360" y="2565360"/>
          <a:ext cx="5616000" cy="2158560"/>
        </p:xfrm>
        <a:graphic>
          <a:graphicData uri="http://schemas.openxmlformats.org/drawingml/2006/table">
            <a:tbl>
              <a:tblPr/>
              <a:tblGrid>
                <a:gridCol w="2739960"/>
                <a:gridCol w="2876040"/>
              </a:tblGrid>
              <a:tr h="22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'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وازي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,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br>
                        <a:rPr sz="1800"/>
                      </a:b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'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وازي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,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br>
                        <a:rPr sz="1800"/>
                      </a:b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تقاطعان في ال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 </a:t>
                      </a:r>
                      <a:br>
                        <a:rPr sz="1800"/>
                      </a:b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'</a:t>
                      </a:r>
                      <a:r>
                        <a:rPr b="1" lang="fr-F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'</a:t>
                      </a:r>
                      <a:r>
                        <a:rPr b="1" lang="fr-F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عامد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440040" y="83592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- تعامد مستقيمين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GE0Ctl1"/>
          <p:cNvGraphicFramePr/>
          <p:nvPr/>
        </p:nvGraphicFramePr>
        <p:xfrm>
          <a:off x="665280" y="368280"/>
          <a:ext cx="720072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368280"/>
                    <a:ext cx="720072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853600" y="259920"/>
            <a:ext cx="29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3300"/>
                </a:solidFill>
                <a:uFillTx/>
                <a:latin typeface="Arial"/>
              </a:rPr>
              <a:t>ب- تعامد مستقيم ومستوى</a:t>
            </a:r>
            <a:r>
              <a:rPr b="1" lang="fr-FR" sz="16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fr-FR" sz="1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25640" y="692280"/>
          <a:ext cx="7380000" cy="641160"/>
        </p:xfrm>
        <a:graphic>
          <a:graphicData uri="http://schemas.openxmlformats.org/drawingml/2006/table">
            <a:tbl>
              <a:tblPr/>
              <a:tblGrid>
                <a:gridCol w="73800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تعريف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     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كون مستقيم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ا على 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وفقط إذا كان متعامدا مع جميع المستقيمات الموجودة ضم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،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نكتب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:  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┴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 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 baseline="-30000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0763280" y="24678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54000" y="2276640"/>
          <a:ext cx="7491240" cy="641160"/>
        </p:xfrm>
        <a:graphic>
          <a:graphicData uri="http://schemas.openxmlformats.org/drawingml/2006/table">
            <a:tbl>
              <a:tblPr/>
              <a:tblGrid>
                <a:gridCol w="749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مبرهنة</a:t>
                      </a:r>
                      <a:r>
                        <a:rPr b="1" lang="fr-FR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: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  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كون مستقيم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ا على 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وفقط إذا كان متعامدا مع مستقيمين متقاطعين ضمن هذا ال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800" y="341460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GE0Ctl"/>
          <p:cNvGraphicFramePr/>
          <p:nvPr/>
        </p:nvGraphicFramePr>
        <p:xfrm>
          <a:off x="4842000" y="4292640"/>
          <a:ext cx="2476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0" y="429264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882720" y="4221000"/>
          <a:ext cx="7054560" cy="2303640"/>
        </p:xfrm>
        <a:graphic>
          <a:graphicData uri="http://schemas.openxmlformats.org/drawingml/2006/table">
            <a:tbl>
              <a:tblPr/>
              <a:tblGrid>
                <a:gridCol w="3340440"/>
                <a:gridCol w="371412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ا على جميع مستقيمات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GE0Ctl1"/>
          <p:cNvGraphicFramePr/>
          <p:nvPr/>
        </p:nvGraphicFramePr>
        <p:xfrm>
          <a:off x="954000" y="620640"/>
          <a:ext cx="705636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620640"/>
                    <a:ext cx="70563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606000" y="25992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3300"/>
                </a:solidFill>
                <a:uFillTx/>
                <a:latin typeface="Arial"/>
              </a:rPr>
              <a:t>ج- تعامد مستويين</a:t>
            </a:r>
            <a:r>
              <a:rPr b="1" lang="fr-FR" sz="16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fr-FR" sz="1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22360" y="692280"/>
          <a:ext cx="8101080" cy="97452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71720" indent="-107172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71720" indent="-107172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تعريف</a:t>
                      </a:r>
                      <a:r>
                        <a:rPr b="1" lang="ar-MA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 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كون مستويان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عامدين إذا وفقط إذا احتوى أحدهما على مستقيم عمودي على الآخر، ونكتب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┴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(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)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440" y="18284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GE0Ctl"/>
          <p:cNvGraphicFramePr/>
          <p:nvPr/>
        </p:nvGraphicFramePr>
        <p:xfrm>
          <a:off x="5202360" y="1916280"/>
          <a:ext cx="247644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2360" y="191628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98720" y="1844640"/>
          <a:ext cx="6695640" cy="1943640"/>
        </p:xfrm>
        <a:graphic>
          <a:graphicData uri="http://schemas.openxmlformats.org/drawingml/2006/table">
            <a:tbl>
              <a:tblPr/>
              <a:tblGrid>
                <a:gridCol w="2886120"/>
                <a:gridCol w="3809520"/>
              </a:tblGrid>
              <a:tr h="194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ى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يتضمن مستقيما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عموديا على المستوى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و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متعامد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7147080" y="381168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أمثلة على مكعب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GE0Ctl1"/>
          <p:cNvGraphicFramePr/>
          <p:nvPr/>
        </p:nvGraphicFramePr>
        <p:xfrm>
          <a:off x="5923080" y="4437000"/>
          <a:ext cx="247644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3080" y="443700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8920" y="4292640"/>
          <a:ext cx="8426520" cy="2232000"/>
        </p:xfrm>
        <a:graphic>
          <a:graphicData uri="http://schemas.openxmlformats.org/drawingml/2006/table">
            <a:tbl>
              <a:tblPr/>
              <a:tblGrid>
                <a:gridCol w="5761080"/>
                <a:gridCol w="266544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المستويان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BC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و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EFG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متوازيان. إذن كل مستقيم ضمن أحدهما يوازي الآخر: مثلا، المستقيم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C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  يوازي المستوى 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EFG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المستقيم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E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عمودي على المستقيمين المتقاطعين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B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و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D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، إذن :  المستقيم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E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على المستوى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BC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،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        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 فهو عودي على جميع مستقيمات هذا المستوى، مثلا  لدينا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E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C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المستويان 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BC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 و(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AEH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  متعامدان لأن أحدهما يحتوي على مستقيم عمودي على الآخر...  </a:t>
                      </a:r>
                      <a:br>
                        <a:rPr sz="1400"/>
                      </a:b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423680" y="31824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Arial"/>
                <a:cs typeface="Arabic Transparent"/>
              </a:rPr>
              <a:t>د- خاصيات التعامد والتوازي في الفضاء</a:t>
            </a:r>
            <a:r>
              <a:rPr b="1" lang="fr-FR" sz="1800" spc="-1" strike="noStrike" u="sng">
                <a:solidFill>
                  <a:srgbClr val="003300"/>
                </a:solidFill>
                <a:uFillTx/>
                <a:latin typeface="Arial"/>
                <a:ea typeface="Arabic Transparent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3280" y="907920"/>
          <a:ext cx="8155080" cy="792000"/>
        </p:xfrm>
        <a:graphic>
          <a:graphicData uri="http://schemas.openxmlformats.org/drawingml/2006/table">
            <a:tbl>
              <a:tblPr/>
              <a:tblGrid>
                <a:gridCol w="8155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79560" indent="-97956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Times New Roman"/>
                        </a:rPr>
                        <a:t>خاصية(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M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ذا كان مستويان متوازيين ، فإن كل مستقيم عمودي على أحدهما يكون عموديا على 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آخر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800" y="23011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73280" y="2133720"/>
          <a:ext cx="6711840" cy="699840"/>
        </p:xfrm>
        <a:graphic>
          <a:graphicData uri="http://schemas.openxmlformats.org/drawingml/2006/table">
            <a:tbl>
              <a:tblPr/>
              <a:tblGrid>
                <a:gridCol w="6711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79560" indent="-97956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(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r>
                        <a:rPr b="1" lang="ar-M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قيمان متوازيين ، فإن كل مستوى عمودي على أحدهما يكون عموديا على الآخر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800" y="324792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GE0Ctl"/>
          <p:cNvGraphicFramePr/>
          <p:nvPr/>
        </p:nvGraphicFramePr>
        <p:xfrm>
          <a:off x="5057640" y="3429000"/>
          <a:ext cx="247680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7640" y="3429000"/>
                    <a:ext cx="247680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1" name="GE0Ctl1"/>
          <p:cNvGraphicFramePr/>
          <p:nvPr/>
        </p:nvGraphicFramePr>
        <p:xfrm>
          <a:off x="1817640" y="3429000"/>
          <a:ext cx="247644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7640" y="342900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673280" y="3213000"/>
          <a:ext cx="6408720" cy="3455640"/>
        </p:xfrm>
        <a:graphic>
          <a:graphicData uri="http://schemas.openxmlformats.org/drawingml/2006/table">
            <a:tbl>
              <a:tblPr/>
              <a:tblGrid>
                <a:gridCol w="3084480"/>
                <a:gridCol w="3324240"/>
              </a:tblGrid>
              <a:tr h="21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ستويا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توازي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ستقيم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</a:t>
                      </a:r>
                      <a:r>
                        <a:rPr b="1" lang="ar-M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دي على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،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ذن : المستقيم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</a:t>
                      </a:r>
                      <a:r>
                        <a:rPr b="1" lang="ar-M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دي على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ستقيما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توازيا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ستوى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مودي على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،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ذن : المستوى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مودي على</a:t>
                      </a:r>
                      <a:r>
                        <a:rPr b="1" lang="ar-M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،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1" lang="ar-MA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5399280" y="50767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85800" y="1049760"/>
            <a:ext cx="625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GE0Ctl"/>
          <p:cNvGraphicFramePr/>
          <p:nvPr/>
        </p:nvGraphicFramePr>
        <p:xfrm>
          <a:off x="1601640" y="549360"/>
          <a:ext cx="247680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549360"/>
                    <a:ext cx="247680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" name="GE0Ctl1"/>
          <p:cNvGraphicFramePr/>
          <p:nvPr/>
        </p:nvGraphicFramePr>
        <p:xfrm>
          <a:off x="4770360" y="4724280"/>
          <a:ext cx="247644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GE0Ct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0360" y="472428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457280" y="333360"/>
          <a:ext cx="6192720" cy="3095640"/>
        </p:xfrm>
        <a:graphic>
          <a:graphicData uri="http://schemas.openxmlformats.org/drawingml/2006/table">
            <a:tbl>
              <a:tblPr/>
              <a:tblGrid>
                <a:gridCol w="2981160"/>
                <a:gridCol w="3211560"/>
              </a:tblGrid>
              <a:tr h="21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يا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قيم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ودي عل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،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 : المستقيم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ودي عل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قيما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ان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،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 : المستو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، 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6981480" y="2923560"/>
            <a:ext cx="2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22360" y="3716280"/>
          <a:ext cx="7127280" cy="433440"/>
        </p:xfrm>
        <a:graphic>
          <a:graphicData uri="http://schemas.openxmlformats.org/drawingml/2006/table">
            <a:tbl>
              <a:tblPr/>
              <a:tblGrid>
                <a:gridCol w="71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95320" indent="-89532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 : (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3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قيمان عموديين على نفس المستوى ،فإنهما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616040" y="414468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GE0Ctl2"/>
          <p:cNvGraphicFramePr/>
          <p:nvPr/>
        </p:nvGraphicFramePr>
        <p:xfrm>
          <a:off x="4986360" y="549360"/>
          <a:ext cx="2476440" cy="17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GE0Ctl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6360" y="549360"/>
                    <a:ext cx="2476440" cy="178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01640" y="4581360"/>
          <a:ext cx="5760720" cy="2016000"/>
        </p:xfrm>
        <a:graphic>
          <a:graphicData uri="http://schemas.openxmlformats.org/drawingml/2006/table">
            <a:tbl>
              <a:tblPr/>
              <a:tblGrid>
                <a:gridCol w="2755080"/>
                <a:gridCol w="300564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قيم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ان على ال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  ،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توازي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6981480" y="518256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738360" y="189000"/>
          <a:ext cx="7939080" cy="366480"/>
        </p:xfrm>
        <a:graphic>
          <a:graphicData uri="http://schemas.openxmlformats.org/drawingml/2006/table">
            <a:tbl>
              <a:tblPr/>
              <a:tblGrid>
                <a:gridCol w="7939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4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ويان عموديين على نفس المستقيم ،فإنهما متوازيان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440" y="1046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09640" y="836640"/>
          <a:ext cx="7785000" cy="504720"/>
        </p:xfrm>
        <a:graphic>
          <a:graphicData uri="http://schemas.openxmlformats.org/drawingml/2006/table">
            <a:tbl>
              <a:tblPr/>
              <a:tblGrid>
                <a:gridCol w="778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(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5</a:t>
                      </a:r>
                      <a:r>
                        <a:rPr b="1" lang="ar-M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ن نقطة في الفضاء يمر مستقيم وحيد عمودي على مستوى معلوم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1800" y="20552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54000" y="1628640"/>
          <a:ext cx="7656480" cy="505080"/>
        </p:xfrm>
        <a:graphic>
          <a:graphicData uri="http://schemas.openxmlformats.org/drawingml/2006/table">
            <a:tbl>
              <a:tblPr/>
              <a:tblGrid>
                <a:gridCol w="765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(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6</a:t>
                      </a:r>
                      <a:r>
                        <a:rPr b="1" lang="ar-M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)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: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ن نقطة في الفضاء يمر مستوى وحيد عمودي على مستقيم معلوم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1440" y="2940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8000" y="2492280"/>
          <a:ext cx="8137080" cy="639720"/>
        </p:xfrm>
        <a:graphic>
          <a:graphicData uri="http://schemas.openxmlformats.org/drawingml/2006/table">
            <a:tbl>
              <a:tblPr/>
              <a:tblGrid>
                <a:gridCol w="813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43160" indent="-1343160" algn="r" rtl="1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cs typeface="Arabic Transparent"/>
                        </a:rPr>
                        <a:t>خاصية(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7</a:t>
                      </a:r>
                      <a:r>
                        <a:rPr b="1" lang="ar-M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abic Transparent"/>
                        </a:rPr>
                        <a:t>):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ا كان مستويان متقاطعان عموديين على نفس المستو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،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فإن تقاطعهما مستقيم </a:t>
                      </a: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r>
                        <a:rPr b="1" lang="fr-FR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800" y="400968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GE0Ctl"/>
          <p:cNvGraphicFramePr/>
          <p:nvPr/>
        </p:nvGraphicFramePr>
        <p:xfrm>
          <a:off x="5202360" y="3716280"/>
          <a:ext cx="2476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GE0Ctl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2360" y="3716280"/>
                    <a:ext cx="2476440" cy="17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746360" y="3429000"/>
          <a:ext cx="6191280" cy="2592360"/>
        </p:xfrm>
        <a:graphic>
          <a:graphicData uri="http://schemas.openxmlformats.org/drawingml/2006/table">
            <a:tbl>
              <a:tblPr/>
              <a:tblGrid>
                <a:gridCol w="2921040"/>
                <a:gridCol w="327024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 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مستويا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'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ان على المستوى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و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Q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’</a:t>
                      </a:r>
                      <a:r>
                        <a:rPr b="1" lang="ar-M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يتقاطعان وفق المستقيم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.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 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إذن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: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D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عمودي على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.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Arabic Transparent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330720" y="2602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Arial"/>
              </a:rPr>
              <a:t>تما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2600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M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26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M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26000" y="278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M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0840" y="508464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d.educanet2.ch/jeanluc.lienhard/perspective/page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9360" y="274680"/>
            <a:ext cx="7821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cs typeface="Arial"/>
              </a:rPr>
              <a:t>تمرين </a:t>
            </a: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4920" y="981000"/>
            <a:ext cx="76057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BCDEFGH</a:t>
            </a: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مكعب ،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مركز الوجه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منتصف الضلع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G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حدد نقطة تقاطع المستقيم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MA" sz="2400" spc="-1" strike="noStrike">
                <a:solidFill>
                  <a:srgbClr val="000000"/>
                </a:solidFill>
                <a:latin typeface="Times New Roman"/>
              </a:rPr>
              <a:t> والمستوى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FGH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GE0Ctl1"/>
          <p:cNvGraphicFramePr/>
          <p:nvPr/>
        </p:nvGraphicFramePr>
        <p:xfrm>
          <a:off x="1025640" y="2205000"/>
          <a:ext cx="619272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2205000"/>
                    <a:ext cx="6192720" cy="4033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49360" y="274680"/>
            <a:ext cx="73166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1</a:t>
            </a: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-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Verdana"/>
                <a:cs typeface="Arial"/>
              </a:rPr>
              <a:t>رسم الأشكال الفضائية في المستو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27080" y="981000"/>
            <a:ext cx="8871120" cy="80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عض القواعد الأساسية  لرسم أشكال فضائية ومجسمات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طوط المتصلة في الرسم تمثل الخطوط المرئية في الواقع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طوط المتقطعة في الرسم تمثل الخطوط غير المرئية في الواقع.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قيمات المتوازية في الواقع تمثل بمستقيمات متوازية في الرسم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قط المستقيمية في الواقع تمثل بنقط مستقيمية في الرسم 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تصف قطعة في الواقع يمثل بمنتصف قطعة في الرسم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ى العموم يتم احترام تناسبية القطع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مستويات الأمامية الأشكال تمثل بقياساتها الحقيقية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 u="sng">
                <a:solidFill>
                  <a:srgbClr val="000000"/>
                </a:solidFill>
                <a:uFillTx/>
                <a:latin typeface="Arial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640" y="260280"/>
            <a:ext cx="69120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أولا لدينا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نقطتين من المستوى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G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  إذن المستقيم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ضمن المستوى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G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وبما أن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نقطة تقاطع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و المستوى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فإن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تنتمي إلى تقاطع المستويين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G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أي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إذن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هي نقطة تقاطع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MA" sz="16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GE0Ctl1"/>
          <p:cNvGraphicFramePr/>
          <p:nvPr/>
        </p:nvGraphicFramePr>
        <p:xfrm>
          <a:off x="809640" y="2205000"/>
          <a:ext cx="61912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2205000"/>
                    <a:ext cx="61912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06720" y="274320"/>
            <a:ext cx="547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cs typeface="Arial"/>
              </a:rPr>
              <a:t>تمرين </a:t>
            </a: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GE0Ctl1"/>
          <p:cNvGraphicFramePr/>
          <p:nvPr/>
        </p:nvGraphicFramePr>
        <p:xfrm>
          <a:off x="1025640" y="2205000"/>
          <a:ext cx="619272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2205000"/>
                    <a:ext cx="6192720" cy="4033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GE0Ctl0"/>
          <p:cNvGraphicFramePr/>
          <p:nvPr/>
        </p:nvGraphicFramePr>
        <p:xfrm>
          <a:off x="809640" y="1916280"/>
          <a:ext cx="684036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GE0Ctl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916280"/>
                    <a:ext cx="6840360" cy="4754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673280" y="26028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000" spc="-1" strike="noStrike">
                <a:solidFill>
                  <a:srgbClr val="000000"/>
                </a:solidFill>
                <a:latin typeface="Arial"/>
              </a:rPr>
              <a:t>انقر داخل الشكل ثم استعمل الملمس الأيمن لرؤية الشكل من زوايا مختل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46360" y="90792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دد الأوجه الأمامية والخلفية للمكع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GE0Ctl0"/>
          <p:cNvGraphicFramePr/>
          <p:nvPr/>
        </p:nvGraphicFramePr>
        <p:xfrm>
          <a:off x="809640" y="1916280"/>
          <a:ext cx="684036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GE0Ctl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916280"/>
                    <a:ext cx="6840360" cy="475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673280" y="26028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000" spc="-1" strike="noStrike">
                <a:solidFill>
                  <a:srgbClr val="000000"/>
                </a:solidFill>
                <a:latin typeface="Arial"/>
              </a:rPr>
              <a:t>انقر داخل الشكل ثم استعمل الملمس الأيمن لرؤية الشكل من زوايا مختل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6360" y="90792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دد الأوجه الأمامية والخلفية لرباعي الأوج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GE0Ctl0"/>
          <p:cNvGraphicFramePr/>
          <p:nvPr/>
        </p:nvGraphicFramePr>
        <p:xfrm>
          <a:off x="1314360" y="692280"/>
          <a:ext cx="58867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GE0Ctl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692280"/>
                    <a:ext cx="5886720" cy="432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-720"/>
            <a:ext cx="860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Après avoir cliqué sur la figure,  on peut taper R pour tourner le plan du dessin d'un demi tour autour d'un axe vertical. (R annul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On peut modifier la taille et la position du cube en déplaçant a et c et modifier les paramètres de la perspective en déplaçant C'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106720" y="5038560"/>
            <a:ext cx="4032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GE0Ctl1"/>
          <p:cNvGraphicFramePr/>
          <p:nvPr/>
        </p:nvGraphicFramePr>
        <p:xfrm>
          <a:off x="2879640" y="1916280"/>
          <a:ext cx="2610000" cy="17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GE0Ct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1916280"/>
                    <a:ext cx="2610000" cy="1723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93640" y="260280"/>
            <a:ext cx="73170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 u="sng">
                <a:solidFill>
                  <a:srgbClr val="003300"/>
                </a:solidFill>
                <a:uFillTx/>
                <a:latin typeface="Verdana"/>
                <a:ea typeface="Arabic Transparent"/>
              </a:rPr>
              <a:t>2</a:t>
            </a:r>
            <a:r>
              <a:rPr b="1" lang="ar-MA" sz="3600" spc="-1" strike="noStrike" u="sng">
                <a:solidFill>
                  <a:srgbClr val="003300"/>
                </a:solidFill>
                <a:uFillTx/>
                <a:latin typeface="Verdana"/>
                <a:ea typeface="Arabic Transparent"/>
              </a:rPr>
              <a:t>- </a:t>
            </a:r>
            <a:r>
              <a:rPr b="1" lang="ar-SA" sz="3600" spc="-1" strike="noStrike" u="sng">
                <a:solidFill>
                  <a:srgbClr val="003300"/>
                </a:solidFill>
                <a:uFillTx/>
                <a:latin typeface="Verdana"/>
                <a:cs typeface="Arabic Transparent"/>
              </a:rPr>
              <a:t>موضوعات الهندسة الفضائية</a:t>
            </a:r>
            <a:r>
              <a:rPr b="0" i="1" lang="ar-SA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7040" y="835920"/>
            <a:ext cx="14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Arial"/>
              </a:rPr>
              <a:t>موضوع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ة 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1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GE0Ctl3"/>
          <p:cNvGraphicFramePr/>
          <p:nvPr/>
        </p:nvGraphicFramePr>
        <p:xfrm>
          <a:off x="2879640" y="4724280"/>
          <a:ext cx="261000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GE0Ctl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4724280"/>
                    <a:ext cx="2610000" cy="172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06360" y="4219560"/>
            <a:ext cx="857160" cy="200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6360" y="4148280"/>
            <a:ext cx="805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إذا احتوى مستوى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) 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على نقطتين مختلفتين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و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B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،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فإنه يتضمن المستقيم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AB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ون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5400" y="3715560"/>
            <a:ext cx="14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Arial"/>
              </a:rPr>
              <a:t>موضوع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ة 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2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7080" y="1345320"/>
            <a:ext cx="900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نقطتين مختلفتين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و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B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 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فضاء يمر مستقيم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   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 يرمز له بالرمز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.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AB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68320" y="188280"/>
            <a:ext cx="14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Arial"/>
              </a:rPr>
              <a:t>موضوع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ة 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3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GE0Ctl4"/>
          <p:cNvGraphicFramePr/>
          <p:nvPr/>
        </p:nvGraphicFramePr>
        <p:xfrm>
          <a:off x="4176720" y="1268280"/>
          <a:ext cx="261000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GE0Ctl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720" y="1268280"/>
                    <a:ext cx="2610000" cy="172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-136440" y="2378160"/>
            <a:ext cx="109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GE0Ctl2"/>
          <p:cNvGraphicFramePr/>
          <p:nvPr/>
        </p:nvGraphicFramePr>
        <p:xfrm>
          <a:off x="4176720" y="4581360"/>
          <a:ext cx="261000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GE0Ctl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6720" y="4581360"/>
                    <a:ext cx="2610000" cy="172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-688680" y="692280"/>
            <a:ext cx="10195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من ثلاث نقط غير مستقيمية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و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B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و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في الفضاء يمر مستوى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وحيد يرمز له بالرمز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(ABC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58200" y="3716280"/>
            <a:ext cx="1026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إذا اشترك مستويان مختلفان في نقطة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فإنهما يتقاطعان وفق مستقيم يمر من النقطة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00"/>
                </a:solidFill>
                <a:latin typeface="Arial"/>
              </a:rPr>
              <a:t>A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7040" y="3243960"/>
            <a:ext cx="14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Arial"/>
              </a:rPr>
              <a:t>موضوع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ة 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4</a:t>
            </a:r>
            <a:r>
              <a:rPr b="1" lang="ar-MA" sz="18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170000" y="1201680"/>
            <a:ext cx="2160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9360" y="274680"/>
            <a:ext cx="8037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ea typeface="Arabic Transparent"/>
              </a:rPr>
              <a:t>3</a:t>
            </a:r>
            <a:r>
              <a:rPr b="1" lang="ar-MA" sz="3600" spc="-1" strike="noStrike" u="sng">
                <a:solidFill>
                  <a:srgbClr val="000000"/>
                </a:solidFill>
                <a:uFillTx/>
                <a:latin typeface="Verdana"/>
                <a:ea typeface="Arabic Transparent"/>
              </a:rPr>
              <a:t>-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Verdana"/>
                <a:cs typeface="Arabic Transparent"/>
              </a:rPr>
              <a:t>الأوضاع النسبية وتوازي المستقيمات والمستويات</a:t>
            </a:r>
            <a:r>
              <a:rPr b="0" i="1" lang="ar-SA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-1352160" y="1332720"/>
            <a:ext cx="11466000" cy="4534920"/>
            <a:chOff x="-1352160" y="1332720"/>
            <a:chExt cx="11466000" cy="4534920"/>
          </a:xfrm>
        </p:grpSpPr>
        <p:sp>
          <p:nvSpPr>
            <p:cNvPr id="128" name=""/>
            <p:cNvSpPr/>
            <p:nvPr/>
          </p:nvSpPr>
          <p:spPr>
            <a:xfrm>
              <a:off x="-1352160" y="1332720"/>
              <a:ext cx="1134216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000000"/>
                  </a:solidFill>
                  <a:uFillTx/>
                  <a:latin typeface="Arial"/>
                  <a:cs typeface="Arabic Transparent"/>
                </a:rPr>
                <a:t>أ- الأوضاع النسبية لمستقيمين مختلفين</a:t>
              </a: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Arial"/>
                  <a:ea typeface="Arabic Transparen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       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تقيمان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(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D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و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(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D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')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في المستوى يمكن أن يكونا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   ◄ 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إما</a:t>
              </a:r>
              <a:r>
                <a:rPr b="1" lang="fr-FR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 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ستوائيان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: يوجد مستوى يحتوي على المستقيمين معا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  ◄  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و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غير مستوائيين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: لايوجد أي مستوى يحتوي على المستقيمين معا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-429840" y="3948120"/>
              <a:ext cx="10543680" cy="1919520"/>
              <a:chOff x="-429840" y="3948120"/>
              <a:chExt cx="10543680" cy="1919520"/>
            </a:xfrm>
          </p:grpSpPr>
          <p:sp>
            <p:nvSpPr>
              <p:cNvPr id="130" name=""/>
              <p:cNvSpPr/>
              <p:nvPr/>
            </p:nvSpPr>
            <p:spPr>
              <a:xfrm>
                <a:off x="-429840" y="3948120"/>
                <a:ext cx="1054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 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  <a:cs typeface="Arabic Transparent"/>
                  </a:rPr>
                  <a:t>في حالة مستقيمين مستوائيين ، نكون في وضعية الهندسة المستوية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: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74680" y="4668840"/>
                <a:ext cx="8285400" cy="11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 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  <a:cs typeface="Arabic Transparent"/>
                  </a:rPr>
                  <a:t>في المستوى الذي  يحتوي عليهما، يكون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  <a:cs typeface="Arabic Transparent"/>
                  </a:rPr>
                  <a:t>المستقيمان: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MA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        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 إما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   </a:t>
                </a:r>
                <a:r>
                  <a:rPr b="1" lang="ar-SA" sz="3600" spc="-1" strike="noStrike">
                    <a:solidFill>
                      <a:srgbClr val="0000ff"/>
                    </a:solidFill>
                    <a:latin typeface="Arial"/>
                    <a:cs typeface="Arabic Transparent"/>
                  </a:rPr>
                  <a:t>متوازيين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  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  <a:cs typeface="Arabic Transparent"/>
                  </a:rPr>
                  <a:t>أو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   </a:t>
                </a:r>
                <a:r>
                  <a:rPr b="1" lang="ar-SA" sz="3600" spc="-1" strike="noStrike">
                    <a:solidFill>
                      <a:srgbClr val="0000ff"/>
                    </a:solidFill>
                    <a:latin typeface="Arial"/>
                    <a:cs typeface="Arabic Transparent"/>
                  </a:rPr>
                  <a:t>متقاطعين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  <a:ea typeface="Arabic Transparent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3:27:14Z</dcterms:created>
  <dc:creator>oficexp</dc:creator>
  <dc:description/>
  <dc:language>en-US</dc:language>
  <cp:lastModifiedBy>bahassabrahim</cp:lastModifiedBy>
  <dcterms:modified xsi:type="dcterms:W3CDTF">2009-02-21T23:57:22Z</dcterms:modified>
  <cp:revision>148</cp:revision>
  <dc:subject/>
  <dc:title>Diapositive 1</dc:title>
</cp:coreProperties>
</file>