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95A-ACD7-42A2-88E8-C75C58D8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C91-2E45-4333-8C50-F8E7FDD5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89E-4AE5-46B6-83ED-EE2BF4B4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B3F-90E0-4005-A892-D21581B7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14E-1786-4223-8A26-C5B65FF4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AAD-3475-43DF-8D17-65F1C8BF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274-ED87-40BB-940B-A9B304DE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2F8-7ED1-4D26-A88B-1473798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DF0-EB1C-46CE-AC57-93E2B7F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397-CE26-4588-BEDA-D6DFD593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FC9-62F1-486C-AF4A-53916EC9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B75-D654-4C6D-ABFF-47E03C5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CF50-9F98-4C97-99AC-82EB52FE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74390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442800"/>
            <a:ext cx="7619760" cy="5972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2000" y="5877000"/>
            <a:ext cx="6696000" cy="981000"/>
          </a:xfrm>
          <a:prstGeom prst="ellipse">
            <a:avLst/>
          </a:prstGeom>
          <a:solidFill>
            <a:srgbClr val="00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602136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ff"/>
                </a:solidFill>
                <a:latin typeface="Arial"/>
              </a:rPr>
              <a:t>Voor meer dan 2500 PowerPoint’s CLICK op onderstaande hyper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5:39:38Z</dcterms:created>
  <dc:creator>ICI</dc:creator>
  <dc:description/>
  <dc:language>en-US</dc:language>
  <cp:lastModifiedBy>Smets</cp:lastModifiedBy>
  <dcterms:modified xsi:type="dcterms:W3CDTF">2009-02-19T20:29:47Z</dcterms:modified>
  <cp:revision>5</cp:revision>
  <dc:subject/>
  <dc:title>Soa Lee</dc:title>
</cp:coreProperties>
</file>