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media/image12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9CA19-7C03-4F8D-ABF8-35D447408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643E9-3968-44D4-B808-56409D75D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DF266-5D6B-4748-8319-661145BF9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99AB4-690D-41AD-8C28-A33373807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A994A-73AA-40AF-AC61-29A0DEC72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31471-5194-40DF-9532-F5751129B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73872-AA39-4FE6-8EC8-5D1F9681F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D8395-F7D5-4566-B60B-84BE3D2EE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B9E03-C537-4610-B83C-89B6DF968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685D9-723D-46A7-94A5-258A11EFC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D0559-DACD-4B9A-99E3-9E69F424F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298C1-692C-41F1-84D2-CA18DD3FC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4A4A2-9107-4128-BB60-73DE1A3BFD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gif"/><Relationship Id="rId3" Type="http://schemas.openxmlformats.org/officeDocument/2006/relationships/image" Target="../media/image12.gif"/><Relationship Id="rId4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852480" y="0"/>
            <a:ext cx="7439040" cy="6858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004840" y="0"/>
            <a:ext cx="5134320" cy="6858000"/>
          </a:xfrm>
          <a:prstGeom prst="rect">
            <a:avLst/>
          </a:prstGeom>
          <a:ln w="0">
            <a:noFill/>
          </a:ln>
        </p:spPr>
      </p:pic>
    </p:spTree>
  </p:cSld>
  <p:transition>
    <p:push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762120" y="442800"/>
            <a:ext cx="7619760" cy="59724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1332000" y="5877000"/>
            <a:ext cx="6696000" cy="981000"/>
          </a:xfrm>
          <a:prstGeom prst="ellipse">
            <a:avLst/>
          </a:prstGeom>
          <a:solidFill>
            <a:srgbClr val="00ffff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1979640" y="6237360"/>
            <a:ext cx="5388120" cy="4284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latin typeface="Mangal"/>
              </a:rPr>
              <a:t>www.free-powerpoints.goedbegin.be</a:t>
            </a:r>
            <a:endParaRPr b="0" lang="en-US" sz="2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latin typeface="Mangal"/>
              <a:ea typeface="Mangal"/>
            </a:endParaRPr>
          </a:p>
        </p:txBody>
      </p:sp>
      <p:sp>
        <p:nvSpPr>
          <p:cNvPr id="64" name=""/>
          <p:cNvSpPr/>
          <p:nvPr/>
        </p:nvSpPr>
        <p:spPr>
          <a:xfrm>
            <a:off x="2124000" y="6021360"/>
            <a:ext cx="518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200" spc="-1" strike="noStrike">
                <a:solidFill>
                  <a:srgbClr val="0000ff"/>
                </a:solidFill>
                <a:latin typeface="Arial"/>
              </a:rPr>
              <a:t>Voor meer dan 2500 PowerPoint’s CLICK op onderstaande hyperlin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autoRev="1" nodeType="after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" dur="500" fill="hold"/>
                                        <p:tgtEl>
                                          <p:spTgt spid="6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004840" y="0"/>
            <a:ext cx="5134320" cy="6858000"/>
          </a:xfrm>
          <a:prstGeom prst="rect">
            <a:avLst/>
          </a:prstGeom>
          <a:ln w="0">
            <a:noFill/>
          </a:ln>
        </p:spPr>
      </p:pic>
    </p:spTree>
  </p:cSld>
  <p:transition>
    <p:push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004840" y="0"/>
            <a:ext cx="5134320" cy="6858000"/>
          </a:xfrm>
          <a:prstGeom prst="rect">
            <a:avLst/>
          </a:prstGeom>
          <a:ln w="0">
            <a:noFill/>
          </a:ln>
        </p:spPr>
      </p:pic>
    </p:spTree>
  </p:cSld>
  <p:transition>
    <p:push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004840" y="0"/>
            <a:ext cx="5134320" cy="6858000"/>
          </a:xfrm>
          <a:prstGeom prst="rect">
            <a:avLst/>
          </a:prstGeom>
          <a:ln w="0">
            <a:noFill/>
          </a:ln>
        </p:spPr>
      </p:pic>
    </p:spTree>
  </p:cSld>
  <p:transition>
    <p:push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004840" y="0"/>
            <a:ext cx="5134320" cy="6858000"/>
          </a:xfrm>
          <a:prstGeom prst="rect">
            <a:avLst/>
          </a:prstGeom>
          <a:ln w="0">
            <a:noFill/>
          </a:ln>
        </p:spPr>
      </p:pic>
    </p:spTree>
  </p:cSld>
  <p:transition>
    <p:push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00016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  <p:transition>
    <p:push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004840" y="0"/>
            <a:ext cx="5134320" cy="6858000"/>
          </a:xfrm>
          <a:prstGeom prst="rect">
            <a:avLst/>
          </a:prstGeom>
          <a:ln w="0">
            <a:noFill/>
          </a:ln>
        </p:spPr>
      </p:pic>
    </p:spTree>
  </p:cSld>
  <p:transition>
    <p:push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004840" y="0"/>
            <a:ext cx="5134320" cy="6858000"/>
          </a:xfrm>
          <a:prstGeom prst="rect">
            <a:avLst/>
          </a:prstGeom>
          <a:ln w="0">
            <a:noFill/>
          </a:ln>
        </p:spPr>
      </p:pic>
    </p:spTree>
  </p:cSld>
  <p:transition>
    <p:push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04840" y="0"/>
            <a:ext cx="5134320" cy="6858000"/>
          </a:xfrm>
          <a:prstGeom prst="rect">
            <a:avLst/>
          </a:prstGeom>
          <a:ln w="0">
            <a:noFill/>
          </a:ln>
        </p:spPr>
      </p:pic>
    </p:spTree>
  </p:cSld>
  <p:transition>
    <p:push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6T15:39:38Z</dcterms:created>
  <dc:creator>ICI</dc:creator>
  <dc:description/>
  <dc:language>en-US</dc:language>
  <cp:lastModifiedBy>Smets</cp:lastModifiedBy>
  <dcterms:modified xsi:type="dcterms:W3CDTF">2009-02-19T20:29:47Z</dcterms:modified>
  <cp:revision>5</cp:revision>
  <dc:subject/>
  <dc:title>Soa Lee</dc:title>
</cp:coreProperties>
</file>