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E96A-D07B-4804-82C5-C25A279B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E674-A119-4B7B-9F92-68C6A49A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1498-868B-47CC-B24F-62569ACD6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DD3C-D91E-4F21-AEDF-D0EF5C5D4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8E9A-76C3-42DF-8A24-5769A06B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A674-98CE-4454-AEC2-2ACA40D4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9AC3-CB91-4969-90C5-C2AF9814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634A-5DE5-4041-81EA-615FD1B4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622E-E8DF-407C-A6D3-9890E1C2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386A-1307-4AEE-9B1A-8157ED20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3771-54E9-41FF-8B8B-3B5D3ED8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2AED-8A20-4C92-B5C8-5B1A73C4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89FC4F-D902-4321-8C2F-8D1B9C78DD6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606D8B-9056-46FD-AB7C-593A548C52BD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0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0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0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0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1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1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1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2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26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29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32" name="Picture 10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1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35" name="Picture 13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14">
              <a:hlinkClick r:id="rId7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39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42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45" name="Picture 10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11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48" name="Picture 13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14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5:42:54Z</dcterms:created>
  <dc:creator>최봉수</dc:creator>
  <dc:description/>
  <dc:language>en-US</dc:language>
  <cp:lastModifiedBy>맛있다 군만두</cp:lastModifiedBy>
  <dcterms:modified xsi:type="dcterms:W3CDTF">2023-07-13T09:02:44Z</dcterms:modified>
  <cp:revision>3</cp:revision>
  <dc:subject/>
  <dc:title>슬라이드 1</dc:title>
</cp:coreProperties>
</file>