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F63-69AA-42B3-8607-5ADD485E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533-CA80-46C1-9873-D0C35685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6BE-B726-425B-AFBE-3D09F44C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E2D-7080-4D0A-BBB8-381E1EEC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2F5E-12A4-4146-A4BE-DAC31CFC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53A-C34E-48E3-B74E-306117F7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863-D34E-4AE5-9353-55C56A8C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063-AF9C-4DCB-8269-991F6537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581-21D0-4BFF-A72F-54BE69F1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9AD9-EF7A-47A6-8D66-A33B21F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B75-4C52-4D31-82B9-67EC900A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1F1-B395-4240-A852-040C4E23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A11F11-88CE-420F-A217-5B057088A5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4680" y="63594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C3923-850B-407E-B2FA-5EFA53A769A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" Target="slide1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9.xml"/><Relationship Id="rId3" Type="http://schemas.openxmlformats.org/officeDocument/2006/relationships/image" Target="../media/image3.png"/><Relationship Id="rId4" Type="http://schemas.openxmlformats.org/officeDocument/2006/relationships/slide" Target="slide11.xml"/><Relationship Id="rId5" Type="http://schemas.openxmlformats.org/officeDocument/2006/relationships/slide" Target="slide5.xml"/><Relationship Id="rId6" Type="http://schemas.openxmlformats.org/officeDocument/2006/relationships/image" Target="../media/image3.png"/><Relationship Id="rId7" Type="http://schemas.openxmlformats.org/officeDocument/2006/relationships/slide" Target="slide13.xml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5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61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64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67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70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74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77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80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83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87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9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90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93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96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0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0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0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0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1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1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1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2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26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8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29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32" name="Picture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35" name="Picture 13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Text Box 14">
              <a:hlinkClick r:id="rId7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239" name="Picture 4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5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242" name="Picture 7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8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4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245" name="Picture 10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1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248" name="Picture 13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14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5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6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7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1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2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3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4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48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51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54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57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5:42:54Z</dcterms:created>
  <dc:creator>최봉수</dc:creator>
  <dc:description/>
  <dc:language>en-US</dc:language>
  <cp:lastModifiedBy>맛있다 군만두</cp:lastModifiedBy>
  <dcterms:modified xsi:type="dcterms:W3CDTF">2023-07-13T09:02:44Z</dcterms:modified>
  <cp:revision>3</cp:revision>
  <dc:subject/>
  <dc:title>슬라이드 1</dc:title>
</cp:coreProperties>
</file>