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E32-0A21-464C-8ED5-33E1A3E8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344-6AA2-4F0F-932E-6859F622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73C-3485-4678-B0F4-F5B3FD34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A73-C242-43DB-B470-EDDF19E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BE2-491A-4063-A61F-B564FD5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427-2743-42D8-97D0-0F1C5FFB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60D-6A90-4F7D-88CA-A216C62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0EB-B57E-43D4-8960-CF5FB0D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342-6276-4C99-8388-5592F93B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922-1F35-4C13-8B28-2C198EA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E61-D19C-4838-B227-39710C4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223-FA35-48E7-93FB-CB7D6658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C5F34-1F65-4C25-80A4-8B71ED4F32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88D56-DC79-4DE9-B3F6-A320CFD2A1B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16:26Z</dcterms:created>
  <dc:creator>최봉수</dc:creator>
  <dc:description/>
  <dc:language>en-US</dc:language>
  <cp:lastModifiedBy>맛있다 군만두</cp:lastModifiedBy>
  <dcterms:modified xsi:type="dcterms:W3CDTF">2023-07-13T10:49:19Z</dcterms:modified>
  <cp:revision>4</cp:revision>
  <dc:subject/>
  <dc:title>슬라이드 1</dc:title>
</cp:coreProperties>
</file>