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C246-09C9-41A0-BE46-2B0915E2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892-173E-4CF0-B94F-40DD8CDC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F22A-930A-41D8-866F-11BE1CA1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5BC-2ACD-4199-9E51-D5E0A7F7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0229-DA6E-4291-BB82-C3C9F7AE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A31-E190-4B4C-A2E7-2F5DAC08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1F8-93D0-4BA1-9192-2C636374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71C7-D679-433A-AE59-5CDADAF9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6CB1-B25C-40D4-8923-12AC4DFE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219-2742-4DDE-AD77-19F01A0E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82BE-03FD-4C25-930C-43EC92C2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C00E-9051-4EE4-84AB-6FBEAFB5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C304C-4C05-4487-AB6F-0EC8CA337E9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A57A6-C91C-44BC-ADAF-5A6C557C5B7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3:16:26Z</dcterms:created>
  <dc:creator>최봉수</dc:creator>
  <dc:description/>
  <dc:language>en-US</dc:language>
  <cp:lastModifiedBy>맛있다 군만두</cp:lastModifiedBy>
  <dcterms:modified xsi:type="dcterms:W3CDTF">2023-07-13T10:49:19Z</dcterms:modified>
  <cp:revision>4</cp:revision>
  <dc:subject/>
  <dc:title>슬라이드 1</dc:title>
</cp:coreProperties>
</file>