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gif" ContentType="image/gif"/>
  <Override PartName="/ppt/media/image26.gif" ContentType="image/gif"/>
  <Override PartName="/ppt/media/image20.jpeg" ContentType="image/jpeg"/>
  <Override PartName="/ppt/media/image29.gif" ContentType="image/gif"/>
  <Override PartName="/ppt/media/image31.gif" ContentType="image/gif"/>
  <Override PartName="/ppt/media/image28.gif" ContentType="image/gif"/>
  <Override PartName="/ppt/media/image14.jpeg" ContentType="image/jpeg"/>
  <Override PartName="/ppt/media/image8.png" ContentType="image/png"/>
  <Override PartName="/ppt/media/image9.jpeg" ContentType="image/jpeg"/>
  <Override PartName="/ppt/media/image10.png" ContentType="image/png"/>
  <Override PartName="/ppt/media/image5.jpeg" ContentType="image/jpeg"/>
  <Override PartName="/ppt/media/image11.wmf" ContentType="image/x-wmf"/>
  <Override PartName="/ppt/media/image12.png" ContentType="image/png"/>
  <Override PartName="/ppt/media/image7.jpeg" ContentType="image/jpeg"/>
  <Override PartName="/ppt/media/image13.png" ContentType="image/png"/>
  <Override PartName="/ppt/media/image33.gif" ContentType="image/gif"/>
  <Override PartName="/ppt/media/image4.jpeg" ContentType="image/jpeg"/>
  <Override PartName="/ppt/media/image25.jpeg" ContentType="image/jpeg"/>
  <Override PartName="/ppt/media/image3.wmf" ContentType="image/x-wmf"/>
  <Override PartName="/ppt/media/image2.jpeg" ContentType="image/jpeg"/>
  <Override PartName="/ppt/media/image1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gif" ContentType="image/gif"/>
  <Override PartName="/ppt/media/image30.gif" ContentType="image/gif"/>
  <Override PartName="/ppt/media/image23.png" ContentType="image/png"/>
  <Override PartName="/ppt/media/image32.gif" ContentType="image/gif"/>
  <Override PartName="/ppt/media/image19.jpeg" ContentType="image/jpeg"/>
  <Override PartName="/ppt/media/image6.gif" ContentType="image/gif"/>
  <Override PartName="/ppt/media/image2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FBC-99D4-4F83-B4BF-5FD6425D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4187160"/>
            <a:ext cx="854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278-976E-4ABC-9F0E-27FF130D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418716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418716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EEF-0A90-4553-B843-666E0959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60020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60020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418716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418716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418716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1281-BB7E-424A-995D-BB1ADEA3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1909-9249-4ACB-85F1-8EA1A1A0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94AA-33B1-4F4A-A643-9A09E89B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7770-15AF-455D-8F55-EEF72E4F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600200"/>
            <a:ext cx="4167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298D-2E2A-4014-9311-FFF8E680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7774-4D8E-428B-B93B-F3529488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74A3-30CA-4181-B8E6-C9A62881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600200"/>
            <a:ext cx="4167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18716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EAF3-4F42-4C24-9676-40BF525A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764-E891-4319-8872-7AF613D6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418716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5BD2-61E1-425F-9B70-BCE474A5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4187160"/>
            <a:ext cx="854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2104-15CB-47B2-9403-D3B0D4AC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4187160"/>
            <a:ext cx="854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95A0-DF56-43EC-AB75-97BEB3C3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418716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418716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7122-6297-49AD-9A6D-A0FAA51E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60020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60020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418716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418716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418716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3DD6-E264-468C-B6BE-14A4DA15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1ED6-094E-4714-B27E-D3793671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600200"/>
            <a:ext cx="4167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A559-92FC-4654-88D9-E95C6461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88D1-393B-4CB9-96EA-130D1F5D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BC27-9055-41B4-9672-14981299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600200"/>
            <a:ext cx="4167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418716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5096-E3B8-424B-8981-220961FB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418716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A18-2345-4B2B-A1B9-E01E2437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4187160"/>
            <a:ext cx="854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83B-CCA6-419B-B4F6-0314969F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D521-4437-4D89-ACBA-E088CA7B5E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799"/>
              </a:spcBef>
              <a:buClr>
                <a:srgbClr val="66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09680" indent="-3808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09680" indent="-3808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09680" indent="-3808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5119-9F5F-41EF-BF36-213037EA80E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image" Target="../media/image31.gif"/><Relationship Id="rId8" Type="http://schemas.openxmlformats.org/officeDocument/2006/relationships/image" Target="../media/image32.gif"/><Relationship Id="rId9" Type="http://schemas.openxmlformats.org/officeDocument/2006/relationships/image" Target="../media/image33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. Le Thi Kim D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2. Dang Thi Thuy Nga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3. Nguyen Thi Tan Bin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4. Phan Thi Hoai Than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5. Bui Thi Han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6. Ngo Thi Hong Lin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762120" y="762120"/>
            <a:ext cx="784836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iscourse and Communication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med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495360" y="46864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38080" y="1066680"/>
            <a:ext cx="7925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1.5. Declar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est : </a:t>
            </a: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I now pronounce you husband and w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Referee : You’re 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ange the status of some entity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Appointing, naming, resigning, arrest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2"/>
          <p:cNvSpPr/>
          <p:nvPr/>
        </p:nvSpPr>
        <p:spPr>
          <a:xfrm>
            <a:off x="304920" y="171360"/>
            <a:ext cx="8458200" cy="68580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ive accepted 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10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10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Oval 2"/>
          <p:cNvSpPr/>
          <p:nvPr/>
        </p:nvSpPr>
        <p:spPr>
          <a:xfrm>
            <a:off x="228600" y="228600"/>
            <a:ext cx="8458200" cy="68580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iscours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121932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Pract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form of speech 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Keep qu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How nice you 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’ll call you as soon a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You are f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t’s rai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562720" y="990720"/>
            <a:ext cx="2895480" cy="914400"/>
          </a:xfrm>
          <a:prstGeom prst="wedgeEllipseCallout">
            <a:avLst>
              <a:gd name="adj1" fmla="val -90240"/>
              <a:gd name="adj2" fmla="val 8698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105520" y="2209680"/>
            <a:ext cx="3124080" cy="609840"/>
          </a:xfrm>
          <a:prstGeom prst="wedgeEllipseCallout">
            <a:avLst>
              <a:gd name="adj1" fmla="val -68597"/>
              <a:gd name="adj2" fmla="val 9505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exp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486400" y="3124080"/>
            <a:ext cx="3657600" cy="762120"/>
          </a:xfrm>
          <a:prstGeom prst="wedgeEllipseCallout">
            <a:avLst>
              <a:gd name="adj1" fmla="val -47134"/>
              <a:gd name="adj2" fmla="val 6604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commi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52880" y="4495680"/>
            <a:ext cx="3657600" cy="609840"/>
          </a:xfrm>
          <a:prstGeom prst="wedgeEllipseCallout">
            <a:avLst>
              <a:gd name="adj1" fmla="val -56509"/>
              <a:gd name="adj2" fmla="val 429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191120" y="5486400"/>
            <a:ext cx="4724280" cy="990720"/>
          </a:xfrm>
          <a:prstGeom prst="wedgeEllipseCallout">
            <a:avLst>
              <a:gd name="adj1" fmla="val -63106"/>
              <a:gd name="adj2" fmla="val 3028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repre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Oval 2"/>
          <p:cNvSpPr/>
          <p:nvPr/>
        </p:nvSpPr>
        <p:spPr>
          <a:xfrm>
            <a:off x="228600" y="228600"/>
            <a:ext cx="8458200" cy="68580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iscours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38080" y="106668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8600" y="1143000"/>
            <a:ext cx="8915400" cy="545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00"/>
                </a:solidFill>
                <a:uFillTx/>
                <a:latin typeface="Lucida Handwriting"/>
              </a:rPr>
              <a:t>Notes</a:t>
            </a:r>
            <a:r>
              <a:rPr b="0" lang="en-US" sz="3200" spc="-1" strike="noStrike">
                <a:solidFill>
                  <a:srgbClr val="009900"/>
                </a:solidFill>
                <a:latin typeface="Lucida Handwriting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nge of linguistic forms available for each speech act varies, but for each the form range from aggravated to mitig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*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Times New Roman"/>
              </a:rPr>
              <a:t>Aggrav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may be extremely strong and dir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Times New Roman"/>
              </a:rPr>
              <a:t>Mitigated :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statement may be softened, made less dir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5029200" cy="42670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1552320" y="288720"/>
            <a:ext cx="6039360" cy="29088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iscours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1219320"/>
            <a:ext cx="3505320" cy="1143000"/>
          </a:xfrm>
          <a:prstGeom prst="cloudCallout">
            <a:avLst>
              <a:gd name="adj1" fmla="val -63675"/>
              <a:gd name="adj2" fmla="val 13777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The meat is too s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990720"/>
            <a:ext cx="3200400" cy="1371600"/>
          </a:xfrm>
          <a:prstGeom prst="wedgeEllipseCallout">
            <a:avLst>
              <a:gd name="adj1" fmla="val 34722"/>
              <a:gd name="adj2" fmla="val 103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Oh, The meat is ok but it’s a little bit sal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Oval 2"/>
          <p:cNvSpPr/>
          <p:nvPr/>
        </p:nvSpPr>
        <p:spPr>
          <a:xfrm>
            <a:off x="228600" y="228600"/>
            <a:ext cx="8458200" cy="68580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iscours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38080" y="106668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14400" y="1143000"/>
            <a:ext cx="739152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Times New Roman"/>
              </a:rPr>
              <a:t>Aggrava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t may be extremely strong and direct</a:t>
            </a: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52280" y="3505320"/>
            <a:ext cx="2514600" cy="30859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762120" y="2209680"/>
            <a:ext cx="4647960" cy="1295640"/>
          </a:xfrm>
          <a:prstGeom prst="wedgeEllipseCallout">
            <a:avLst>
              <a:gd name="adj1" fmla="val -22847"/>
              <a:gd name="adj2" fmla="val 1215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Handwriting"/>
              </a:rPr>
              <a:t>Oh my god! What’s this? You spoilt my party. You sing terrib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MUSIC056" descr=""/>
          <p:cNvPicPr/>
          <p:nvPr/>
        </p:nvPicPr>
        <p:blipFill>
          <a:blip r:embed="rId2"/>
          <a:stretch/>
        </p:blipFill>
        <p:spPr>
          <a:xfrm>
            <a:off x="6095880" y="2971800"/>
            <a:ext cx="2828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04560" y="1294920"/>
            <a:ext cx="792468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Why do the speakers choose mitigated form or aggravated for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depends on the speaker’s natural response to social and psychological factors which require that the speech act be mitigated or aggrav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738440" y="405000"/>
            <a:ext cx="5819760" cy="48492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iscours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876920" y="1752480"/>
            <a:ext cx="4038480" cy="3810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410080" y="2286000"/>
            <a:ext cx="297180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95880" y="2895480"/>
            <a:ext cx="1676520" cy="1447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97320" y="1905120"/>
            <a:ext cx="19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SPEECH SIT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868720" y="5105520"/>
            <a:ext cx="19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SPEECH SIT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74720" y="2590920"/>
            <a:ext cx="155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ECH 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477120" y="33526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. DISCOURSE LEVE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6098400" y="4419720"/>
            <a:ext cx="155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ECH 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80880" y="1600200"/>
            <a:ext cx="4419720" cy="79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ame speech act could occur in other speech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eech event could take place in different speech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sk is to show how they interlock or overl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2"/>
          <p:cNvSpPr/>
          <p:nvPr/>
        </p:nvSpPr>
        <p:spPr>
          <a:xfrm>
            <a:off x="457200" y="304920"/>
            <a:ext cx="8229600" cy="114300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iscours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1552320" y="321840"/>
            <a:ext cx="6039360" cy="45252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peech act &amp; speech ev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181080" y="1066680"/>
            <a:ext cx="8839080" cy="5410440"/>
          </a:xfrm>
          <a:prstGeom prst="rect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boundary line between speech ac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nd speech event is </a:t>
            </a:r>
            <a:r>
              <a:rPr b="1" i="1" lang="en-US" sz="3300" spc="-1" strike="noStrike">
                <a:solidFill>
                  <a:srgbClr val="ff0000"/>
                </a:solidFill>
                <a:latin typeface="Times New Roman"/>
              </a:rPr>
              <a:t>not entirely clear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Ex: a speech act has a structure beyon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the single utterance level, it’s a speech ev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peech acts are connected together to form som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0000"/>
                </a:solidFill>
                <a:latin typeface="Times New Roman"/>
              </a:rPr>
              <a:t>higher unit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and that higher unit </a:t>
            </a:r>
            <a:r>
              <a:rPr b="1" i="1" lang="en-US" sz="3300" spc="-1" strike="noStrike">
                <a:solidFill>
                  <a:srgbClr val="ff0000"/>
                </a:solidFill>
                <a:latin typeface="Times New Roman"/>
              </a:rPr>
              <a:t>has a describabl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0000"/>
                </a:solidFill>
                <a:latin typeface="Times New Roman"/>
              </a:rPr>
              <a:t>structur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, then the higher unit is </a:t>
            </a:r>
            <a:r>
              <a:rPr b="1" lang="en-US" sz="3300" spc="-1" strike="noStrike">
                <a:solidFill>
                  <a:srgbClr val="ff0000"/>
                </a:solidFill>
                <a:latin typeface="Times New Roman"/>
              </a:rPr>
              <a:t>a speech event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10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1000"/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1000"/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1000"/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lationship betwe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peech event &amp; speech situ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04560" y="20570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boundary between speech event &amp; speech situation seems to be easy to divide clearly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peech act occur within speech event &amp; speech events occur within speech situation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1: you may do a directive(speech act) during an argument(speech event) during a class(speech situation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2: you may do an expressive during a joke during  a reun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6840" y="251460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peech situation includes all the </a:t>
            </a:r>
            <a:r>
              <a:rPr b="0" i="1" lang="en-US" sz="3200" spc="-1" strike="noStrike">
                <a:solidFill>
                  <a:srgbClr val="cc0000"/>
                </a:solidFill>
                <a:latin typeface="Tahoma"/>
              </a:rPr>
              <a:t>sociolinguistic inform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bout speakers &amp; hearers, their </a:t>
            </a:r>
            <a:r>
              <a:rPr b="0" i="1" lang="en-US" sz="3200" spc="-1" strike="noStrike">
                <a:solidFill>
                  <a:srgbClr val="cc0000"/>
                </a:solidFill>
                <a:latin typeface="Tahoma"/>
              </a:rPr>
              <a:t>status relationship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&amp; </a:t>
            </a:r>
            <a:r>
              <a:rPr b="0" i="1" lang="en-US" sz="3200" spc="-1" strike="noStrike">
                <a:solidFill>
                  <a:srgbClr val="cc0000"/>
                </a:solidFill>
                <a:latin typeface="Tahoma"/>
              </a:rPr>
              <a:t>ro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cc0000"/>
                </a:solidFill>
                <a:latin typeface="Tahoma"/>
              </a:rPr>
              <a:t>environment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 &amp; </a:t>
            </a:r>
            <a:r>
              <a:rPr b="0" i="1" lang="en-US" sz="3200" spc="-1" strike="noStrike">
                <a:solidFill>
                  <a:srgbClr val="cc0000"/>
                </a:solidFill>
                <a:latin typeface="Tahoma"/>
              </a:rPr>
              <a:t>time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" y="304920"/>
            <a:ext cx="815328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lationship betwe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peech event &amp; speech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09480" y="228600"/>
            <a:ext cx="1524240" cy="6172200"/>
          </a:xfrm>
          <a:prstGeom prst="downArrow">
            <a:avLst>
              <a:gd name="adj1" fmla="val 50000"/>
              <a:gd name="adj2" fmla="val 101234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223080" y="578520"/>
            <a:ext cx="4526640" cy="70056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/ Discours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Oval 2"/>
          <p:cNvSpPr/>
          <p:nvPr/>
        </p:nvSpPr>
        <p:spPr>
          <a:xfrm>
            <a:off x="2362320" y="1943280"/>
            <a:ext cx="6248160" cy="106668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/ Discours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2"/>
          <p:cNvSpPr/>
          <p:nvPr/>
        </p:nvSpPr>
        <p:spPr>
          <a:xfrm>
            <a:off x="2313000" y="3521160"/>
            <a:ext cx="6248520" cy="99036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/ Conversation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2"/>
          <p:cNvSpPr/>
          <p:nvPr/>
        </p:nvSpPr>
        <p:spPr>
          <a:xfrm>
            <a:off x="2514600" y="5057640"/>
            <a:ext cx="6095880" cy="106704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V/ Small structu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ch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conclusion, the 3-way classification of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speech act, speech event, speech situ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simple on the surface. It is perhaps less formal than we would like &amp; the overlap of the levels is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confusing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" y="304920"/>
            <a:ext cx="815328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lationship betwe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peech event &amp; speech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3520" y="266688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" y="11376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.VnFreeH"/>
                <a:ea typeface="Arial"/>
              </a:rPr>
              <a:t>A.Three – leve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peech situation (town meeting, court trial, classroom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peech event (narrative, conversation, service encounter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speech 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ive(to get SO to do/ not to do 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ssive(promise, oath, pledg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laration(change the state on utt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ressive(feelings, e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tive(state of fac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a range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tig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grav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ms for each act&amp; ; and hedges speaker responsibility for the speech act (e.g: directive includes asking, suggesting, demanding, ordering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2"/>
          <p:cNvSpPr/>
          <p:nvPr/>
        </p:nvSpPr>
        <p:spPr>
          <a:xfrm>
            <a:off x="304920" y="228600"/>
            <a:ext cx="8540640" cy="63972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I/ Discours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. Notional-Fun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1.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hange factual inform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hange intellectual attitu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hange emotional attitu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hange moral attitu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a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cializ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function includes subcategorie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: Exchange emotional attitudes includes (dis)likes, (non)preference (dis)satisfaction, worry, confidence, fear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2.No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ener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categories of time, space,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ativ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ve, mental, relational, deixis,existence, ect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pecif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identification of people, objects, environment, pets, hobbies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3.Lexicon – cross-referenced to Function &amp; Notion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Oval 2"/>
          <p:cNvSpPr/>
          <p:nvPr/>
        </p:nvSpPr>
        <p:spPr>
          <a:xfrm>
            <a:off x="304920" y="228600"/>
            <a:ext cx="8540640" cy="63972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I/ Discours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C. HALLI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09680" indent="-3808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Instrumental (brings about a change of  st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209680" indent="-3808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Regulatory(approval, disapproval, behavior regulato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209680" indent="-3808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Representational (states fac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209680" indent="-3808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Interactional(allows successful social exchan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Oval 2"/>
          <p:cNvSpPr/>
          <p:nvPr/>
        </p:nvSpPr>
        <p:spPr>
          <a:xfrm>
            <a:off x="304920" y="228600"/>
            <a:ext cx="8540640" cy="63972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I/ Discours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304920" y="228600"/>
            <a:ext cx="8610480" cy="68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.Personal(express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6.Heuristic(allow you to learn the why’s of your environ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7.Imagi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*They are broken down in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e.g, interrupting, complaining, requesting, ordering, ect) which are not tied specifically to above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Halliday &amp; Has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deational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gic and experiential con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nterpersonal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ocial &amp; express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extu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structure &amp; cohes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 series of prerequisites for communication            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(Goffman – 1976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ahoma"/>
              </a:rPr>
              <a:t>Two-way acoustically adequate&am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ahoma"/>
              </a:rPr>
              <a:t>interpretabl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3353040" cy="258948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2895480" cy="25146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533520" y="457200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  <a:ea typeface="Arial"/>
              </a:rPr>
              <a:t>Contact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2480" y="3352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  <a:ea typeface="Arial"/>
              </a:rPr>
              <a:t>Turn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  <a:ea typeface="Arial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3719520" y="3733920"/>
            <a:ext cx="5424480" cy="31240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460440" y="502920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  <a:ea typeface="Arial"/>
              </a:rPr>
              <a:t>Pre-empt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6640" y="548640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  <a:ea typeface="Arial"/>
              </a:rPr>
              <a:t>Framing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30040" y="594360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  <a:ea typeface="Arial"/>
              </a:rPr>
              <a:t>Norms for the respo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2920" y="640080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  <a:ea typeface="Arial"/>
              </a:rPr>
              <a:t>Nonparticipant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838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Back-channel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0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2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0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5" dur="2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1216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ff"/>
                </a:solidFill>
                <a:latin typeface="Book Antiqua"/>
              </a:rPr>
              <a:t>A series of prerequisites for communication (Goffman – 1976)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.VnUniverseH"/>
              </a:rPr>
              <a:t>1. Two way acoustically adequate and interpretable messages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10000"/>
              </a:lnSpc>
              <a:spcBef>
                <a:spcPts val="624"/>
              </a:spcBef>
              <a:buClr>
                <a:srgbClr val="9966ff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.VnUniverseH"/>
              </a:rPr>
              <a:t>We have to be able to hear the message and it must not be garbled that it can’t be understood nor in a language that we have never heard before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.VnUniverseH"/>
              </a:rPr>
              <a:t>2. Back-channel feedback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500" spc="-1" strike="noStrike">
                <a:solidFill>
                  <a:srgbClr val="000000"/>
                </a:solidFill>
                <a:latin typeface=".VnUniverseH"/>
              </a:rPr>
              <a:t> some feedback to inform us that the reception is occurring.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.VnUniverseH"/>
              </a:rPr>
              <a:t>3. Contact signals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500" spc="-1" strike="noStrike">
                <a:solidFill>
                  <a:srgbClr val="000000"/>
                </a:solidFill>
                <a:latin typeface=".VnUniverseH"/>
              </a:rPr>
              <a:t> some way to show that we want to talk/ the talk can begin, etc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.VnUniverseH"/>
              </a:rPr>
              <a:t>4. Turnover signals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500" spc="-1" strike="noStrike">
                <a:solidFill>
                  <a:srgbClr val="000000"/>
                </a:solidFill>
                <a:latin typeface=".VnUniverseH"/>
              </a:rPr>
              <a:t> ways of indicating the end of messages/ ways of signaling next speaker selec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9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cc"/>
                </a:solidFill>
                <a:latin typeface=".VnUniverseH"/>
              </a:rPr>
              <a:t>        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568520"/>
            <a:ext cx="838188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5. Pre-empt signal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ays to interrupt a talker in midstream to get a rerun of what was said or to capture the chann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6. Framing capabil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re have to be cues to distinguish “bracketed” communication such as  ironic asides, quotes, joke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7. There have to be norm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at the respondent will reply honestly with whatever is relevant to ongoing conversation and no mo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8. Non-participant constraint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peting noise, contact with others outside the conversation must be blocked or if others are meant to be included, eye contact and outside “noise” must be admitted to the chann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44200" y="533520"/>
            <a:ext cx="76302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series of prerequisites for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Goffman – 19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855440" y="658440"/>
            <a:ext cx="6669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VERSATIONAL ANALYS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5400000">
            <a:off x="-2413080" y="147420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fdfdfd"/>
              </a:gs>
              <a:gs pos="50000">
                <a:srgbClr val="fefefe"/>
              </a:gs>
              <a:gs pos="100000">
                <a:srgbClr val="fdfd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 rot="5400000">
            <a:off x="-2016720" y="1910520"/>
            <a:ext cx="403200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gradFill rotWithShape="0">
            <a:gsLst>
              <a:gs pos="0">
                <a:srgbClr val="9966ff">
                  <a:alpha val="36078"/>
                </a:srgbClr>
              </a:gs>
              <a:gs pos="100000">
                <a:srgbClr val="dbca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4572000"/>
            <a:ext cx="6477120" cy="762120"/>
          </a:xfrm>
          <a:prstGeom prst="roundRect">
            <a:avLst>
              <a:gd name="adj" fmla="val 50000"/>
            </a:avLst>
          </a:prstGeom>
          <a:solidFill>
            <a:srgbClr val="ff00ff"/>
          </a:solidFill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362320" y="3429000"/>
            <a:ext cx="6629400" cy="8380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362320" y="2438280"/>
            <a:ext cx="6476760" cy="7621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fff8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2057400" y="2514600"/>
            <a:ext cx="380880" cy="380880"/>
            <a:chOff x="2057400" y="2514600"/>
            <a:chExt cx="380880" cy="380880"/>
          </a:xfrm>
        </p:grpSpPr>
        <p:sp>
          <p:nvSpPr>
            <p:cNvPr id="511" name=""/>
            <p:cNvSpPr/>
            <p:nvPr/>
          </p:nvSpPr>
          <p:spPr>
            <a:xfrm>
              <a:off x="2057400" y="25146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79000" y="25358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98800" y="25560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66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98800" y="25560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118240" y="25754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523689"/>
                </a:gs>
                <a:gs pos="50000">
                  <a:srgbClr val="9966ff"/>
                </a:gs>
                <a:gs pos="100000">
                  <a:srgbClr val="5236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18240" y="25754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2057400" y="3657600"/>
            <a:ext cx="380880" cy="380880"/>
            <a:chOff x="2057400" y="3657600"/>
            <a:chExt cx="380880" cy="380880"/>
          </a:xfrm>
        </p:grpSpPr>
        <p:sp>
          <p:nvSpPr>
            <p:cNvPr id="518" name=""/>
            <p:cNvSpPr/>
            <p:nvPr/>
          </p:nvSpPr>
          <p:spPr>
            <a:xfrm>
              <a:off x="2057400" y="36576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079000" y="36788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098800" y="36990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66ff"/>
                </a:gs>
                <a:gs pos="100000">
                  <a:srgbClr val="fefefe"/>
                </a:gs>
              </a:gsLst>
              <a:lin ang="13500000"/>
            </a:gradFill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98800" y="36990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118240" y="37184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523689"/>
                </a:gs>
                <a:gs pos="50000">
                  <a:srgbClr val="9966ff"/>
                </a:gs>
                <a:gs pos="100000">
                  <a:srgbClr val="523689"/>
                </a:gs>
              </a:gsLst>
              <a:lin ang="8100000"/>
            </a:gradFill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18240" y="37184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905120" y="4724280"/>
            <a:ext cx="380880" cy="381240"/>
            <a:chOff x="1905120" y="4724280"/>
            <a:chExt cx="380880" cy="381240"/>
          </a:xfrm>
        </p:grpSpPr>
        <p:sp>
          <p:nvSpPr>
            <p:cNvPr id="525" name=""/>
            <p:cNvSpPr/>
            <p:nvPr/>
          </p:nvSpPr>
          <p:spPr>
            <a:xfrm>
              <a:off x="1905120" y="4724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926720" y="474552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46520" y="47656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66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946520" y="47656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965960" y="47851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523689"/>
                </a:gs>
                <a:gs pos="50000">
                  <a:srgbClr val="9966ff"/>
                </a:gs>
                <a:gs pos="100000">
                  <a:srgbClr val="5236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65960" y="47851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2438280" y="2514600"/>
            <a:ext cx="6248520" cy="4597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de"/>
                </a:solidFill>
                <a:latin typeface="Arial"/>
                <a:ea typeface="Arial"/>
              </a:rPr>
              <a:t>Openings and closings for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981080" y="1905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cr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514600" y="3429000"/>
            <a:ext cx="62485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de"/>
                </a:solidFill>
                <a:latin typeface="Arial"/>
                <a:ea typeface="Arial"/>
              </a:rPr>
              <a:t>The turn-taking system within the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733920" y="46483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de"/>
                </a:solidFill>
                <a:latin typeface="Arial"/>
                <a:ea typeface="Arial"/>
              </a:rPr>
              <a:t>The reru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322200"/>
            <a:ext cx="85406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w school ye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5029200" cy="37609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762120" y="762120"/>
            <a:ext cx="2286000" cy="2286000"/>
          </a:xfrm>
          <a:prstGeom prst="cloudCallout">
            <a:avLst>
              <a:gd name="adj1" fmla="val 117361"/>
              <a:gd name="adj2" fmla="val 92500"/>
            </a:avLst>
          </a:prstGeom>
          <a:solidFill>
            <a:srgbClr val="dec0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i. So long to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238880" y="0"/>
            <a:ext cx="1905120" cy="2438280"/>
          </a:xfrm>
          <a:prstGeom prst="cloudCallout">
            <a:avLst>
              <a:gd name="adj1" fmla="val -5249"/>
              <a:gd name="adj2" fmla="val 122134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i. How a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3505320"/>
            <a:ext cx="3276360" cy="2133360"/>
          </a:xfrm>
          <a:prstGeom prst="wedgeRoundRectCallout">
            <a:avLst>
              <a:gd name="adj1" fmla="val 68314"/>
              <a:gd name="adj2" fmla="val 81250"/>
              <a:gd name="adj3" fmla="val 16667"/>
            </a:avLst>
          </a:prstGeom>
          <a:solidFill>
            <a:srgbClr val="dec0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ow to open  the conversation with friends in New school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Oval 2"/>
          <p:cNvSpPr/>
          <p:nvPr/>
        </p:nvSpPr>
        <p:spPr>
          <a:xfrm>
            <a:off x="838080" y="914400"/>
            <a:ext cx="7696440" cy="99072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/ Discours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819160" y="228600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" y="2971800"/>
            <a:ext cx="2895480" cy="1447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SPEECH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3733920"/>
            <a:ext cx="3124440" cy="1523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PEECH 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76920" y="228600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791320" y="2895480"/>
            <a:ext cx="2895480" cy="13716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Arial"/>
              </a:rPr>
              <a:t>SPEECH SITU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1066680" y="2058840"/>
            <a:ext cx="7010640" cy="3424320"/>
          </a:xfrm>
          <a:prstGeom prst="rect">
            <a:avLst/>
          </a:prstGeom>
          <a:ln w="0">
            <a:noFill/>
          </a:ln>
        </p:spPr>
      </p:pic>
      <p:grpSp>
        <p:nvGrpSpPr>
          <p:cNvPr id="543" name=""/>
          <p:cNvGrpSpPr/>
          <p:nvPr/>
        </p:nvGrpSpPr>
        <p:grpSpPr>
          <a:xfrm>
            <a:off x="5408640" y="318240"/>
            <a:ext cx="2646000" cy="2260800"/>
            <a:chOff x="5408640" y="318240"/>
            <a:chExt cx="2646000" cy="2260800"/>
          </a:xfrm>
        </p:grpSpPr>
        <p:sp>
          <p:nvSpPr>
            <p:cNvPr id="544" name=""/>
            <p:cNvSpPr/>
            <p:nvPr/>
          </p:nvSpPr>
          <p:spPr>
            <a:xfrm rot="20259000">
              <a:off x="5614560" y="685800"/>
              <a:ext cx="2233800" cy="1525680"/>
            </a:xfrm>
            <a:prstGeom prst="cloudCallout">
              <a:avLst>
                <a:gd name="adj1" fmla="val -74833"/>
                <a:gd name="adj2" fmla="val 95282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78800" y="1116720"/>
              <a:ext cx="1686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’m sure they’ll have good food t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295280" y="1447920"/>
            <a:ext cx="1095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6752160" y="3566160"/>
            <a:ext cx="2163240" cy="1040400"/>
            <a:chOff x="6752160" y="3566160"/>
            <a:chExt cx="2163240" cy="1040400"/>
          </a:xfrm>
        </p:grpSpPr>
        <p:sp>
          <p:nvSpPr>
            <p:cNvPr id="548" name=""/>
            <p:cNvSpPr/>
            <p:nvPr/>
          </p:nvSpPr>
          <p:spPr>
            <a:xfrm rot="5178000">
              <a:off x="7313040" y="3095640"/>
              <a:ext cx="914400" cy="1981080"/>
            </a:xfrm>
            <a:prstGeom prst="wedgeRoundRectCallout">
              <a:avLst>
                <a:gd name="adj1" fmla="val -25120"/>
                <a:gd name="adj2" fmla="val 68310"/>
                <a:gd name="adj3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781680" y="373392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mm - I guess the food isn’t grea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2514600" y="1523880"/>
            <a:ext cx="2361960" cy="795960"/>
            <a:chOff x="2514600" y="1523880"/>
            <a:chExt cx="2361960" cy="795960"/>
          </a:xfrm>
        </p:grpSpPr>
        <p:sp>
          <p:nvSpPr>
            <p:cNvPr id="551" name=""/>
            <p:cNvSpPr/>
            <p:nvPr/>
          </p:nvSpPr>
          <p:spPr>
            <a:xfrm>
              <a:off x="2598840" y="1523880"/>
              <a:ext cx="2108520" cy="727200"/>
            </a:xfrm>
            <a:prstGeom prst="wedgeRectCallout">
              <a:avLst>
                <a:gd name="adj1" fmla="val -32500"/>
                <a:gd name="adj2" fmla="val 62796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514600" y="167724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h - people mostly go for the musi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2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Open and close conversations</a:t>
            </a:r>
            <a:br>
              <a:rPr sz="4400"/>
            </a:br>
            <a:r>
              <a:rPr b="1" lang="en-US" sz="3700" spc="-1" strike="noStrike">
                <a:solidFill>
                  <a:srgbClr val="000000"/>
                </a:solidFill>
                <a:latin typeface=".VnUniverseH"/>
              </a:rPr>
              <a:t>         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fff8"/>
                </a:solidFill>
                <a:latin typeface="Wingdings"/>
                <a:ea typeface="Wingdings"/>
              </a:rPr>
              <a:t></a:t>
            </a:r>
            <a:r>
              <a:rPr b="0" lang="en-US" sz="32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Book Antiqua"/>
              </a:rPr>
              <a:t>Conversation closers (Schegloff and Sac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nish with a “pas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: Say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OK/ yeah/ well/ so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… with falling inton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speaker is willing to consider closing the conversation at this point/ it is the time to bring up any other topic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1676520"/>
            <a:ext cx="8229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0" y="533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147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Open and close conversation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1295280"/>
            <a:ext cx="2666880" cy="5029200"/>
          </a:xfrm>
          <a:prstGeom prst="wedgeRoundRectCallout">
            <a:avLst>
              <a:gd name="adj1" fmla="val 72976"/>
              <a:gd name="adj2" fmla="val 4578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: We go coffee tonigh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: W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: Green plaza hot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: What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: 8 p.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: That’s a good idea. See you to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705720" y="1600200"/>
            <a:ext cx="2438280" cy="4876920"/>
          </a:xfrm>
          <a:prstGeom prst="wedgeRoundRectCallout">
            <a:avLst>
              <a:gd name="adj1" fmla="val -89583"/>
              <a:gd name="adj2" fmla="val 8268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: We go coffee tonigh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: 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: B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: B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3657600" cy="34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4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9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620120" cy="4267080"/>
          </a:xfrm>
          <a:prstGeom prst="rect">
            <a:avLst/>
          </a:prstGeom>
          <a:ln w="0">
            <a:noFill/>
          </a:ln>
        </p:spPr>
      </p:pic>
      <p:grpSp>
        <p:nvGrpSpPr>
          <p:cNvPr id="563" name=""/>
          <p:cNvGrpSpPr/>
          <p:nvPr/>
        </p:nvGrpSpPr>
        <p:grpSpPr>
          <a:xfrm>
            <a:off x="4038480" y="1523880"/>
            <a:ext cx="3048120" cy="1219320"/>
            <a:chOff x="4038480" y="1523880"/>
            <a:chExt cx="3048120" cy="1219320"/>
          </a:xfrm>
        </p:grpSpPr>
        <p:sp>
          <p:nvSpPr>
            <p:cNvPr id="564" name=""/>
            <p:cNvSpPr/>
            <p:nvPr/>
          </p:nvSpPr>
          <p:spPr>
            <a:xfrm>
              <a:off x="4038480" y="1523880"/>
              <a:ext cx="3048120" cy="1219320"/>
            </a:xfrm>
            <a:prstGeom prst="cloudCallout">
              <a:avLst>
                <a:gd name="adj1" fmla="val -10935"/>
                <a:gd name="adj2" fmla="val 67449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1905120"/>
              <a:ext cx="266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ộc lớp mình đẹp trai nhỉ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762120" cy="990360"/>
          </a:xfrm>
          <a:prstGeom prst="rect">
            <a:avLst/>
          </a:prstGeom>
          <a:ln w="0">
            <a:noFill/>
          </a:ln>
        </p:spPr>
      </p:pic>
      <p:grpSp>
        <p:nvGrpSpPr>
          <p:cNvPr id="567" name=""/>
          <p:cNvGrpSpPr/>
          <p:nvPr/>
        </p:nvGrpSpPr>
        <p:grpSpPr>
          <a:xfrm>
            <a:off x="6328800" y="2189880"/>
            <a:ext cx="2586600" cy="2402280"/>
            <a:chOff x="6328800" y="2189880"/>
            <a:chExt cx="2586600" cy="2402280"/>
          </a:xfrm>
        </p:grpSpPr>
        <p:sp>
          <p:nvSpPr>
            <p:cNvPr id="568" name=""/>
            <p:cNvSpPr/>
            <p:nvPr/>
          </p:nvSpPr>
          <p:spPr>
            <a:xfrm rot="2408400">
              <a:off x="6629400" y="2590560"/>
              <a:ext cx="1828800" cy="1600200"/>
            </a:xfrm>
            <a:prstGeom prst="cloudCallout">
              <a:avLst>
                <a:gd name="adj1" fmla="val -44250"/>
                <a:gd name="adj2" fmla="val 58611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05720" y="320040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hưng hơi gầy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1371600" y="1295280"/>
            <a:ext cx="2362320" cy="838440"/>
            <a:chOff x="1371600" y="1295280"/>
            <a:chExt cx="2362320" cy="838440"/>
          </a:xfrm>
        </p:grpSpPr>
        <p:sp>
          <p:nvSpPr>
            <p:cNvPr id="571" name=""/>
            <p:cNvSpPr/>
            <p:nvPr/>
          </p:nvSpPr>
          <p:spPr>
            <a:xfrm>
              <a:off x="1371600" y="1295280"/>
              <a:ext cx="2362320" cy="838440"/>
            </a:xfrm>
            <a:prstGeom prst="wedgeRectCallout">
              <a:avLst>
                <a:gd name="adj1" fmla="val -40726"/>
                <a:gd name="adj2" fmla="val 64583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23880" y="13399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Ừ, nếu không gầy thì đẹp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6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3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543800" cy="4446360"/>
          </a:xfrm>
          <a:prstGeom prst="rect">
            <a:avLst/>
          </a:prstGeom>
          <a:ln w="0">
            <a:noFill/>
          </a:ln>
        </p:spPr>
      </p:pic>
      <p:grpSp>
        <p:nvGrpSpPr>
          <p:cNvPr id="574" name=""/>
          <p:cNvGrpSpPr/>
          <p:nvPr/>
        </p:nvGrpSpPr>
        <p:grpSpPr>
          <a:xfrm>
            <a:off x="5486400" y="1371600"/>
            <a:ext cx="3429000" cy="1143000"/>
            <a:chOff x="5486400" y="1371600"/>
            <a:chExt cx="3429000" cy="1143000"/>
          </a:xfrm>
        </p:grpSpPr>
        <p:sp>
          <p:nvSpPr>
            <p:cNvPr id="575" name=""/>
            <p:cNvSpPr/>
            <p:nvPr/>
          </p:nvSpPr>
          <p:spPr>
            <a:xfrm>
              <a:off x="5486400" y="1371600"/>
              <a:ext cx="3352680" cy="1143000"/>
            </a:xfrm>
            <a:prstGeom prst="wedgeEllipseCallout">
              <a:avLst>
                <a:gd name="adj1" fmla="val -20310"/>
                <a:gd name="adj2" fmla="val 81944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638680" y="1600200"/>
              <a:ext cx="327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 – well - in fact he - he believes in Go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2209680" y="1676520"/>
            <a:ext cx="2362320" cy="1066680"/>
            <a:chOff x="2209680" y="1676520"/>
            <a:chExt cx="2362320" cy="1066680"/>
          </a:xfrm>
        </p:grpSpPr>
        <p:sp>
          <p:nvSpPr>
            <p:cNvPr id="578" name=""/>
            <p:cNvSpPr/>
            <p:nvPr/>
          </p:nvSpPr>
          <p:spPr>
            <a:xfrm>
              <a:off x="2209680" y="1676520"/>
              <a:ext cx="2362320" cy="1066680"/>
            </a:xfrm>
            <a:prstGeom prst="cloudCallout">
              <a:avLst>
                <a:gd name="adj1" fmla="val -32055"/>
                <a:gd name="adj2" fmla="val 67111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286000" y="190476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 theist does not believe in Go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7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5562720" cy="4267080"/>
          </a:xfrm>
          <a:prstGeom prst="rect">
            <a:avLst/>
          </a:prstGeom>
          <a:ln w="0">
            <a:noFill/>
          </a:ln>
        </p:spPr>
      </p:pic>
      <p:grpSp>
        <p:nvGrpSpPr>
          <p:cNvPr id="581" name=""/>
          <p:cNvGrpSpPr/>
          <p:nvPr/>
        </p:nvGrpSpPr>
        <p:grpSpPr>
          <a:xfrm>
            <a:off x="5867280" y="1143000"/>
            <a:ext cx="3048120" cy="990720"/>
            <a:chOff x="5867280" y="1143000"/>
            <a:chExt cx="3048120" cy="990720"/>
          </a:xfrm>
        </p:grpSpPr>
        <p:sp>
          <p:nvSpPr>
            <p:cNvPr id="582" name=""/>
            <p:cNvSpPr/>
            <p:nvPr/>
          </p:nvSpPr>
          <p:spPr>
            <a:xfrm>
              <a:off x="5867280" y="1143000"/>
              <a:ext cx="2895840" cy="990720"/>
            </a:xfrm>
            <a:prstGeom prst="wedgeEllipseCallout">
              <a:avLst>
                <a:gd name="adj1" fmla="val -46379"/>
                <a:gd name="adj2" fmla="val 77722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67280" y="137160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 có yêu anh không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1828800" y="1066680"/>
            <a:ext cx="3504960" cy="1282320"/>
            <a:chOff x="1828800" y="1066680"/>
            <a:chExt cx="3504960" cy="1282320"/>
          </a:xfrm>
        </p:grpSpPr>
        <p:sp>
          <p:nvSpPr>
            <p:cNvPr id="585" name=""/>
            <p:cNvSpPr/>
            <p:nvPr/>
          </p:nvSpPr>
          <p:spPr>
            <a:xfrm>
              <a:off x="1828800" y="1066680"/>
              <a:ext cx="3504960" cy="1282320"/>
            </a:xfrm>
            <a:prstGeom prst="wedgeRoundRectCallout">
              <a:avLst>
                <a:gd name="adj1" fmla="val -47870"/>
                <a:gd name="adj2" fmla="val 95685"/>
                <a:gd name="adj3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28800" y="1158120"/>
              <a:ext cx="342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ạ…thì…em thích anh nhưng, nhưng mà em…em còn phải học, chưa nghĩ tới điều nà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9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ome sort of special marker: 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24"/>
              </a:spcBef>
              <a:buClr>
                <a:srgbClr val="99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cc0066"/>
                </a:solidFill>
                <a:latin typeface="Times New Roman"/>
              </a:rPr>
              <a:t>oh, by the way 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24"/>
              </a:spcBef>
              <a:buClr>
                <a:srgbClr val="99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cc0066"/>
                </a:solidFill>
                <a:latin typeface="Times New Roman"/>
              </a:rPr>
              <a:t>Wait a minute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24"/>
              </a:spcBef>
              <a:buClr>
                <a:srgbClr val="99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cc0066"/>
                </a:solidFill>
                <a:latin typeface="Times New Roman"/>
              </a:rPr>
              <a:t>Just a second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x: A: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by the way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. You pick me up.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: ok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: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just a minute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. What’s the street ?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380520" y="258480"/>
            <a:ext cx="7936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Open and close convers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Open and close convers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bilingual and lingua franca sit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recall throat- cle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ody mov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other ways to clear the 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99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onolingual 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laughter seg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7010280" y="4114800"/>
            <a:ext cx="144144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8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3" dur="5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5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674280"/>
            <a:ext cx="84582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How to start the conversation?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2133720" y="1704960"/>
            <a:ext cx="5486400" cy="387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658800"/>
            <a:ext cx="85406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How to close the conversation?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35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505320" cy="23288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476600" cy="23716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609480" y="4800600"/>
            <a:ext cx="8229600" cy="1447920"/>
          </a:xfrm>
          <a:prstGeom prst="rect">
            <a:avLst/>
          </a:prstGeom>
          <a:solidFill>
            <a:srgbClr val="a6f8c7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33cc"/>
                </a:solidFill>
                <a:latin typeface="Times New Roman"/>
              </a:rPr>
              <a:t>Always open/ close a conversation as politely as you ca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28600" y="990720"/>
            <a:ext cx="89154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 Last night, Mike apologized his parents for coming 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s(angry)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 time is it?...It’s 11p.m..hu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k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’m sorry. I’m very sorry for com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ome late agai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ke apologized to his par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peech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onversation between Mike and his par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eech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setting of the conversation: the house,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lationship between the child and his parents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eech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3320" y="3060720"/>
            <a:ext cx="685800" cy="533520"/>
          </a:xfrm>
          <a:custGeom>
            <a:avLst/>
            <a:gdLst>
              <a:gd name="textAreaLeft" fmla="*/ 91800 w 685800"/>
              <a:gd name="textAreaRight" fmla="*/ 594000 w 6858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0360" y="3832200"/>
            <a:ext cx="685800" cy="533520"/>
          </a:xfrm>
          <a:custGeom>
            <a:avLst/>
            <a:gdLst>
              <a:gd name="textAreaLeft" fmla="*/ 91800 w 685800"/>
              <a:gd name="textAreaRight" fmla="*/ 594000 w 6858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9160" y="4727520"/>
            <a:ext cx="685800" cy="533520"/>
          </a:xfrm>
          <a:custGeom>
            <a:avLst/>
            <a:gdLst>
              <a:gd name="textAreaLeft" fmla="*/ 91800 w 685800"/>
              <a:gd name="textAreaRight" fmla="*/ 594000 w 6858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555560" y="398160"/>
            <a:ext cx="6039360" cy="45252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peech ac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533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0033cc"/>
                </a:solidFill>
                <a:latin typeface="Times New Roman"/>
              </a:rPr>
              <a:t>TURN-TAK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64880" y="1719360"/>
            <a:ext cx="8839080" cy="4411440"/>
          </a:xfrm>
          <a:prstGeom prst="rect">
            <a:avLst/>
          </a:prstGeom>
          <a:solidFill>
            <a:srgbClr val="ffffcc"/>
          </a:solidFill>
          <a:ln w="9360">
            <a:solidFill>
              <a:srgbClr val="d9fff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" sz="4100" spc="-1" strike="noStrike">
                <a:solidFill>
                  <a:srgbClr val="0033cc"/>
                </a:solidFill>
                <a:latin typeface="Times New Roman"/>
              </a:rPr>
              <a:t>A process by which interactants allocate the right or obligation to participate in an interactional activity.</a:t>
            </a:r>
            <a:r>
              <a:rPr b="0" lang="en" sz="4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" sz="4100" spc="-1" strike="noStrike">
                <a:solidFill>
                  <a:srgbClr val="000000"/>
                </a:solidFill>
                <a:latin typeface="Times New Roman"/>
              </a:rPr>
              <a:t>Sacks, Schegloff, &amp; Jefferson, 1974</a:t>
            </a:r>
            <a:r>
              <a:rPr b="0" lang="en" sz="41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7702560" y="4648320"/>
            <a:ext cx="1441440" cy="220968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Tahoma"/>
              </a:rPr>
              <a:t>Turn-taking system within conversa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9940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Turn - tak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953240" cy="344808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304920" y="3971880"/>
            <a:ext cx="3200400" cy="247500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3"/>
          <a:stretch/>
        </p:blipFill>
        <p:spPr>
          <a:xfrm>
            <a:off x="6429240" y="3581280"/>
            <a:ext cx="2381400" cy="327672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Tahoma"/>
              </a:rPr>
              <a:t>Turn-taking system within conversa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Turn – taking criter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1584360"/>
            <a:ext cx="9144000" cy="4513320"/>
          </a:xfrm>
          <a:prstGeom prst="rect">
            <a:avLst/>
          </a:prstGeom>
          <a:solidFill>
            <a:srgbClr val="d9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Pauses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lences in the conver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In-breaths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ints in a conversation when one stops talking to take a br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Sentence intonations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ints in a conversation when a speaker’s voice marks the end of a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Question intonations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ints in the conversation when a speaker’s voice marks the end of a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Back-shadowing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gns from listeners that we watch to know whether they are following along the conver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1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6" dur="1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1" dur="10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1" dur="1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840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Tahoma"/>
              </a:rPr>
              <a:t>Turn - taking</a:t>
            </a:r>
            <a:r>
              <a:rPr b="0" lang="en-US" sz="3300" spc="-1" strike="noStrike">
                <a:solidFill>
                  <a:srgbClr val="ff3300"/>
                </a:solidFill>
                <a:latin typeface="Tahoma"/>
              </a:rPr>
              <a:t> : Back – shadowing sign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93560" indent="-49356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gre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mhmm/ nod/ smile/ laugh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93560" indent="-49356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disagre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own/ shift forward in the chair (as though to jump into the conversation with an objec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Tahoma"/>
              </a:rPr>
              <a:t>Turn-taking system within conversation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2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de"/>
                </a:solidFill>
                <a:latin typeface="Book Antiqua"/>
              </a:rPr>
              <a:t>Ex: - </a:t>
            </a:r>
            <a:r>
              <a:rPr b="0" i="1" lang="en-US" sz="2800" spc="-1" strike="noStrike">
                <a:solidFill>
                  <a:srgbClr val="0000de"/>
                </a:solidFill>
                <a:latin typeface="Book Antiqua"/>
              </a:rPr>
              <a:t>Japanese students would nod at every pause point during lectures </a:t>
            </a:r>
            <a:r>
              <a:rPr b="0" i="1" lang="en-US" sz="2800" spc="-1" strike="noStrike">
                <a:solidFill>
                  <a:srgbClr val="0000de"/>
                </a:solidFill>
                <a:latin typeface="Wingdings"/>
                <a:ea typeface="Wingdings"/>
              </a:rPr>
              <a:t></a:t>
            </a:r>
            <a:r>
              <a:rPr b="0" i="1" lang="en-US" sz="2800" spc="-1" strike="noStrike">
                <a:solidFill>
                  <a:srgbClr val="0000de"/>
                </a:solidFill>
                <a:latin typeface="Book Antiqua"/>
              </a:rPr>
              <a:t> signs that the person was paying attention “I’m listening not I’m following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12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de"/>
                </a:solidFill>
                <a:latin typeface="Book Antiqua"/>
              </a:rPr>
              <a:t>    </a:t>
            </a:r>
            <a:r>
              <a:rPr b="0" i="1" lang="en-US" sz="2800" spc="-1" strike="noStrike">
                <a:solidFill>
                  <a:srgbClr val="0000de"/>
                </a:solidFill>
                <a:latin typeface="Book Antiqua"/>
              </a:rPr>
              <a:t>- Other students would look blank but in fact they understood everyth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de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0000de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de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mismatch of back-shadowing might change the nature of conversations among listeners and between listeners and native speak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1676520"/>
            <a:ext cx="8229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67320" y="533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-2520"/>
            <a:ext cx="8610480" cy="12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1" lang="en-US" sz="37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Book Antiqua"/>
              </a:rPr>
              <a:t>The turn-taking system within conversation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196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2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ile conversing or lecturing, this back-shadowing may cause us to insert asides into our turn at talk: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jokes, illustrative story, a simple departure from what we had been say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12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hange the boring atmosphere, make the lecture easier to be understood, get the attention from audience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533520" y="1676520"/>
            <a:ext cx="8229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567320" y="533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Tahoma"/>
              </a:rPr>
              <a:t>Turn-taking system within conversa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9fff8"/>
                </a:solidFill>
                <a:latin typeface="Book Antiqua"/>
              </a:rPr>
              <a:t>           </a:t>
            </a:r>
            <a:r>
              <a:rPr b="1" lang="en-US" sz="3300" spc="-1" strike="noStrike">
                <a:solidFill>
                  <a:srgbClr val="d9fff8"/>
                </a:solidFill>
                <a:latin typeface="Wingdings"/>
                <a:ea typeface="Wingdings"/>
              </a:rPr>
              <a:t></a:t>
            </a:r>
            <a:r>
              <a:rPr b="1" lang="en-US" sz="3300" spc="-1" strike="noStrike">
                <a:solidFill>
                  <a:srgbClr val="d9fff8"/>
                </a:solidFill>
                <a:latin typeface="Book Antiqua"/>
              </a:rPr>
              <a:t> </a:t>
            </a:r>
            <a:r>
              <a:rPr b="1" lang="en-US" sz="3300" spc="-1" strike="noStrike">
                <a:solidFill>
                  <a:srgbClr val="d9fff8"/>
                </a:solidFill>
                <a:latin typeface=".VnBook-Antiqua"/>
              </a:rPr>
              <a:t>The rerun system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.VnBook-Antiqua"/>
              </a:rPr>
              <a:t>Why do we rerun a conversation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de"/>
                </a:solidFill>
                <a:latin typeface=".VnBook-Antiqua"/>
              </a:rPr>
              <a:t> </a:t>
            </a:r>
            <a:r>
              <a:rPr b="0" lang="en-US" sz="2700" spc="-1" strike="noStrike">
                <a:solidFill>
                  <a:srgbClr val="0000de"/>
                </a:solidFill>
                <a:latin typeface="Wingdings"/>
                <a:ea typeface="Wingdings"/>
              </a:rPr>
              <a:t></a:t>
            </a:r>
            <a:r>
              <a:rPr b="0" lang="en-US" sz="2700" spc="-1" strike="noStrike">
                <a:solidFill>
                  <a:srgbClr val="0000de"/>
                </a:solidFill>
                <a:latin typeface="Book Antiqua"/>
              </a:rPr>
              <a:t> </a:t>
            </a:r>
            <a:r>
              <a:rPr b="0" lang="en-US" sz="2700" spc="-1" strike="noStrike">
                <a:solidFill>
                  <a:srgbClr val="0000de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.VnBook-Antiqua"/>
              </a:rPr>
              <a:t>To make messages interpretable, native speakers talking with language learners must make many adjustment, and both must work very hard on reruns (repairs in conversation) as well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de"/>
                </a:solidFill>
                <a:latin typeface="Wingdings"/>
                <a:ea typeface="Wingdings"/>
              </a:rPr>
              <a:t></a:t>
            </a:r>
            <a:r>
              <a:rPr b="0" lang="en-US" sz="2600" spc="-1" strike="noStrike">
                <a:solidFill>
                  <a:srgbClr val="0000de"/>
                </a:solidFill>
                <a:latin typeface=".VnBook-Antiqua"/>
              </a:rPr>
              <a:t> </a:t>
            </a:r>
            <a:r>
              <a:rPr b="0" lang="en-US" sz="2600" spc="-1" strike="noStrike">
                <a:solidFill>
                  <a:srgbClr val="0000de"/>
                </a:solidFill>
                <a:latin typeface=".VnBook-Antiq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.VnBook-Antiqua"/>
              </a:rPr>
              <a:t>When native speakers get back-shadowing cues that their speech is not understood, they repair and restructure speech in ways to make it easier for the learner to take turns at talk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"/>
          <p:cNvSpPr/>
          <p:nvPr/>
        </p:nvSpPr>
        <p:spPr>
          <a:xfrm>
            <a:off x="533520" y="1676520"/>
            <a:ext cx="8229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567320" y="533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Reru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.VnBook-Antiqua"/>
              </a:rPr>
              <a:t>The rerun syste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.VnBook-Antiqua"/>
              </a:rPr>
              <a:t>Why do we rerun a conversation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de"/>
                </a:solidFill>
                <a:latin typeface="Wingdings"/>
                <a:ea typeface="Wingdings"/>
              </a:rPr>
              <a:t></a:t>
            </a:r>
            <a:r>
              <a:rPr b="0" lang="en-US" sz="2700" spc="-1" strike="noStrike">
                <a:solidFill>
                  <a:srgbClr val="0000de"/>
                </a:solidFill>
                <a:latin typeface="Book Antiqua"/>
              </a:rPr>
              <a:t> </a:t>
            </a:r>
            <a:r>
              <a:rPr b="0" lang="en-US" sz="2700" spc="-1" strike="noStrike">
                <a:solidFill>
                  <a:srgbClr val="0000de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.VnBook-Antiqua"/>
              </a:rPr>
              <a:t>When the speaker does not repair the trouble spots, corrections are made by the hearer, but the corrections are usually softened by expressions “I think”, “In my opinion”, etc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533520" y="1676520"/>
            <a:ext cx="8229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572000" y="533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400" y="49320"/>
            <a:ext cx="9144000" cy="106668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Reru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700" spc="-1" strike="noStrike">
                <a:solidFill>
                  <a:srgbClr val="ff3300"/>
                </a:solidFill>
                <a:latin typeface="Tahoma"/>
              </a:rPr>
              <a:t>INTERFERENCES</a:t>
            </a:r>
            <a:r>
              <a:rPr b="1" lang="en-US" sz="3700" spc="-1" strike="noStrike">
                <a:solidFill>
                  <a:srgbClr val="d9fff8"/>
                </a:solidFill>
                <a:latin typeface="Book Antiqua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342900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99ff"/>
                </a:solidFill>
                <a:latin typeface="Tahoma"/>
              </a:rPr>
              <a:t>3 types of inferences:</a:t>
            </a:r>
            <a:r>
              <a:rPr b="1" lang="en-US" sz="3500" spc="-1" strike="noStrike">
                <a:solidFill>
                  <a:srgbClr val="d40a2c"/>
                </a:solidFill>
                <a:latin typeface="Tahoma"/>
              </a:rPr>
              <a:t>	</a:t>
            </a:r>
            <a:r>
              <a:rPr b="1" lang="en-US" sz="3500" spc="-1" strike="noStrike">
                <a:solidFill>
                  <a:srgbClr val="d40a2c"/>
                </a:solidFill>
                <a:latin typeface="Tahoma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ahoma"/>
              </a:rPr>
              <a:t>- Propositiona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ahoma"/>
              </a:rPr>
              <a:t>- Enabling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ahoma"/>
              </a:rPr>
              <a:t>- Pragmatic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3972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300" spc="-1" strike="noStrike">
                <a:solidFill>
                  <a:srgbClr val="ff3300"/>
                </a:solidFill>
                <a:latin typeface="Tahoma"/>
              </a:rPr>
              <a:t>INFERENCES</a:t>
            </a:r>
            <a:r>
              <a:rPr b="1" lang="en-US" sz="3300" spc="-1" strike="noStrike">
                <a:solidFill>
                  <a:srgbClr val="d9fff8"/>
                </a:solidFill>
                <a:latin typeface="Book Antiqu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1295280"/>
            <a:ext cx="9144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12cc"/>
                </a:solidFill>
                <a:latin typeface="Tahoma"/>
                <a:ea typeface="Arial"/>
              </a:rPr>
              <a:t>1. Propositional Inferenc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follow logically and necessarily from a given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Ex: A is bigger than B, B is bigger than C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P.I : A is bigger tha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12cc"/>
                </a:solidFill>
                <a:latin typeface="Tahoma"/>
                <a:ea typeface="Arial"/>
              </a:rPr>
              <a:t>2. Enabling Inferenc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provide causal relationships between concepts or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Ex: John threw the ball through the window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E.I : John broke the window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12cc"/>
                </a:solidFill>
                <a:latin typeface="Tahoma"/>
                <a:ea typeface="Arial"/>
              </a:rPr>
              <a:t>3. Pragmatic Inferenc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 greater source of learner error. It is based on im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world knowledge which is not ess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for the processing of the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Ex: The old lady stepped into the chauffeur-driven Cadillac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P.I :The old lady is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peech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What we “do” with sent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ve forms of speech act in Searle‘s syst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Freeform 4"/>
          <p:cNvSpPr/>
          <p:nvPr/>
        </p:nvSpPr>
        <p:spPr>
          <a:xfrm flipH="1">
            <a:off x="1828080" y="2514600"/>
            <a:ext cx="903240" cy="1241280"/>
          </a:xfrm>
          <a:prstGeom prst="pie">
            <a:avLst/>
          </a:prstGeom>
          <a:gradFill rotWithShape="0">
            <a:gsLst>
              <a:gs pos="0">
                <a:srgbClr val="9966ff"/>
              </a:gs>
              <a:gs pos="100000">
                <a:srgbClr val="dbe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4"/>
          <p:cNvSpPr/>
          <p:nvPr/>
        </p:nvSpPr>
        <p:spPr>
          <a:xfrm flipH="1">
            <a:off x="1828080" y="1371600"/>
            <a:ext cx="903240" cy="1241280"/>
          </a:xfrm>
          <a:prstGeom prst="pie">
            <a:avLst/>
          </a:prstGeom>
          <a:gradFill rotWithShape="0">
            <a:gsLst>
              <a:gs pos="0">
                <a:srgbClr val="9966ff"/>
              </a:gs>
              <a:gs pos="100000">
                <a:srgbClr val="dbe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4"/>
          <p:cNvSpPr/>
          <p:nvPr/>
        </p:nvSpPr>
        <p:spPr>
          <a:xfrm flipH="1">
            <a:off x="1828080" y="3581280"/>
            <a:ext cx="903240" cy="1241640"/>
          </a:xfrm>
          <a:prstGeom prst="pie">
            <a:avLst/>
          </a:prstGeom>
          <a:gradFill rotWithShape="0">
            <a:gsLst>
              <a:gs pos="0">
                <a:srgbClr val="9966ff"/>
              </a:gs>
              <a:gs pos="100000">
                <a:srgbClr val="dbe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743200" y="1600200"/>
            <a:ext cx="4343400" cy="838080"/>
          </a:xfrm>
          <a:prstGeom prst="rect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Repre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.g. John stole my b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743200" y="2590920"/>
            <a:ext cx="4343400" cy="838080"/>
          </a:xfrm>
          <a:prstGeom prst="rect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.g. What time is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3200" y="3657600"/>
            <a:ext cx="4419720" cy="762120"/>
          </a:xfrm>
          <a:prstGeom prst="rect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Commi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.g. I’ll do that tom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743200" y="4572000"/>
            <a:ext cx="4419720" cy="990720"/>
          </a:xfrm>
          <a:prstGeom prst="rect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Exp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.g. “Sorry, I’m l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819520" y="5791320"/>
            <a:ext cx="4343400" cy="838080"/>
          </a:xfrm>
          <a:prstGeom prst="rect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g. I now pronounce you husband and w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4"/>
          <p:cNvSpPr/>
          <p:nvPr/>
        </p:nvSpPr>
        <p:spPr>
          <a:xfrm flipH="1">
            <a:off x="1675800" y="4648320"/>
            <a:ext cx="903240" cy="1241280"/>
          </a:xfrm>
          <a:prstGeom prst="pie">
            <a:avLst/>
          </a:prstGeom>
          <a:gradFill rotWithShape="0">
            <a:gsLst>
              <a:gs pos="0">
                <a:srgbClr val="9966ff"/>
              </a:gs>
              <a:gs pos="100000">
                <a:srgbClr val="dbe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4"/>
          <p:cNvSpPr/>
          <p:nvPr/>
        </p:nvSpPr>
        <p:spPr>
          <a:xfrm flipH="1">
            <a:off x="1523160" y="5616720"/>
            <a:ext cx="903240" cy="1241280"/>
          </a:xfrm>
          <a:prstGeom prst="pie">
            <a:avLst/>
          </a:prstGeom>
          <a:gradFill rotWithShape="0">
            <a:gsLst>
              <a:gs pos="0">
                <a:srgbClr val="9966ff"/>
              </a:gs>
              <a:gs pos="100000">
                <a:srgbClr val="dbe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3520" y="131400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0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That is, all languages have ways of issuing directives, giving apologies, making requests and so on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50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99"/>
                </a:solidFill>
                <a:latin typeface="Wingdings"/>
                <a:ea typeface="Wingdings"/>
              </a:rPr>
              <a:t>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Ar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00"/>
                </a:solidFill>
                <a:latin typeface="Times New Roman"/>
              </a:rPr>
              <a:t>ran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of ways to apologize, to request or to complain the same across language groups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50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99"/>
                </a:solidFill>
                <a:latin typeface="Wingdings"/>
                <a:ea typeface="Wingdings"/>
              </a:rPr>
              <a:t>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Will shifts in range that go with social variables in the setting (e.g., status, sex, age correspondences between speaker and listener) necessarily be similar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762120" y="118440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Speech acts are univer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1523880" y="5715000"/>
            <a:ext cx="55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838080" y="3333600"/>
            <a:ext cx="50292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. An expression of a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38080" y="3867120"/>
            <a:ext cx="754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. An explanation or account of the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38080" y="4362480"/>
            <a:ext cx="6629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An acknowledgement of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38080" y="4991040"/>
            <a:ext cx="6629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. An offer of re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914400" y="5448240"/>
            <a:ext cx="6629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. A promise of forb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33200" y="2590920"/>
            <a:ext cx="533520" cy="152280"/>
          </a:xfrm>
          <a:custGeom>
            <a:avLst/>
            <a:gdLst>
              <a:gd name="textAreaLeft" fmla="*/ 66600 w 533520"/>
              <a:gd name="textAreaRight" fmla="*/ 466920 w 5335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62120" y="1066680"/>
            <a:ext cx="8762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Ap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Olshtain and Cohen investigated the structure of apologies in several langu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n apology consists of one or more of the 5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9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9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4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9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3. An acknowledgement of responsibil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a) accepting the blame, e.g. </a:t>
            </a:r>
            <a:r>
              <a:rPr b="1" i="1" lang="en-US" sz="2900" spc="-1" strike="noStrike">
                <a:solidFill>
                  <a:srgbClr val="000099"/>
                </a:solidFill>
                <a:latin typeface="Times New Roman"/>
              </a:rPr>
              <a:t>“It was my fault”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b) expressing self-deficiency, e.g. </a:t>
            </a:r>
            <a:r>
              <a:rPr b="1" i="1" lang="en-US" sz="2900" spc="-1" strike="noStrike">
                <a:solidFill>
                  <a:srgbClr val="000099"/>
                </a:solidFill>
                <a:latin typeface="Times New Roman"/>
              </a:rPr>
              <a:t>“I was confused” “I wasn’t thinking” “I didn’t see you”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c) recognizing the other person as deserving apology, e.g. </a:t>
            </a:r>
            <a:r>
              <a:rPr b="1" i="1" lang="en-US" sz="2900" spc="-1" strike="noStrike">
                <a:solidFill>
                  <a:srgbClr val="000099"/>
                </a:solidFill>
                <a:latin typeface="Times New Roman"/>
              </a:rPr>
              <a:t>“You are right”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d) expressing lack of intent, e.g. </a:t>
            </a:r>
            <a:r>
              <a:rPr b="1" i="1" lang="en-US" sz="2900" spc="-1" strike="noStrike">
                <a:solidFill>
                  <a:srgbClr val="000099"/>
                </a:solidFill>
                <a:latin typeface="Times New Roman"/>
              </a:rPr>
              <a:t>“I didn’t mean to”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4. An offer of repair, e.g. </a:t>
            </a:r>
            <a:r>
              <a:rPr b="1" i="1" lang="en-US" sz="2900" spc="-1" strike="noStrike">
                <a:solidFill>
                  <a:srgbClr val="000099"/>
                </a:solidFill>
                <a:latin typeface="Times New Roman"/>
              </a:rPr>
              <a:t>“Let me help you get up”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5. A promise of forbearance, e.g. </a:t>
            </a:r>
            <a:r>
              <a:rPr b="1" i="1" lang="en-US" sz="2900" spc="-1" strike="noStrike">
                <a:solidFill>
                  <a:srgbClr val="000099"/>
                </a:solidFill>
                <a:latin typeface="Times New Roman"/>
              </a:rPr>
              <a:t>“It won’t happen again”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228600" y="14126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26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In those cases where the offender did not recognize the need to apologize, two basic types of denial occurred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1. A denial of the need to apologize,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e.g. </a:t>
            </a:r>
            <a:r>
              <a:rPr b="1" i="1" lang="en-US" sz="2900" spc="-1" strike="noStrike">
                <a:solidFill>
                  <a:srgbClr val="000099"/>
                </a:solidFill>
                <a:latin typeface="Times New Roman"/>
              </a:rPr>
              <a:t>“There was no need for you to get insulted”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2. A denial of responsibil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a) not accepting the blame,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e.g. </a:t>
            </a:r>
            <a:r>
              <a:rPr b="1" i="1" lang="en-US" sz="2900" spc="-1" strike="noStrike">
                <a:solidFill>
                  <a:srgbClr val="000099"/>
                </a:solidFill>
                <a:latin typeface="Times New Roman"/>
              </a:rPr>
              <a:t>“It wasn’t my fault”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b) blaming the other participant for bringing the offense upon himself/ herself,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e.g. </a:t>
            </a:r>
            <a:r>
              <a:rPr b="1" i="1" lang="en-US" sz="2900" spc="-1" strike="noStrike">
                <a:solidFill>
                  <a:srgbClr val="000099"/>
                </a:solidFill>
                <a:latin typeface="Times New Roman"/>
              </a:rPr>
              <a:t>“It was your own fault”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The data from studies by Olshtain and Cohen showed that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100000"/>
              </a:lnSpc>
              <a:spcBef>
                <a:spcPts val="726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native speakers within a language group perform apologies in similar ways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100000"/>
              </a:lnSpc>
              <a:spcBef>
                <a:spcPts val="726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second language learners, even at the intermediate stage, may lack the linguistic ability to adequately perform apologies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100000"/>
              </a:lnSpc>
              <a:spcBef>
                <a:spcPts val="726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second language learners do transfer apology behaviour acceptable in their first language to the target language situation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"/>
          <p:cNvSpPr/>
          <p:nvPr/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228600" y="126684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859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E.g.1: When bumping into a lady and just shaking her up,              the foreign language learners often give an apology </a:t>
            </a:r>
            <a:r>
              <a:rPr b="1" i="1" lang="en-US" sz="2700" spc="-1" strike="noStrike">
                <a:solidFill>
                  <a:srgbClr val="000099"/>
                </a:solidFill>
                <a:latin typeface="Times New Roman"/>
              </a:rPr>
              <a:t>“I’m </a:t>
            </a:r>
            <a:r>
              <a:rPr b="1" i="1" lang="en-US" sz="2700" spc="-1" strike="noStrike" u="sng">
                <a:solidFill>
                  <a:srgbClr val="000099"/>
                </a:solidFill>
                <a:uFillTx/>
                <a:latin typeface="Times New Roman"/>
              </a:rPr>
              <a:t>very</a:t>
            </a:r>
            <a:r>
              <a:rPr b="1" i="1" lang="en-US" sz="2700" spc="-1" strike="noStrike">
                <a:solidFill>
                  <a:srgbClr val="000099"/>
                </a:solidFill>
                <a:latin typeface="Times New Roman"/>
              </a:rPr>
              <a:t> sorry”</a:t>
            </a: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 the intensity of regret did not match that of native speaker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859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E.g.2: When receiving a compliment on an article of apparel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1272600" indent="-305280">
              <a:lnSpc>
                <a:spcPct val="90000"/>
              </a:lnSpc>
              <a:spcBef>
                <a:spcPts val="675"/>
              </a:spcBef>
              <a:buClr>
                <a:srgbClr val="66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A: That’s a nice dres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1272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B: Thanks. I got it at Robinsons. I can’t believe   how expensive they are. 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1272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(native speakers of English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1272600" indent="-305280">
              <a:lnSpc>
                <a:spcPct val="90000"/>
              </a:lnSpc>
              <a:spcBef>
                <a:spcPts val="675"/>
              </a:spcBef>
              <a:buClr>
                <a:srgbClr val="66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A: That’s a nice dres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859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B: Oh no, it’s nothing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859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                         </a:t>
            </a: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(Japanese learners of English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"/>
          <p:cNvSpPr/>
          <p:nvPr/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Compla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 complaint is defined as an utterance or set of utterances, that identify a problem or trouble source and seek remediation, either from the person responsible for the trouble or from a third party who has the power to affect the situ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iddens(1981), Inoue, and Schaefer(1982) classified complaints made to third person into two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ripes: the third party has no power to remedy the situ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als: the complainer tries to convince the third party to take action against the responsible par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228600" y="167652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80" y="6500"/>
                </a:lnTo>
                <a:lnTo>
                  <a:pt x="6480" y="10800"/>
                </a:lnTo>
                <a:lnTo>
                  <a:pt x="10800" y="10800"/>
                </a:lnTo>
                <a:lnTo>
                  <a:pt x="10800" y="6480"/>
                </a:lnTo>
                <a:lnTo>
                  <a:pt x="6500" y="6480"/>
                </a:lnTo>
                <a:lnTo>
                  <a:pt x="10800" y="0"/>
                </a:lnTo>
                <a:lnTo>
                  <a:pt x="15100" y="6480"/>
                </a:lnTo>
                <a:lnTo>
                  <a:pt x="10800" y="6480"/>
                </a:lnTo>
                <a:lnTo>
                  <a:pt x="10800" y="10800"/>
                </a:lnTo>
                <a:lnTo>
                  <a:pt x="15120" y="10800"/>
                </a:lnTo>
                <a:lnTo>
                  <a:pt x="15120" y="6500"/>
                </a:lnTo>
                <a:lnTo>
                  <a:pt x="21600" y="10800"/>
                </a:lnTo>
                <a:lnTo>
                  <a:pt x="15120" y="15100"/>
                </a:lnTo>
                <a:lnTo>
                  <a:pt x="15120" y="10800"/>
                </a:lnTo>
                <a:lnTo>
                  <a:pt x="10800" y="10800"/>
                </a:lnTo>
                <a:lnTo>
                  <a:pt x="10800" y="15120"/>
                </a:lnTo>
                <a:lnTo>
                  <a:pt x="15100" y="15120"/>
                </a:lnTo>
                <a:lnTo>
                  <a:pt x="10800" y="21600"/>
                </a:lnTo>
                <a:lnTo>
                  <a:pt x="6500" y="15120"/>
                </a:lnTo>
                <a:lnTo>
                  <a:pt x="10800" y="15120"/>
                </a:lnTo>
                <a:lnTo>
                  <a:pt x="10800" y="10800"/>
                </a:lnTo>
                <a:lnTo>
                  <a:pt x="6480" y="10800"/>
                </a:lnTo>
                <a:lnTo>
                  <a:pt x="6480" y="15100"/>
                </a:lnTo>
                <a:close/>
              </a:path>
            </a:pathLst>
          </a:custGeom>
          <a:solidFill>
            <a:srgbClr val="0000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" y="365292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80" y="6500"/>
                </a:lnTo>
                <a:lnTo>
                  <a:pt x="6480" y="10800"/>
                </a:lnTo>
                <a:lnTo>
                  <a:pt x="10800" y="10800"/>
                </a:lnTo>
                <a:lnTo>
                  <a:pt x="10800" y="6480"/>
                </a:lnTo>
                <a:lnTo>
                  <a:pt x="6500" y="6480"/>
                </a:lnTo>
                <a:lnTo>
                  <a:pt x="10800" y="0"/>
                </a:lnTo>
                <a:lnTo>
                  <a:pt x="15100" y="6480"/>
                </a:lnTo>
                <a:lnTo>
                  <a:pt x="10800" y="6480"/>
                </a:lnTo>
                <a:lnTo>
                  <a:pt x="10800" y="10800"/>
                </a:lnTo>
                <a:lnTo>
                  <a:pt x="15120" y="10800"/>
                </a:lnTo>
                <a:lnTo>
                  <a:pt x="15120" y="6500"/>
                </a:lnTo>
                <a:lnTo>
                  <a:pt x="21600" y="10800"/>
                </a:lnTo>
                <a:lnTo>
                  <a:pt x="15120" y="15100"/>
                </a:lnTo>
                <a:lnTo>
                  <a:pt x="15120" y="10800"/>
                </a:lnTo>
                <a:lnTo>
                  <a:pt x="10800" y="10800"/>
                </a:lnTo>
                <a:lnTo>
                  <a:pt x="10800" y="15120"/>
                </a:lnTo>
                <a:lnTo>
                  <a:pt x="15100" y="15120"/>
                </a:lnTo>
                <a:lnTo>
                  <a:pt x="10800" y="21600"/>
                </a:lnTo>
                <a:lnTo>
                  <a:pt x="6500" y="15120"/>
                </a:lnTo>
                <a:lnTo>
                  <a:pt x="10800" y="15120"/>
                </a:lnTo>
                <a:lnTo>
                  <a:pt x="10800" y="10800"/>
                </a:lnTo>
                <a:lnTo>
                  <a:pt x="6480" y="10800"/>
                </a:lnTo>
                <a:lnTo>
                  <a:pt x="6480" y="15100"/>
                </a:lnTo>
                <a:close/>
              </a:path>
            </a:pathLst>
          </a:custGeom>
          <a:solidFill>
            <a:srgbClr val="0000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304560" y="955440"/>
            <a:ext cx="8839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de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Components of a complaint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1. Opener: e.g.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“hi”, “hello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2. Orientation: e.g.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“I’m your next-door neighbor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3. Act Statement: e.g.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“You charged me too muc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4. Justification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a) Justification of the Speaker: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“My daughter is revising   for her exam, so…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b) Justification of the Addressee: e.g.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“I know you enjoy listening to music but…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5. Remedy: e.g.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“Get back in line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6. Closing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a) expression of appreciation: e.g.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“Thanks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b) expression of apology: e.g.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“Sorry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c) goodbyes: e.g.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“Goodbye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7. Valuation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6" dur="2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1" dur="20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6" dur="20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1" dur="20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6" dur="20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1" dur="200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6" dur="2000"/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1" dur="2000"/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6" dur="2000"/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1" dur="2000"/>
                                        <p:tgtEl>
                                          <p:spTgt spid="6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6" dur="2000"/>
                                        <p:tgtEl>
                                          <p:spTgt spid="6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1" dur="2000"/>
                                        <p:tgtEl>
                                          <p:spTgt spid="6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6" dur="2000"/>
                                        <p:tgtEl>
                                          <p:spTgt spid="6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data from studies by Giddens, Inoue,and Schaefer as well as Loos showed tha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re are strong differences across language groups as to the effect of sex of addressee and of speak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syntactic forms and the formality of lexical choice also appear to differ across language grou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ifferent language groups recognized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appropriatenes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of complaints better than other language grou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00"/>
                </a:solidFill>
                <a:latin typeface="Times New Roman"/>
              </a:rPr>
              <a:t>Appropriatenes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Few foreign language learners seem to do complaining in an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‘appropriate’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 manner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(‘appropriate’ = the way a native speaker of English would do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Cook and other researchers have suggested that foreign students seem to learn (or at least use) the most polite form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Learners may feel that they won’t make any great social blunder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Rules for addressing speakers of equivalents or different status (i.e., age, sex, role, and power) are likely to vary across languag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Polite formality may easily be misinterpreted as hostility or distancing, where this is not the learners’ intent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"/>
          <p:cNvSpPr/>
          <p:nvPr/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1.1Dir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What time is it?-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sk s.o to show 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Can I have your passport, please?-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sk s.o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o give his/her passport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Don’t interrupt me!- ask s.o not to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nterrupt your conversation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he syntactic forms of these sentences may differ, they all “do” the same th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irective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akers try to get the listeners to do or not to do someth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questing, forbidding, warning, advising, suggesting, insisting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Oval 2"/>
          <p:cNvSpPr/>
          <p:nvPr/>
        </p:nvSpPr>
        <p:spPr>
          <a:xfrm>
            <a:off x="304920" y="0"/>
            <a:ext cx="8458200" cy="68580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ive accepted 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.g.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 person asks his/her neighbor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I was wondering if you could possibly lend me the hammer?”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stead of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Can you lend me the hammer?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appropr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 communication, collocations of extremely polite and friendly, informal forms sometimes occu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.g. 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“Hello, my teacher”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or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“Hi, sir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appropr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333300"/>
                </a:solidFill>
                <a:latin typeface="Times New Roman"/>
              </a:rPr>
              <a:t>Conclusion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110000"/>
              </a:lnSpc>
              <a:spcBef>
                <a:spcPts val="675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While speech acts and small speech events may be universal, the range of ways of expressing each differs from language to language and is sensitive to sociolinguistic variable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110000"/>
              </a:lnSpc>
              <a:spcBef>
                <a:spcPts val="675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While second language learners may have </a:t>
            </a:r>
            <a:r>
              <a:rPr b="1" i="1" lang="en-US" sz="2700" spc="-1" strike="noStrike">
                <a:solidFill>
                  <a:srgbClr val="000099"/>
                </a:solidFill>
                <a:latin typeface="Times New Roman"/>
              </a:rPr>
              <a:t>directives, commissives, representatives, expressives and declaratives</a:t>
            </a: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, while they may have </a:t>
            </a:r>
            <a:r>
              <a:rPr b="1" i="1" lang="en-US" sz="2700" spc="-1" strike="noStrike">
                <a:solidFill>
                  <a:srgbClr val="000099"/>
                </a:solidFill>
                <a:latin typeface="Times New Roman"/>
              </a:rPr>
              <a:t>compliments, invitations, complaints, jokes, and information-giving exchanges</a:t>
            </a: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 in their first languages, it is unlikely that speech acts or speech events are carried out in exactly the same way in the second language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"/>
          <p:cNvSpPr/>
          <p:nvPr/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736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 rot="20765400">
            <a:off x="5410080" y="380952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 rot="1240200">
            <a:off x="3068280" y="3733920"/>
            <a:ext cx="969840" cy="106668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4"/>
          <a:stretch/>
        </p:blipFill>
        <p:spPr>
          <a:xfrm rot="419400">
            <a:off x="4190760" y="17524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5"/>
          <a:stretch/>
        </p:blipFill>
        <p:spPr>
          <a:xfrm rot="21154200">
            <a:off x="3048120" y="2209680"/>
            <a:ext cx="1066680" cy="96048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6"/>
          <a:stretch/>
        </p:blipFill>
        <p:spPr>
          <a:xfrm rot="20958000">
            <a:off x="6324120" y="228564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7"/>
          <a:stretch/>
        </p:blipFill>
        <p:spPr>
          <a:xfrm rot="438000">
            <a:off x="5181120" y="2133720"/>
            <a:ext cx="1067040" cy="87300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8"/>
          <a:stretch/>
        </p:blipFill>
        <p:spPr>
          <a:xfrm rot="430200">
            <a:off x="4266720" y="358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9"/>
          <a:stretch/>
        </p:blipFill>
        <p:spPr>
          <a:xfrm rot="510600">
            <a:off x="1905120" y="213336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1.2. Representa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: </a:t>
            </a: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I have five toes on my right f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peaker describes some state of affai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ating, asserting, denying, confessing, admitting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76320" y="36576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2"/>
          <p:cNvSpPr/>
          <p:nvPr/>
        </p:nvSpPr>
        <p:spPr>
          <a:xfrm>
            <a:off x="457200" y="304920"/>
            <a:ext cx="8458200" cy="68580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ive accepted 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.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Commiss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: </a:t>
            </a: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I’ll meet you at the library at 8 a.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it the speaker to do something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omising, vowing, volunteering, offering, pledging, betting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190440" y="33526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2"/>
          <p:cNvSpPr/>
          <p:nvPr/>
        </p:nvSpPr>
        <p:spPr>
          <a:xfrm>
            <a:off x="304920" y="457200"/>
            <a:ext cx="8458200" cy="68580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ive accepted 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209520" y="3657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12142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1.4. Express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What a lovely ca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he speaker’s feeling about some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*Thanking, apologizing, congratulating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2"/>
          <p:cNvSpPr/>
          <p:nvPr/>
        </p:nvSpPr>
        <p:spPr>
          <a:xfrm>
            <a:off x="304920" y="285840"/>
            <a:ext cx="8458200" cy="68580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ive accepted 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2:10:52Z</dcterms:created>
  <dc:creator>Ke hoach</dc:creator>
  <dc:description/>
  <dc:language>en-US</dc:language>
  <cp:lastModifiedBy>User</cp:lastModifiedBy>
  <dcterms:modified xsi:type="dcterms:W3CDTF">2009-12-26T09:42:09Z</dcterms:modified>
  <cp:revision>49</cp:revision>
  <dc:subject/>
  <dc:title>UNIT 6 </dc:title>
</cp:coreProperties>
</file>