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0.jpeg" ContentType="image/jpeg"/>
  <Override PartName="/ppt/media/image29.gif" ContentType="image/gif"/>
  <Override PartName="/ppt/media/image31.gif" ContentType="image/gif"/>
  <Override PartName="/ppt/media/image28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0.png" ContentType="image/png"/>
  <Override PartName="/ppt/media/image5.jpeg" ContentType="image/jpeg"/>
  <Override PartName="/ppt/media/image11.wmf" ContentType="image/x-wmf"/>
  <Override PartName="/ppt/media/image12.png" ContentType="image/png"/>
  <Override PartName="/ppt/media/image7.jpeg" ContentType="image/jpeg"/>
  <Override PartName="/ppt/media/image13.png" ContentType="image/png"/>
  <Override PartName="/ppt/media/image33.gif" ContentType="image/gif"/>
  <Override PartName="/ppt/media/image4.jpeg" ContentType="image/jpeg"/>
  <Override PartName="/ppt/media/image25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gif" ContentType="image/gif"/>
  <Override PartName="/ppt/media/image30.gif" ContentType="image/gif"/>
  <Override PartName="/ppt/media/image23.png" ContentType="image/png"/>
  <Override PartName="/ppt/media/image32.gif" ContentType="image/gif"/>
  <Override PartName="/ppt/media/image19.jpeg" ContentType="image/jpeg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540-5B82-4F30-AF17-D53A1FA8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ECD-8B21-43D2-8771-792A5788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9C0-76D1-4766-BB88-876D7598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C85-6697-4217-AB93-EF282F67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C130-C540-4FA9-B456-6C96D1E7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25FB-818D-4457-828E-4C515ED6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6CC-58D4-4410-A8CE-DD7B1A6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C9E8-BFC5-4FA9-A87A-E3E63257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3932-5919-4FEA-9BAF-8AE1E10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779E-09EC-480A-ADE3-FF8B8B2F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215B-92DE-491D-904E-E9EE65A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C00-FBBF-4ACF-861C-8CE33A19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D5D7-8157-4BC2-9FE3-C0E80ADB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589F-D838-4438-BE60-C295F82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D72-A482-4778-9697-059966B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1F3-879B-4891-991B-346C2B04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60020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187160"/>
            <a:ext cx="2749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055E-5F3B-43A2-A764-54345F86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B7B-B062-47AA-8067-697E4B21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3E0-6687-4241-AB4B-AB623F85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537-ECF4-40FA-B827-09B6803A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4F7-8279-4C6A-A1DC-B74EF24A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14B-106C-4779-97A9-CD5016A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418716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3DD-36EE-4ACF-9BAD-D12B4E6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00200"/>
            <a:ext cx="416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418716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E9B-CE69-4601-88D8-128B093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9FB-14E1-4DED-9247-763237B709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799"/>
              </a:spcBef>
              <a:buClr>
                <a:srgbClr val="66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DAE-863A-47F2-8B3A-BCD4F6F3AD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 Le Thi Kim 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. Dang Thi Thuy Nga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3. Nguyen Thi Tan Bin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4. Phan Thi Hoai Than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. Bui Thi Han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. Ngo Thi Hong Lin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762120"/>
            <a:ext cx="78483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scourse and Communicatio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495360" y="46864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1066680"/>
            <a:ext cx="79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.5. Decla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est : </a:t>
            </a: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 now pronounce you husband and w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eferee : You’re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nge the status of some entity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Appointing, naming, resigning, arres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"/>
          <p:cNvSpPr/>
          <p:nvPr/>
        </p:nvSpPr>
        <p:spPr>
          <a:xfrm>
            <a:off x="304920" y="17136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2"/>
          <p:cNvSpPr/>
          <p:nvPr/>
        </p:nvSpPr>
        <p:spPr>
          <a:xfrm>
            <a:off x="228600" y="2286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121932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form of speech 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Keep qu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nic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ll call you as soon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are f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t’s 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990720"/>
            <a:ext cx="2895480" cy="914400"/>
          </a:xfrm>
          <a:prstGeom prst="wedgeEllipseCallout">
            <a:avLst>
              <a:gd name="adj1" fmla="val -90240"/>
              <a:gd name="adj2" fmla="val 8698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05520" y="2209680"/>
            <a:ext cx="3124080" cy="609840"/>
          </a:xfrm>
          <a:prstGeom prst="wedgeEllipseCallout">
            <a:avLst>
              <a:gd name="adj1" fmla="val -68597"/>
              <a:gd name="adj2" fmla="val 9505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xp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3124080"/>
            <a:ext cx="3657600" cy="762120"/>
          </a:xfrm>
          <a:prstGeom prst="wedgeEllipseCallout">
            <a:avLst>
              <a:gd name="adj1" fmla="val -47134"/>
              <a:gd name="adj2" fmla="val 6604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mmi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495680"/>
            <a:ext cx="3657600" cy="609840"/>
          </a:xfrm>
          <a:prstGeom prst="wedgeEllipseCallout">
            <a:avLst>
              <a:gd name="adj1" fmla="val -56509"/>
              <a:gd name="adj2" fmla="val 429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91120" y="5486400"/>
            <a:ext cx="4724280" cy="990720"/>
          </a:xfrm>
          <a:prstGeom prst="wedgeEllipseCallout">
            <a:avLst>
              <a:gd name="adj1" fmla="val -63106"/>
              <a:gd name="adj2" fmla="val 302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Oval 2"/>
          <p:cNvSpPr/>
          <p:nvPr/>
        </p:nvSpPr>
        <p:spPr>
          <a:xfrm>
            <a:off x="228600" y="2286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10666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143000"/>
            <a:ext cx="8915400" cy="545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Lucida Handwriting"/>
              </a:rPr>
              <a:t>Notes</a:t>
            </a:r>
            <a:r>
              <a:rPr b="0" lang="en-US" sz="3200" spc="-1" strike="noStrike">
                <a:solidFill>
                  <a:srgbClr val="009900"/>
                </a:solidFill>
                <a:latin typeface="Lucida Handwrit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nge of linguistic forms available for each speech act varies, but for each the form range from aggravated to mi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Aggrav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may be extremely strong and di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Mitigated :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tatement may be softened, made less di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029200" cy="4267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1552320" y="288720"/>
            <a:ext cx="6039360" cy="29088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1219320"/>
            <a:ext cx="3505320" cy="1143000"/>
          </a:xfrm>
          <a:prstGeom prst="cloudCallout">
            <a:avLst>
              <a:gd name="adj1" fmla="val -63675"/>
              <a:gd name="adj2" fmla="val 13777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The meat is too s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990720"/>
            <a:ext cx="3200400" cy="1371600"/>
          </a:xfrm>
          <a:prstGeom prst="wedgeEllipseCallout">
            <a:avLst>
              <a:gd name="adj1" fmla="val 34722"/>
              <a:gd name="adj2" fmla="val 103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Oh, The meat is ok but it’s a little bit sal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val 2"/>
          <p:cNvSpPr/>
          <p:nvPr/>
        </p:nvSpPr>
        <p:spPr>
          <a:xfrm>
            <a:off x="228600" y="2286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0666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1143000"/>
            <a:ext cx="73915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Aggrav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may be extremely strong and direct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514600" cy="3085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62120" y="2209680"/>
            <a:ext cx="4647960" cy="1295640"/>
          </a:xfrm>
          <a:prstGeom prst="wedgeEllipseCallout">
            <a:avLst>
              <a:gd name="adj1" fmla="val -22847"/>
              <a:gd name="adj2" fmla="val 121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Oh my god! What’s this? You spoilt my party. You sing terri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MUSIC056" descr=""/>
          <p:cNvPicPr/>
          <p:nvPr/>
        </p:nvPicPr>
        <p:blipFill>
          <a:blip r:embed="rId2"/>
          <a:stretch/>
        </p:blipFill>
        <p:spPr>
          <a:xfrm>
            <a:off x="6095880" y="297180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9246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Why do the speakers choose mitigated form or aggravated for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the speaker’s natural response to social and psychological factors which require that the speech act be mitigated or aggrav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738440" y="405000"/>
            <a:ext cx="5819760" cy="48492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876920" y="1752480"/>
            <a:ext cx="4038480" cy="3810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286000"/>
            <a:ext cx="297180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2895480"/>
            <a:ext cx="1676520" cy="1447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7320" y="190512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PEECH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68720" y="510552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PEECH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74720" y="25909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3526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. DISCOURSE LEV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6098400" y="44197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1600200"/>
            <a:ext cx="4419720" cy="79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speech act could occur in other spee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ch event could take place in different speech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sk is to show how they interlock or over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"/>
          <p:cNvSpPr/>
          <p:nvPr/>
        </p:nvSpPr>
        <p:spPr>
          <a:xfrm>
            <a:off x="457200" y="304920"/>
            <a:ext cx="8229600" cy="11430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scours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552320" y="321840"/>
            <a:ext cx="6039360" cy="45252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eech act &amp; speech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81080" y="1066680"/>
            <a:ext cx="8839080" cy="541044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oundary line between speech a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d speech event is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not entirely clea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x: a speech act has a structure beyo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the single utterance level, it’s a speech ev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peech acts are connected together to form so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higher unit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nd that higher unit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has a describab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ructur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, then the higher unit is 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a speech event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10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ship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ech event &amp; speech situ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456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boundary between speech event &amp; speech situation seems to be easy to divide clearl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ech act occur within speech event &amp; speech events occur within speech situa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1: you may do a directive(speech act) during an argument(speech event) during a class(speech situation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2: you may do an expressive during a joke during  a reun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peech situation includes all the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sociolinguistic infor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bout speakers &amp; hearers, their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status 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ro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environment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&amp; </a:t>
            </a:r>
            <a:r>
              <a:rPr b="0" i="1" lang="en-US" sz="3200" spc="-1" strike="noStrike">
                <a:solidFill>
                  <a:srgbClr val="cc0000"/>
                </a:solidFill>
                <a:latin typeface="Tahoma"/>
              </a:rPr>
              <a:t>tim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304920"/>
            <a:ext cx="81532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ship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ech event &amp; speech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228600"/>
            <a:ext cx="1524240" cy="6172200"/>
          </a:xfrm>
          <a:prstGeom prst="downArrow">
            <a:avLst>
              <a:gd name="adj1" fmla="val 50000"/>
              <a:gd name="adj2" fmla="val 101234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23080" y="578520"/>
            <a:ext cx="4526640" cy="7005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/ Discours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2"/>
          <p:cNvSpPr/>
          <p:nvPr/>
        </p:nvSpPr>
        <p:spPr>
          <a:xfrm>
            <a:off x="2362320" y="1943280"/>
            <a:ext cx="6248160" cy="106668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/ Discours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"/>
          <p:cNvSpPr/>
          <p:nvPr/>
        </p:nvSpPr>
        <p:spPr>
          <a:xfrm>
            <a:off x="2313000" y="3521160"/>
            <a:ext cx="6248520" cy="99036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/ Conversation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"/>
          <p:cNvSpPr/>
          <p:nvPr/>
        </p:nvSpPr>
        <p:spPr>
          <a:xfrm>
            <a:off x="2514600" y="5057640"/>
            <a:ext cx="6095880" cy="106704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/ Small struct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onclusion, the 3-way classification of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speech act, speech event, speech sit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e on the surface. It is perhaps less formal than we would like &amp; the overlap of the levels i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onfusing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304920"/>
            <a:ext cx="81532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ship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ech event &amp; speech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3520" y="26668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1137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.VnFreeH"/>
                <a:ea typeface="Arial"/>
              </a:rPr>
              <a:t>A.Three – 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peech situation (town meeting, court trial, classroo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peech event (narrative, conversation, service encounte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peech 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ive(to get SO to do/ not to do 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ssive(promise, oath, pledg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on(change the state on utt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ive(feelings, e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tive(state of fac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range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tig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av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ms for each act&amp; ; and hedges speaker responsibility for the speech act (e.g: directive includes asking, suggesting, demanding, orderin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"/>
          <p:cNvSpPr/>
          <p:nvPr/>
        </p:nvSpPr>
        <p:spPr>
          <a:xfrm>
            <a:off x="304920" y="228600"/>
            <a:ext cx="8540640" cy="639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I/ Discours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. Notional-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.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factual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intellectual 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emotional 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hange moral 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a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iz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function includes subcategorie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: Exchange emotional attitudes includes (dis)likes, (non)preference (dis)satisfaction, worry, confidence, fear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2.No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ategories of time, space,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ve, mental, relational, deixis,existence, ect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pecif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identification of people, objects, environment, pets, hobbie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3.Lexicon – cross-referenced to Function &amp; No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Oval 2"/>
          <p:cNvSpPr/>
          <p:nvPr/>
        </p:nvSpPr>
        <p:spPr>
          <a:xfrm>
            <a:off x="304920" y="228600"/>
            <a:ext cx="8540640" cy="639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/ Discour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. HALLI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Instrumental (brings about a change of  st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Regulatory(approval, disapproval, behavior regulato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Representational (states fac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-380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Interactional(allows successful social exchan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Oval 2"/>
          <p:cNvSpPr/>
          <p:nvPr/>
        </p:nvSpPr>
        <p:spPr>
          <a:xfrm>
            <a:off x="304920" y="228600"/>
            <a:ext cx="8540640" cy="639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/ Discour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04920" y="228600"/>
            <a:ext cx="861048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.Personal(expres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6.Heuristic(allow you to learn the why’s of your 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.Imagi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*They are broken down i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e.g, interrupting, complaining, requesting, ordering, ect) which are not tied specifically to above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Halliday &amp; Has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deation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gic and experiential 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terperson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cial &amp; expres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extu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structure &amp; cohe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series of prerequisites for communication           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Goffman – 197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Two-way acoustically adequate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interpretabl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353040" cy="25894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33520" y="457200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Contac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2480" y="3352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Turn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3719520" y="3733920"/>
            <a:ext cx="5424480" cy="3124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60440" y="50292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Pre-emp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6640" y="54864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Fram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0040" y="59436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Norms for the respo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2920" y="64008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Nonparticipant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838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Back-channel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2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Book Antiqua"/>
              </a:rPr>
              <a:t>A series of prerequisites for communication (Goffman – 1976)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1. Two way acoustically adequate and interpretable messages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10000"/>
              </a:lnSpc>
              <a:spcBef>
                <a:spcPts val="624"/>
              </a:spcBef>
              <a:buClr>
                <a:srgbClr val="9966ff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We have to be able to hear the message and it must not be garbled that it can’t be understood nor in a language that we have never heard before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2. Back-channel feedback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 some feedback to inform us that the reception is occurring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3. Contact signals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 some way to show that we want to talk/ the talk can begin, etc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.VnUniverseH"/>
              </a:rPr>
              <a:t>4. Turnover signals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500" spc="-1" strike="noStrike">
                <a:solidFill>
                  <a:srgbClr val="000000"/>
                </a:solidFill>
                <a:latin typeface=".VnUniverseH"/>
              </a:rPr>
              <a:t> ways of indicating the end of messages/ ways of signaling next speaker selec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cc"/>
                </a:solidFill>
                <a:latin typeface=".VnUniverseH"/>
              </a:rPr>
              <a:t>     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568520"/>
            <a:ext cx="838188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5. Pre-empt sign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ys to interrupt a talker in midstream to get a rerun of what was said or to capture the chann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6. Framing capabil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re have to be cues to distinguish “bracketed” communication such as  ironic asides, quotes, jok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7. There have to be nor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the respondent will reply honestly with whatever is relevant to ongoing conversation and no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8. Non-participant constrain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peting noise, contact with others outside the conversation must be blocked or if others are meant to be included, eye contact and outside “noise” must be admitted to the chann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44200" y="533520"/>
            <a:ext cx="7630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series of prerequisites f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Goffman – 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55440" y="658440"/>
            <a:ext cx="666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VERSATIONAL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-241308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fdfdfd"/>
              </a:gs>
              <a:gs pos="50000">
                <a:srgbClr val="fefefe"/>
              </a:gs>
              <a:gs pos="100000">
                <a:srgbClr val="fdf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9966ff">
                  <a:alpha val="36078"/>
                </a:srgbClr>
              </a:gs>
              <a:gs pos="100000">
                <a:srgbClr val="dbc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572000"/>
            <a:ext cx="6477120" cy="762120"/>
          </a:xfrm>
          <a:prstGeom prst="roundRect">
            <a:avLst>
              <a:gd name="adj" fmla="val 50000"/>
            </a:avLst>
          </a:prstGeom>
          <a:solidFill>
            <a:srgbClr val="ff00f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3429000"/>
            <a:ext cx="6629400" cy="8380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62320" y="2438280"/>
            <a:ext cx="6476760" cy="7621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ff8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057400" y="2514600"/>
            <a:ext cx="380880" cy="380880"/>
            <a:chOff x="2057400" y="2514600"/>
            <a:chExt cx="380880" cy="380880"/>
          </a:xfrm>
        </p:grpSpPr>
        <p:sp>
          <p:nvSpPr>
            <p:cNvPr id="511" name=""/>
            <p:cNvSpPr/>
            <p:nvPr/>
          </p:nvSpPr>
          <p:spPr>
            <a:xfrm>
              <a:off x="2057400" y="2514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79000" y="2535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98800" y="2556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98800" y="2556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18240" y="2575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18240" y="2575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057400" y="3657600"/>
            <a:ext cx="380880" cy="380880"/>
            <a:chOff x="2057400" y="3657600"/>
            <a:chExt cx="380880" cy="380880"/>
          </a:xfrm>
        </p:grpSpPr>
        <p:sp>
          <p:nvSpPr>
            <p:cNvPr id="518" name=""/>
            <p:cNvSpPr/>
            <p:nvPr/>
          </p:nvSpPr>
          <p:spPr>
            <a:xfrm>
              <a:off x="2057400" y="3657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79000" y="3678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8800" y="3699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98800" y="36990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18240" y="3718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18240" y="37184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05120" y="4724280"/>
            <a:ext cx="380880" cy="381240"/>
            <a:chOff x="1905120" y="4724280"/>
            <a:chExt cx="380880" cy="381240"/>
          </a:xfrm>
        </p:grpSpPr>
        <p:sp>
          <p:nvSpPr>
            <p:cNvPr id="525" name=""/>
            <p:cNvSpPr/>
            <p:nvPr/>
          </p:nvSpPr>
          <p:spPr>
            <a:xfrm>
              <a:off x="1905120" y="4724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26720" y="47455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6520" y="4765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6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46520" y="4765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65960" y="4785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3689"/>
                </a:gs>
                <a:gs pos="50000">
                  <a:srgbClr val="9966ff"/>
                </a:gs>
                <a:gs pos="100000">
                  <a:srgbClr val="5236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65960" y="4785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438280" y="2514600"/>
            <a:ext cx="6248520" cy="459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de"/>
                </a:solidFill>
                <a:latin typeface="Arial"/>
                <a:ea typeface="Arial"/>
              </a:rPr>
              <a:t>Openings and closings for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1905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514600" y="3429000"/>
            <a:ext cx="62485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e"/>
                </a:solidFill>
                <a:latin typeface="Arial"/>
                <a:ea typeface="Arial"/>
              </a:rPr>
              <a:t>The turn-taking system within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33920" y="4648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e"/>
                </a:solidFill>
                <a:latin typeface="Arial"/>
                <a:ea typeface="Arial"/>
              </a:rPr>
              <a:t>The reru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322200"/>
            <a:ext cx="85406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school ye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5029200" cy="37609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762120" y="762120"/>
            <a:ext cx="2286000" cy="2286000"/>
          </a:xfrm>
          <a:prstGeom prst="cloudCallout">
            <a:avLst>
              <a:gd name="adj1" fmla="val 117361"/>
              <a:gd name="adj2" fmla="val 92500"/>
            </a:avLst>
          </a:prstGeom>
          <a:solidFill>
            <a:srgbClr val="dec0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i. So long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0"/>
            <a:ext cx="1905120" cy="2438280"/>
          </a:xfrm>
          <a:prstGeom prst="cloudCallout">
            <a:avLst>
              <a:gd name="adj1" fmla="val -5249"/>
              <a:gd name="adj2" fmla="val 12213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i.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3505320"/>
            <a:ext cx="3276360" cy="2133360"/>
          </a:xfrm>
          <a:prstGeom prst="wedgeRoundRectCallout">
            <a:avLst>
              <a:gd name="adj1" fmla="val 68314"/>
              <a:gd name="adj2" fmla="val 81250"/>
              <a:gd name="adj3" fmla="val 16667"/>
            </a:avLst>
          </a:prstGeom>
          <a:solidFill>
            <a:srgbClr val="dec0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w to open  the conversation with friends in New school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Oval 2"/>
          <p:cNvSpPr/>
          <p:nvPr/>
        </p:nvSpPr>
        <p:spPr>
          <a:xfrm>
            <a:off x="838080" y="914400"/>
            <a:ext cx="7696440" cy="99072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/ Discours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819160" y="228600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2971800"/>
            <a:ext cx="2895480" cy="1447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PEECH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733920"/>
            <a:ext cx="3124440" cy="1523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PEECH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22860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2895480"/>
            <a:ext cx="2895480" cy="1371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SPEECH SITU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066680" y="2058840"/>
            <a:ext cx="7010640" cy="342432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5408640" y="318240"/>
            <a:ext cx="2646000" cy="2260800"/>
            <a:chOff x="5408640" y="318240"/>
            <a:chExt cx="2646000" cy="2260800"/>
          </a:xfrm>
        </p:grpSpPr>
        <p:sp>
          <p:nvSpPr>
            <p:cNvPr id="544" name=""/>
            <p:cNvSpPr/>
            <p:nvPr/>
          </p:nvSpPr>
          <p:spPr>
            <a:xfrm rot="20259000">
              <a:off x="5614560" y="685800"/>
              <a:ext cx="2233800" cy="1525680"/>
            </a:xfrm>
            <a:prstGeom prst="cloudCallout">
              <a:avLst>
                <a:gd name="adj1" fmla="val -74833"/>
                <a:gd name="adj2" fmla="val 95282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78800" y="1116720"/>
              <a:ext cx="168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’m sure they’ll have good food t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1095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6752160" y="3566160"/>
            <a:ext cx="2163240" cy="1040400"/>
            <a:chOff x="6752160" y="3566160"/>
            <a:chExt cx="2163240" cy="1040400"/>
          </a:xfrm>
        </p:grpSpPr>
        <p:sp>
          <p:nvSpPr>
            <p:cNvPr id="548" name=""/>
            <p:cNvSpPr/>
            <p:nvPr/>
          </p:nvSpPr>
          <p:spPr>
            <a:xfrm rot="5178000">
              <a:off x="7313040" y="3095640"/>
              <a:ext cx="914400" cy="1981080"/>
            </a:xfrm>
            <a:prstGeom prst="wedgeRoundRectCallout">
              <a:avLst>
                <a:gd name="adj1" fmla="val -25120"/>
                <a:gd name="adj2" fmla="val 68310"/>
                <a:gd name="adj3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81680" y="37339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mm - I guess the food isn’t gre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514600" y="1523880"/>
            <a:ext cx="2361960" cy="795960"/>
            <a:chOff x="2514600" y="1523880"/>
            <a:chExt cx="2361960" cy="795960"/>
          </a:xfrm>
        </p:grpSpPr>
        <p:sp>
          <p:nvSpPr>
            <p:cNvPr id="551" name=""/>
            <p:cNvSpPr/>
            <p:nvPr/>
          </p:nvSpPr>
          <p:spPr>
            <a:xfrm>
              <a:off x="2598840" y="1523880"/>
              <a:ext cx="2108520" cy="727200"/>
            </a:xfrm>
            <a:prstGeom prst="wedgeRectCallout">
              <a:avLst>
                <a:gd name="adj1" fmla="val -32500"/>
                <a:gd name="adj2" fmla="val 62796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14600" y="167724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h - people mostly go for the mus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Open and close conversations</a:t>
            </a:r>
            <a:br>
              <a:rPr sz="4400"/>
            </a:br>
            <a:r>
              <a:rPr b="1" lang="en-US" sz="3700" spc="-1" strike="noStrike">
                <a:solidFill>
                  <a:srgbClr val="000000"/>
                </a:solidFill>
                <a:latin typeface=".VnUniverseH"/>
              </a:rPr>
              <a:t>        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fff8"/>
                </a:solidFill>
                <a:latin typeface="Wingdings"/>
                <a:ea typeface="Wingdings"/>
              </a:rPr>
              <a:t></a:t>
            </a: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Book Antiqua"/>
              </a:rPr>
              <a:t>Conversation closers (Schegloff and Sa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nish with a “pas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: Say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OK/ yeah/ well/ so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… with falling inton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speaker is willing to consider closing the conversation at this point/ it is the time to bring up any other top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47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Open and close conversation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295280"/>
            <a:ext cx="2666880" cy="5029200"/>
          </a:xfrm>
          <a:prstGeom prst="wedgeRoundRectCallout">
            <a:avLst>
              <a:gd name="adj1" fmla="val 72976"/>
              <a:gd name="adj2" fmla="val 457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We go coffee ton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Green plaza ho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Wha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8 p.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That’s a good idea. See you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1600200"/>
            <a:ext cx="2438280" cy="4876920"/>
          </a:xfrm>
          <a:prstGeom prst="wedgeRoundRectCallout">
            <a:avLst>
              <a:gd name="adj1" fmla="val -89583"/>
              <a:gd name="adj2" fmla="val 826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We go coffee ton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: 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: 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65760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6201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4038480" y="1523880"/>
            <a:ext cx="3048120" cy="1219320"/>
            <a:chOff x="4038480" y="1523880"/>
            <a:chExt cx="3048120" cy="1219320"/>
          </a:xfrm>
        </p:grpSpPr>
        <p:sp>
          <p:nvSpPr>
            <p:cNvPr id="564" name=""/>
            <p:cNvSpPr/>
            <p:nvPr/>
          </p:nvSpPr>
          <p:spPr>
            <a:xfrm>
              <a:off x="4038480" y="1523880"/>
              <a:ext cx="3048120" cy="1219320"/>
            </a:xfrm>
            <a:prstGeom prst="cloudCallout">
              <a:avLst>
                <a:gd name="adj1" fmla="val -10935"/>
                <a:gd name="adj2" fmla="val 67449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190512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ộc lớp mình đẹp trai nhỉ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762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6328800" y="2189880"/>
            <a:ext cx="2586600" cy="2402280"/>
            <a:chOff x="6328800" y="2189880"/>
            <a:chExt cx="2586600" cy="2402280"/>
          </a:xfrm>
        </p:grpSpPr>
        <p:sp>
          <p:nvSpPr>
            <p:cNvPr id="568" name=""/>
            <p:cNvSpPr/>
            <p:nvPr/>
          </p:nvSpPr>
          <p:spPr>
            <a:xfrm rot="2408400">
              <a:off x="6629400" y="2590560"/>
              <a:ext cx="1828800" cy="1600200"/>
            </a:xfrm>
            <a:prstGeom prst="cloudCallout">
              <a:avLst>
                <a:gd name="adj1" fmla="val -44250"/>
                <a:gd name="adj2" fmla="val 58611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05720" y="32004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hưng hơi gầ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371600" y="1295280"/>
            <a:ext cx="2362320" cy="838440"/>
            <a:chOff x="1371600" y="1295280"/>
            <a:chExt cx="2362320" cy="838440"/>
          </a:xfrm>
        </p:grpSpPr>
        <p:sp>
          <p:nvSpPr>
            <p:cNvPr id="571" name=""/>
            <p:cNvSpPr/>
            <p:nvPr/>
          </p:nvSpPr>
          <p:spPr>
            <a:xfrm>
              <a:off x="1371600" y="1295280"/>
              <a:ext cx="2362320" cy="838440"/>
            </a:xfrm>
            <a:prstGeom prst="wedgeRectCallout">
              <a:avLst>
                <a:gd name="adj1" fmla="val -40726"/>
                <a:gd name="adj2" fmla="val 64583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23880" y="1339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Ừ, nếu không gầy thì đẹ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543800" cy="444636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5486400" y="1371600"/>
            <a:ext cx="3429000" cy="1143000"/>
            <a:chOff x="5486400" y="1371600"/>
            <a:chExt cx="3429000" cy="1143000"/>
          </a:xfrm>
        </p:grpSpPr>
        <p:sp>
          <p:nvSpPr>
            <p:cNvPr id="575" name=""/>
            <p:cNvSpPr/>
            <p:nvPr/>
          </p:nvSpPr>
          <p:spPr>
            <a:xfrm>
              <a:off x="5486400" y="1371600"/>
              <a:ext cx="3352680" cy="1143000"/>
            </a:xfrm>
            <a:prstGeom prst="wedgeEllipseCallout">
              <a:avLst>
                <a:gd name="adj1" fmla="val -20310"/>
                <a:gd name="adj2" fmla="val 81944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38680" y="1600200"/>
              <a:ext cx="32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 – well - in fact he - he believes in Go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209680" y="1676520"/>
            <a:ext cx="2362320" cy="1066680"/>
            <a:chOff x="2209680" y="1676520"/>
            <a:chExt cx="2362320" cy="1066680"/>
          </a:xfrm>
        </p:grpSpPr>
        <p:sp>
          <p:nvSpPr>
            <p:cNvPr id="578" name=""/>
            <p:cNvSpPr/>
            <p:nvPr/>
          </p:nvSpPr>
          <p:spPr>
            <a:xfrm>
              <a:off x="2209680" y="1676520"/>
              <a:ext cx="2362320" cy="1066680"/>
            </a:xfrm>
            <a:prstGeom prst="cloudCallout">
              <a:avLst>
                <a:gd name="adj1" fmla="val -32055"/>
                <a:gd name="adj2" fmla="val 67111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86000" y="190476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 theist does not believe in Go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5627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581" name=""/>
          <p:cNvGrpSpPr/>
          <p:nvPr/>
        </p:nvGrpSpPr>
        <p:grpSpPr>
          <a:xfrm>
            <a:off x="5867280" y="1143000"/>
            <a:ext cx="3048120" cy="990720"/>
            <a:chOff x="5867280" y="1143000"/>
            <a:chExt cx="3048120" cy="990720"/>
          </a:xfrm>
        </p:grpSpPr>
        <p:sp>
          <p:nvSpPr>
            <p:cNvPr id="582" name=""/>
            <p:cNvSpPr/>
            <p:nvPr/>
          </p:nvSpPr>
          <p:spPr>
            <a:xfrm>
              <a:off x="5867280" y="1143000"/>
              <a:ext cx="2895840" cy="990720"/>
            </a:xfrm>
            <a:prstGeom prst="wedgeEllipseCallout">
              <a:avLst>
                <a:gd name="adj1" fmla="val -46379"/>
                <a:gd name="adj2" fmla="val 77722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7280" y="13716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 có yêu anh không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828800" y="1066680"/>
            <a:ext cx="3504960" cy="1282320"/>
            <a:chOff x="1828800" y="1066680"/>
            <a:chExt cx="3504960" cy="1282320"/>
          </a:xfrm>
        </p:grpSpPr>
        <p:sp>
          <p:nvSpPr>
            <p:cNvPr id="585" name=""/>
            <p:cNvSpPr/>
            <p:nvPr/>
          </p:nvSpPr>
          <p:spPr>
            <a:xfrm>
              <a:off x="1828800" y="1066680"/>
              <a:ext cx="3504960" cy="1282320"/>
            </a:xfrm>
            <a:prstGeom prst="wedgeRoundRectCallout">
              <a:avLst>
                <a:gd name="adj1" fmla="val -47870"/>
                <a:gd name="adj2" fmla="val 95685"/>
                <a:gd name="adj3" fmla="val 16667"/>
              </a:avLst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28800" y="1158120"/>
              <a:ext cx="342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ạ…thì…em thích anh nhưng, nhưng mà em…em còn phải học, chưa nghĩ tới điều nà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ome sort of special marker: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24"/>
              </a:spcBef>
              <a:buClr>
                <a:srgbClr val="99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cc0066"/>
                </a:solidFill>
                <a:latin typeface="Times New Roman"/>
              </a:rPr>
              <a:t>oh, by the way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24"/>
              </a:spcBef>
              <a:buClr>
                <a:srgbClr val="99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cc0066"/>
                </a:solidFill>
                <a:latin typeface="Times New Roman"/>
              </a:rPr>
              <a:t>Wait a minut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24"/>
              </a:spcBef>
              <a:buClr>
                <a:srgbClr val="99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cc0066"/>
                </a:solidFill>
                <a:latin typeface="Times New Roman"/>
              </a:rPr>
              <a:t>Just a second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x: A: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y the way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. You pick me up.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: ok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just a minute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. What’s the street ?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380520" y="258480"/>
            <a:ext cx="7936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Open and close convers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Open and close convers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bilingual and lingua franca sit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recall throat- cle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ody m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other ways to clear th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99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onolingual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laughter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010280" y="4114800"/>
            <a:ext cx="14414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674280"/>
            <a:ext cx="84582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How to start the conversation?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133720" y="1704960"/>
            <a:ext cx="5486400" cy="38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58800"/>
            <a:ext cx="85406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How to close the conversation?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505320" cy="2328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476600" cy="23716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09480" y="4800600"/>
            <a:ext cx="8229600" cy="1447920"/>
          </a:xfrm>
          <a:prstGeom prst="rect">
            <a:avLst/>
          </a:prstGeom>
          <a:solidFill>
            <a:srgbClr val="a6f8c7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33cc"/>
                </a:solidFill>
                <a:latin typeface="Times New Roman"/>
              </a:rPr>
              <a:t>Always open/ close a conversation as politely as you c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8600" y="990720"/>
            <a:ext cx="8915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Last night, Mike apologized his parents for coming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(angry)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time is it?...It’s 11p.m..hu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’m sorry. I’m very sorry for com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me late aga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ke apologized to his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eech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onversation between Mike and his par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ech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etting of the conversation: the house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ship between the child and his parents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ech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3320" y="306072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360" y="383220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9160" y="472752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55560" y="398160"/>
            <a:ext cx="6039360" cy="45252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peech a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0033cc"/>
                </a:solidFill>
                <a:latin typeface="Times New Roman"/>
              </a:rPr>
              <a:t>TURN-TAK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4880" y="1719360"/>
            <a:ext cx="8839080" cy="4411440"/>
          </a:xfrm>
          <a:prstGeom prst="rect">
            <a:avLst/>
          </a:prstGeom>
          <a:solidFill>
            <a:srgbClr val="ffffcc"/>
          </a:solidFill>
          <a:ln w="9360">
            <a:solidFill>
              <a:srgbClr val="d9ff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" sz="4100" spc="-1" strike="noStrike">
                <a:solidFill>
                  <a:srgbClr val="0033cc"/>
                </a:solidFill>
                <a:latin typeface="Times New Roman"/>
              </a:rPr>
              <a:t>A process by which interactants allocate the right or obligation to participate in an interactional activity.</a:t>
            </a:r>
            <a:r>
              <a:rPr b="0" lang="en" sz="4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" sz="4100" spc="-1" strike="noStrike">
                <a:solidFill>
                  <a:srgbClr val="000000"/>
                </a:solidFill>
                <a:latin typeface="Times New Roman"/>
              </a:rPr>
              <a:t>Sacks, Schegloff, &amp; Jefferson, 1974</a:t>
            </a:r>
            <a:r>
              <a:rPr b="0" lang="en" sz="41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702560" y="4648320"/>
            <a:ext cx="1441440" cy="22096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9940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Turn - tak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953240" cy="34480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04920" y="3971880"/>
            <a:ext cx="3200400" cy="24750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6429240" y="3581280"/>
            <a:ext cx="2381400" cy="32767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Turn – taking crite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1584360"/>
            <a:ext cx="9144000" cy="4513320"/>
          </a:xfrm>
          <a:prstGeom prst="rect">
            <a:avLst/>
          </a:prstGeom>
          <a:solidFill>
            <a:srgbClr val="d9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auses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lences in the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n-breaths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s in a conversation when one stops talking to take a br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entence intonations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s in a conversation when a speaker’s voice marks the end of a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Question intonations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ints in the conversation when a speaker’s voice marks the end of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Back-shadowing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gns from listeners that we watch to know whether they are following along the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6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1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1" dur="1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 - taking</a:t>
            </a:r>
            <a:r>
              <a:rPr b="0" lang="en-US" sz="3300" spc="-1" strike="noStrike">
                <a:solidFill>
                  <a:srgbClr val="ff3300"/>
                </a:solidFill>
                <a:latin typeface="Tahoma"/>
              </a:rPr>
              <a:t> : Back – shadowing sign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mhmm/ nod/ smile/ laugh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isagre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wn/ shift forward in the chair (as though to jump into the conversation with an obje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e"/>
                </a:solidFill>
                <a:latin typeface="Book Antiqua"/>
              </a:rPr>
              <a:t>Ex: - </a:t>
            </a: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Japanese students would nod at every pause point during lectures </a:t>
            </a:r>
            <a:r>
              <a:rPr b="0" i="1" lang="en-US" sz="28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 signs that the person was paying attention “I’m listening not I’m follow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    </a:t>
            </a:r>
            <a:r>
              <a:rPr b="0" i="1" lang="en-US" sz="2800" spc="-1" strike="noStrike">
                <a:solidFill>
                  <a:srgbClr val="0000de"/>
                </a:solidFill>
                <a:latin typeface="Book Antiqua"/>
              </a:rPr>
              <a:t>- Other students would look blank but in fact they understood every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de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de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mismatch of back-shadowing might change the nature of conversations among listeners and between listeners and native spea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67320" y="53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-2520"/>
            <a:ext cx="8610480" cy="12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The turn-taking system within conversation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96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ile conversing or lecturing, this back-shadowing may cause us to insert asides into our turn at talk: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jokes, illustrative story, a simple departure from what we had been say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ange the boring atmosphere, make the lecture easier to be understood, get the attention from audienc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67320" y="53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Turn-taking system within convers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9fff8"/>
                </a:solidFill>
                <a:latin typeface="Book Antiqua"/>
              </a:rPr>
              <a:t>           </a:t>
            </a:r>
            <a:r>
              <a:rPr b="1" lang="en-US" sz="3300" spc="-1" strike="noStrike">
                <a:solidFill>
                  <a:srgbClr val="d9fff8"/>
                </a:solidFill>
                <a:latin typeface="Wingdings"/>
                <a:ea typeface="Wingdings"/>
              </a:rPr>
              <a:t></a:t>
            </a:r>
            <a:r>
              <a:rPr b="1" lang="en-US" sz="3300" spc="-1" strike="noStrike">
                <a:solidFill>
                  <a:srgbClr val="d9fff8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d9fff8"/>
                </a:solidFill>
                <a:latin typeface=".VnBook-Antiqua"/>
              </a:rPr>
              <a:t>The rerun syst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.VnBook-Antiqua"/>
              </a:rPr>
              <a:t>Why do we rerun a conversatio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de"/>
                </a:solidFill>
                <a:latin typeface=".VnBook-Antiqua"/>
              </a:rPr>
              <a:t> </a:t>
            </a:r>
            <a:r>
              <a:rPr b="0" lang="en-US" sz="27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 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.VnBook-Antiqua"/>
              </a:rPr>
              <a:t>To make messages interpretable, native speakers talking with language learners must make many adjustment, and both must work very hard on reruns (repairs in conversation) as wel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600" spc="-1" strike="noStrike">
                <a:solidFill>
                  <a:srgbClr val="0000de"/>
                </a:solidFill>
                <a:latin typeface=".VnBook-Antiqua"/>
              </a:rPr>
              <a:t> </a:t>
            </a:r>
            <a:r>
              <a:rPr b="0" lang="en-US" sz="2600" spc="-1" strike="noStrike">
                <a:solidFill>
                  <a:srgbClr val="0000de"/>
                </a:solidFill>
                <a:latin typeface=".VnBook-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.VnBook-Antiqua"/>
              </a:rPr>
              <a:t>When native speakers get back-shadowing cues that their speech is not understood, they repair and restructure speech in ways to make it easier for the learner to take turns at talk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67320" y="53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Reru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.VnBook-Antiqua"/>
              </a:rPr>
              <a:t>The rerun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.VnBook-Antiqua"/>
              </a:rPr>
              <a:t>Why do we rerun a conversatio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de"/>
                </a:solidFill>
                <a:latin typeface="Wingdings"/>
                <a:ea typeface="Wingdings"/>
              </a:rPr>
              <a:t>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 </a:t>
            </a:r>
            <a:r>
              <a:rPr b="0" lang="en-US" sz="2700" spc="-1" strike="noStrike">
                <a:solidFill>
                  <a:srgbClr val="0000de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.VnBook-Antiqua"/>
              </a:rPr>
              <a:t>When the speaker does not repair the trouble spots, corrections are made by the hearer, but the corrections are usually softened by expressions “I think”, “In my opinion”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16765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00" y="49320"/>
            <a:ext cx="9144000" cy="10666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Reru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700" spc="-1" strike="noStrike">
                <a:solidFill>
                  <a:srgbClr val="ff3300"/>
                </a:solidFill>
                <a:latin typeface="Tahoma"/>
              </a:rPr>
              <a:t>INTERFERENCES</a:t>
            </a:r>
            <a:r>
              <a:rPr b="1" lang="en-US" sz="3700" spc="-1" strike="noStrike">
                <a:solidFill>
                  <a:srgbClr val="d9fff8"/>
                </a:solidFill>
                <a:latin typeface="Book Antiqu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342900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Tahoma"/>
              </a:rPr>
              <a:t>3 types of inferences:</a:t>
            </a:r>
            <a:r>
              <a:rPr b="1" lang="en-US" sz="3500" spc="-1" strike="noStrike">
                <a:solidFill>
                  <a:srgbClr val="d40a2c"/>
                </a:solidFill>
                <a:latin typeface="Tahoma"/>
              </a:rPr>
              <a:t>	</a:t>
            </a:r>
            <a:r>
              <a:rPr b="1" lang="en-US" sz="3500" spc="-1" strike="noStrike">
                <a:solidFill>
                  <a:srgbClr val="d40a2c"/>
                </a:solidFill>
                <a:latin typeface="Tahoma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- Propositiona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- Enabling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- Pragmatic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9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ff3300"/>
                </a:solidFill>
                <a:latin typeface="Tahoma"/>
              </a:rPr>
              <a:t>INFERENCES</a:t>
            </a:r>
            <a:r>
              <a:rPr b="1" lang="en-US" sz="3300" spc="-1" strike="noStrike">
                <a:solidFill>
                  <a:srgbClr val="d9fff8"/>
                </a:solidFill>
                <a:latin typeface="Book Antiqu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12952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12cc"/>
                </a:solidFill>
                <a:latin typeface="Tahoma"/>
                <a:ea typeface="Arial"/>
              </a:rPr>
              <a:t>1. Propositional Inferenc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ollow logically and necessarily from a give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: A is bigger than B, B is bigger than C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P.I : A is bigger tha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12cc"/>
                </a:solidFill>
                <a:latin typeface="Tahoma"/>
                <a:ea typeface="Arial"/>
              </a:rPr>
              <a:t>2. Enabling Inferenc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rovide causal relationships between concepts o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: John threw the ball through the window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.I : John broke the windo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12cc"/>
                </a:solidFill>
                <a:latin typeface="Tahoma"/>
                <a:ea typeface="Arial"/>
              </a:rPr>
              <a:t>3. Pragmatic Inferences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 greater source of learner error. It is based on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world knowledge which is not ess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or the processing of the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: The old lady stepped into the chauffeur-driven Cadillac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.I :The old lady i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ech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What we “do” with sent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ve forms of speech act in Searle‘s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Freeform 4"/>
          <p:cNvSpPr/>
          <p:nvPr/>
        </p:nvSpPr>
        <p:spPr>
          <a:xfrm flipH="1">
            <a:off x="1828080" y="251460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"/>
          <p:cNvSpPr/>
          <p:nvPr/>
        </p:nvSpPr>
        <p:spPr>
          <a:xfrm flipH="1">
            <a:off x="1828080" y="137160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4"/>
          <p:cNvSpPr/>
          <p:nvPr/>
        </p:nvSpPr>
        <p:spPr>
          <a:xfrm flipH="1">
            <a:off x="1828080" y="3581280"/>
            <a:ext cx="903240" cy="124164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3200" y="1600200"/>
            <a:ext cx="4343400" cy="83808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John stole my b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43200" y="2590920"/>
            <a:ext cx="4343400" cy="83808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What time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3657600"/>
            <a:ext cx="4419720" cy="76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mmi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I’ll do that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4572000"/>
            <a:ext cx="4419720" cy="9907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xp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“Sorry, I’m l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5791320"/>
            <a:ext cx="4343400" cy="83808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 I now pronounce you husband and w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 flipH="1">
            <a:off x="1675800" y="464832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"/>
          <p:cNvSpPr/>
          <p:nvPr/>
        </p:nvSpPr>
        <p:spPr>
          <a:xfrm flipH="1">
            <a:off x="1523160" y="5616720"/>
            <a:ext cx="903240" cy="124128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dbe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at is, all languages have ways of issuing directives, giving apologies, making requests and so 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r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00"/>
                </a:solidFill>
                <a:latin typeface="Times New Roman"/>
              </a:rPr>
              <a:t>ran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of ways to apologize, to request or to complain the same across language group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Will shifts in range that go with social variables in the setting (e.g., status, sex, age correspondences between speaker and listener) necessarily be similar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762120" y="11844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Speech acts are univer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523880" y="57150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38080" y="3333600"/>
            <a:ext cx="5029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 An expression of a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8080" y="3867120"/>
            <a:ext cx="754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. An explanation or account of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38080" y="4362480"/>
            <a:ext cx="6629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An acknowledgement of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38080" y="4991040"/>
            <a:ext cx="6629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. An offer of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14400" y="5448240"/>
            <a:ext cx="6629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. A promise of forb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33200" y="2590920"/>
            <a:ext cx="533520" cy="152280"/>
          </a:xfrm>
          <a:custGeom>
            <a:avLst/>
            <a:gdLst>
              <a:gd name="textAreaLeft" fmla="*/ 6660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1066680"/>
            <a:ext cx="876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A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lshtain and Cohen investigated the structure of apologies in several langu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 apology consists of one or more of the 5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3. An acknowledgement of responsibil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a) accepting the blame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as my faul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b) expressing self-deficiency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 was confused” “I wasn’t thinking” “I didn’t see you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c) recognizing the other person as deserving apology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You are righ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d) expressing lack of intent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 didn’t mean to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4. An offer of repair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Let me help you get up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5. A promise of forbearance, 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on’t happen again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228600" y="141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In those cases where the offender did not recognize the need to apologize, two basic types of denial occurred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1. A denial of the need to apologize,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There was no need for you to get insulted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2. A denial of responsibil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a) not accepting the blame,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asn’t my faul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b) blaming the other participant for bringing the offense upon himself/ herself,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“It was your own fault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The data from studies by Olshtain and Cohen showed that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native speakers within a language group perform apologies in similar way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second language learners, even at the intermediate stage, may lack the linguistic ability to adequately perform apologie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2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second language learners do transfer apology behaviour acceptable in their first language to the target language situation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126684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E.g.1: When bumping into a lady and just shaking her up,              the foreign language learners often give an apology 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“I’m </a:t>
            </a:r>
            <a:r>
              <a:rPr b="1" i="1" lang="en-US" sz="2700" spc="-1" strike="noStrike" u="sng">
                <a:solidFill>
                  <a:srgbClr val="000099"/>
                </a:solidFill>
                <a:uFillTx/>
                <a:latin typeface="Times New Roman"/>
              </a:rPr>
              <a:t>very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 sorry”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the intensity of regret did not match that of native speaker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E.g.2: When receiving a compliment on an article of apparel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-305280">
              <a:lnSpc>
                <a:spcPct val="90000"/>
              </a:lnSpc>
              <a:spcBef>
                <a:spcPts val="675"/>
              </a:spcBef>
              <a:buClr>
                <a:srgbClr val="66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A: That’s a nice dres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B: Thanks. I got it at Robinsons. I can’t believe   how expensive they are. 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(native speakers of English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72600" indent="-305280">
              <a:lnSpc>
                <a:spcPct val="90000"/>
              </a:lnSpc>
              <a:spcBef>
                <a:spcPts val="675"/>
              </a:spcBef>
              <a:buClr>
                <a:srgbClr val="66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A: That’s a nice dres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B: Oh no, it’s nothing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85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                       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(Japanese learners of English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complaint is defined as an utterance or set of utterances, that identify a problem or trouble source and seek remediation, either from the person responsible for the trouble or from a third party who has the power to affect the sit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iddens(1981), Inoue, and Schaefer(1982) classified complaints made to third person into 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ipes: the third party has no power to remedy the sit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als: the complainer tries to convince the third party to take action against the responsible par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16765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0" y="6500"/>
                </a:lnTo>
                <a:lnTo>
                  <a:pt x="6480" y="10800"/>
                </a:lnTo>
                <a:lnTo>
                  <a:pt x="10800" y="10800"/>
                </a:lnTo>
                <a:lnTo>
                  <a:pt x="10800" y="6480"/>
                </a:lnTo>
                <a:lnTo>
                  <a:pt x="6500" y="6480"/>
                </a:lnTo>
                <a:lnTo>
                  <a:pt x="10800" y="0"/>
                </a:lnTo>
                <a:lnTo>
                  <a:pt x="15100" y="6480"/>
                </a:lnTo>
                <a:lnTo>
                  <a:pt x="10800" y="6480"/>
                </a:lnTo>
                <a:lnTo>
                  <a:pt x="10800" y="10800"/>
                </a:lnTo>
                <a:lnTo>
                  <a:pt x="15120" y="10800"/>
                </a:lnTo>
                <a:lnTo>
                  <a:pt x="15120" y="6500"/>
                </a:lnTo>
                <a:lnTo>
                  <a:pt x="21600" y="10800"/>
                </a:lnTo>
                <a:lnTo>
                  <a:pt x="15120" y="15100"/>
                </a:lnTo>
                <a:lnTo>
                  <a:pt x="15120" y="10800"/>
                </a:lnTo>
                <a:lnTo>
                  <a:pt x="10800" y="10800"/>
                </a:lnTo>
                <a:lnTo>
                  <a:pt x="10800" y="15120"/>
                </a:lnTo>
                <a:lnTo>
                  <a:pt x="15100" y="15120"/>
                </a:lnTo>
                <a:lnTo>
                  <a:pt x="10800" y="21600"/>
                </a:lnTo>
                <a:lnTo>
                  <a:pt x="6500" y="15120"/>
                </a:lnTo>
                <a:lnTo>
                  <a:pt x="10800" y="15120"/>
                </a:lnTo>
                <a:lnTo>
                  <a:pt x="10800" y="10800"/>
                </a:lnTo>
                <a:lnTo>
                  <a:pt x="6480" y="10800"/>
                </a:lnTo>
                <a:lnTo>
                  <a:pt x="6480" y="15100"/>
                </a:lnTo>
                <a:close/>
              </a:path>
            </a:pathLst>
          </a:custGeom>
          <a:solidFill>
            <a:srgbClr val="0000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36529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0" y="6500"/>
                </a:lnTo>
                <a:lnTo>
                  <a:pt x="6480" y="10800"/>
                </a:lnTo>
                <a:lnTo>
                  <a:pt x="10800" y="10800"/>
                </a:lnTo>
                <a:lnTo>
                  <a:pt x="10800" y="6480"/>
                </a:lnTo>
                <a:lnTo>
                  <a:pt x="6500" y="6480"/>
                </a:lnTo>
                <a:lnTo>
                  <a:pt x="10800" y="0"/>
                </a:lnTo>
                <a:lnTo>
                  <a:pt x="15100" y="6480"/>
                </a:lnTo>
                <a:lnTo>
                  <a:pt x="10800" y="6480"/>
                </a:lnTo>
                <a:lnTo>
                  <a:pt x="10800" y="10800"/>
                </a:lnTo>
                <a:lnTo>
                  <a:pt x="15120" y="10800"/>
                </a:lnTo>
                <a:lnTo>
                  <a:pt x="15120" y="6500"/>
                </a:lnTo>
                <a:lnTo>
                  <a:pt x="21600" y="10800"/>
                </a:lnTo>
                <a:lnTo>
                  <a:pt x="15120" y="15100"/>
                </a:lnTo>
                <a:lnTo>
                  <a:pt x="15120" y="10800"/>
                </a:lnTo>
                <a:lnTo>
                  <a:pt x="10800" y="10800"/>
                </a:lnTo>
                <a:lnTo>
                  <a:pt x="10800" y="15120"/>
                </a:lnTo>
                <a:lnTo>
                  <a:pt x="15100" y="15120"/>
                </a:lnTo>
                <a:lnTo>
                  <a:pt x="10800" y="21600"/>
                </a:lnTo>
                <a:lnTo>
                  <a:pt x="6500" y="15120"/>
                </a:lnTo>
                <a:lnTo>
                  <a:pt x="10800" y="15120"/>
                </a:lnTo>
                <a:lnTo>
                  <a:pt x="10800" y="10800"/>
                </a:lnTo>
                <a:lnTo>
                  <a:pt x="6480" y="10800"/>
                </a:lnTo>
                <a:lnTo>
                  <a:pt x="6480" y="15100"/>
                </a:lnTo>
                <a:close/>
              </a:path>
            </a:pathLst>
          </a:custGeom>
          <a:solidFill>
            <a:srgbClr val="0000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04560" y="955440"/>
            <a:ext cx="8839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de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mponents of a complaint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. Opener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hi”, “hello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2. Orientation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I’m your next-door neighbor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3. Act Statement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You charged me too muc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4. Justificati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a) Justification of the Speaker: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My daughter is revising   for her exam, so…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b) Justification of the Addressee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I know you enjoy listening to music but…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5. Remedy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Get back in lin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6. Clos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a) expression of appreciation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Thanks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b) expression of apology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Sorry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) goodbyes: e.g.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“Goodby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7. Valuation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6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2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6" dur="20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1" dur="20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6" dur="20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1" dur="20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6" dur="20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200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6" dur="2000"/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2000"/>
                                        <p:tgtEl>
                                          <p:spTgt spid="6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6" dur="2000"/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data from studies by Giddens, Inoue,and Schaefer as well as Loos showed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re are strong differences across language groups as to the effect of sex of addressee and of speak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syntactic forms and the formality of lexical choice also appear to differ across language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ifferent language groups recognized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ppropriatenes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of complaints better than other language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00"/>
                </a:solidFill>
                <a:latin typeface="Times New Roman"/>
              </a:rPr>
              <a:t>Appropriatenes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Few foreign language learners seem to do complaining in an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‘appropriate’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manner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‘appropriate’ = the way a native speaker of English would do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ok and other researchers have suggested that foreign students seem to learn (or at least use) the most polite for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Learners may feel that they won’t make any great social blunder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Rules for addressing speakers of equivalents or different status (i.e., age, sex, role, and power) are likely to vary across languag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Polite formality may easily be misinterpreted as hostility or distancing, where this is not the learners’ inten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.1Dir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What time is it?-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k s.o to show 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an I have your passport, please?-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k s.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o give his/her passport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Don’t interrupt me!- ask s.o not to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rupt your conversation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syntactic forms of these sentences may differ, they all “do” the same 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rectiv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akers try to get the listeners to do or not to do somet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questing, forbidding, warning, advising, suggesting, insisting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Oval 2"/>
          <p:cNvSpPr/>
          <p:nvPr/>
        </p:nvSpPr>
        <p:spPr>
          <a:xfrm>
            <a:off x="304920" y="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.g.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person asks his/her neighbo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 was wondering if you could possibly lend me the hammer?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stead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an you lend me the hammer?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 communication, collocations of extremely polite and friendly, informal forms sometimes occ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.g.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Hello, my teacher”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“Hi, si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333300"/>
                </a:solidFill>
                <a:latin typeface="Times New Roman"/>
              </a:rPr>
              <a:t>Conclusion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75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While speech acts and small speech events may be universal, the range of ways of expressing each differs from language to language and is sensitive to sociolinguistic variab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75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While second language learners may have 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directives, commissives, representatives, expressives and declaratives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, while they may have </a:t>
            </a:r>
            <a:r>
              <a:rPr b="1" i="1" lang="en-US" sz="2700" spc="-1" strike="noStrike">
                <a:solidFill>
                  <a:srgbClr val="000099"/>
                </a:solidFill>
                <a:latin typeface="Times New Roman"/>
              </a:rPr>
              <a:t>compliments, invitations, complaints, jokes, and information-giving exchanges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in their first languages, it is unlikely that speech acts or speech events are carried out in exactly the same way in the second languag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3175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SMALL STRUCTURED SPEECH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73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 rot="20765400">
            <a:off x="5410080" y="38095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 rot="1240200">
            <a:off x="3068280" y="3733920"/>
            <a:ext cx="969840" cy="10666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 rot="419400">
            <a:off x="4190760" y="1752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 rot="21154200">
            <a:off x="3048120" y="2209680"/>
            <a:ext cx="1066680" cy="9604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 rot="20958000">
            <a:off x="6324120" y="2285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7"/>
          <a:stretch/>
        </p:blipFill>
        <p:spPr>
          <a:xfrm rot="438000">
            <a:off x="5181120" y="2133720"/>
            <a:ext cx="1067040" cy="8730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8"/>
          <a:stretch/>
        </p:blipFill>
        <p:spPr>
          <a:xfrm rot="430200">
            <a:off x="4266720" y="358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9"/>
          <a:stretch/>
        </p:blipFill>
        <p:spPr>
          <a:xfrm rot="510600">
            <a:off x="1905120" y="213336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.2. Represent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: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I have five toes on my right f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peaker describes some state of affai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ing, asserting, denying, confessing, admitting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76320" y="36576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"/>
          <p:cNvSpPr/>
          <p:nvPr/>
        </p:nvSpPr>
        <p:spPr>
          <a:xfrm>
            <a:off x="457200" y="30492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ommiss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: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I’ll meet you at the library at 8 a.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t the speaker to do something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mising, vowing, volunteering, offering, pledging, betting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190440" y="3352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"/>
          <p:cNvSpPr/>
          <p:nvPr/>
        </p:nvSpPr>
        <p:spPr>
          <a:xfrm>
            <a:off x="304920" y="45720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0952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12142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1.4. Express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What a lovely ca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he speaker’s feeling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*Thanking, apologizing, congratulating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"/>
          <p:cNvSpPr/>
          <p:nvPr/>
        </p:nvSpPr>
        <p:spPr>
          <a:xfrm>
            <a:off x="304920" y="285840"/>
            <a:ext cx="8458200" cy="685800"/>
          </a:xfrm>
          <a:prstGeom prst="ellipse">
            <a:avLst/>
          </a:prstGeom>
          <a:gradFill rotWithShape="0">
            <a:gsLst>
              <a:gs pos="0">
                <a:srgbClr val="484848"/>
              </a:gs>
              <a:gs pos="50000">
                <a:srgbClr val="e4e4e4"/>
              </a:gs>
              <a:gs pos="100000">
                <a:srgbClr val="4848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ive accepted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10:52Z</dcterms:created>
  <dc:creator>Ke hoach</dc:creator>
  <dc:description/>
  <dc:language>en-US</dc:language>
  <cp:lastModifiedBy>User</cp:lastModifiedBy>
  <dcterms:modified xsi:type="dcterms:W3CDTF">2009-12-26T09:42:09Z</dcterms:modified>
  <cp:revision>49</cp:revision>
  <dc:subject/>
  <dc:title>UNIT 6 </dc:title>
</cp:coreProperties>
</file>